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4F3-2458-4849-BF98-29EEA1D2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2B0-2FFA-4856-862B-A1B4B764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F48-B11C-4674-B06C-160F2048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CF6-FED6-4229-B160-2EB03491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C9C-ADEC-4519-9D07-85D1DD94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082-6CF8-410D-ACCA-D3777739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9F6-C0EA-49DB-9D43-52069A9E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BD0-42BC-4BDF-BB20-9888E5B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27B-0B91-4A15-88E9-9F96E073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F1D-5B56-48DF-91BE-10DD1556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392-8773-46CF-8D53-79BBE73E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D35-0D6B-4D1C-AE76-D86008F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45C0-0B9B-4C60-9CED-3CD89962E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a mode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Elaboración Información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Hidrología, Calidad de aguas, datos hidrodinám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elaboración de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cluir 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de modelo de simulación basado en Flujo Pist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Histórica” (19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29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atos Aguas Andina: Proyección Plan de Saneamiento (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Uso predictivo: situación histórica (1980), actual (2005) y futura (20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umplimiento de Norma de Calidad Secundaria en parámetros de interés (DBO, C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5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5-08-24T22:39:02Z</dcterms:modified>
  <cp:revision>19</cp:revision>
  <dc:subject/>
  <dc:title>Sin título de diapositiva</dc:title>
</cp:coreProperties>
</file>