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AAF-A9C1-4E10-BD65-4E8923A6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1AE-E6EA-4DF4-8AAE-4D78A1CE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042-CD4D-40A0-AD4A-4C0CEA5B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16A-4377-4A8E-8625-780AC648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FFD-3EB1-4134-9337-D85791F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773-D1E1-45A2-8C35-F8E6B945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6A3-8606-495C-93D2-05BD634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EEF-CC1C-4572-849F-BCB24F5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AF7-C9CC-4986-B709-930D7EEB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42A-BE57-4952-B66B-13955900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DB4-1A83-406B-8AC0-09FB816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8E2-B44C-43FD-B373-D417AA0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B4BD-3B1E-4F5E-A0F1-680E3746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a mode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laboración Información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Hidrología, Calidad de aguas, datos hidrodiná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elaboración d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cluir 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de modelo de simulación basado en Flujo Pist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Histórica” (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royección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predictivo: situación histórica (1980), actual (2005) y futura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umplimiento de Norma de Calidad Secundaria en parámetros de interés (DBO, 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5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5-08-24T22:39:02Z</dcterms:modified>
  <cp:revision>19</cp:revision>
  <dc:subject/>
  <dc:title>Sin título de diapositiva</dc:title>
</cp:coreProperties>
</file>