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3BE2-1325-4D41-BC17-C884E9C0E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7D5C-FAC4-404E-B974-C5701825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463C-B8F2-4C56-8A08-59164D251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749B-DAC3-4750-AD71-BC388A665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763D-7867-4A3C-A9A2-D088DBAE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8443-9F38-4226-B828-F403EAC3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0AD0-8032-4F3C-9212-27CBE1ED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0F25-45B0-4C4B-BD46-13B33F39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628B-97CF-443A-87F3-38D01767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5B28-AEB9-4A8B-9300-467ADDAF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D871-3843-4C8F-ACFD-D5D4C6EB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A940-9F77-4636-97DF-3DF48F69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7ADE-FB4F-4048-B5D5-B88A26437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mpujes laterales en una masa de sue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1640" y="2492280"/>
            <a:ext cx="66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5516640"/>
            <a:ext cx="6769080" cy="504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11280" y="2492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47640" y="2133720"/>
            <a:ext cx="36036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826920" y="2133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40360" y="3860640"/>
            <a:ext cx="64764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27640" y="3357720"/>
            <a:ext cx="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478764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8000" y="172080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fi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95640" y="1052640"/>
            <a:ext cx="45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UJE GEOESTATICO O EN REP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5640" y="1413000"/>
            <a:ext cx="37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 EXISTE DEFORMACIÓN HORIZO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09640" y="2766960"/>
            <a:ext cx="5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94160" y="3860640"/>
            <a:ext cx="5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92640" y="549360"/>
            <a:ext cx="75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la formación del suelo se generan tensiones verticales y horizont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269800" y="1341360"/>
            <a:ext cx="4107240" cy="581400"/>
            <a:chOff x="2269800" y="1341360"/>
            <a:chExt cx="4107240" cy="581400"/>
          </a:xfrm>
        </p:grpSpPr>
        <p:sp>
          <p:nvSpPr>
            <p:cNvPr id="57" name=""/>
            <p:cNvSpPr/>
            <p:nvPr/>
          </p:nvSpPr>
          <p:spPr>
            <a:xfrm>
              <a:off x="2269800" y="1341360"/>
              <a:ext cx="59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98520" y="1341360"/>
              <a:ext cx="57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972520" y="1504800"/>
              <a:ext cx="28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puesta a la acción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203640" y="2421000"/>
                <a:ext cx="186516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t xml:space="preserve">×</m:t>
                        </m:r>
                        <m:r>
                          <m:t xml:space="preserve">z</m:t>
                        </m:r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 flipV="1">
            <a:off x="4211640" y="3428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01040" y="3933720"/>
            <a:ext cx="35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iciente de empuje en rep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75200" y="5805360"/>
            <a:ext cx="423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EXISTE DEFORMACIÓN HORIZON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68360" y="5661000"/>
            <a:ext cx="45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UJE GEOESTATICO O EN REP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340000" y="981000"/>
            <a:ext cx="3744720" cy="4103640"/>
            <a:chOff x="2340000" y="981000"/>
            <a:chExt cx="3744720" cy="4103640"/>
          </a:xfrm>
        </p:grpSpPr>
        <p:sp>
          <p:nvSpPr>
            <p:cNvPr id="66" name=""/>
            <p:cNvSpPr/>
            <p:nvPr/>
          </p:nvSpPr>
          <p:spPr>
            <a:xfrm>
              <a:off x="2340000" y="198900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56000" y="1484280"/>
              <a:ext cx="288360" cy="2881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44720" y="1989000"/>
              <a:ext cx="1439640" cy="21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644720" y="3500280"/>
              <a:ext cx="1439640" cy="216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08000" y="4365720"/>
              <a:ext cx="2376360" cy="215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84720" y="981000"/>
              <a:ext cx="0" cy="4103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844360" y="4365720"/>
              <a:ext cx="1152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97080" y="24922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04720" y="386064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81080" y="2924280"/>
              <a:ext cx="57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92360" y="3357720"/>
              <a:ext cx="79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20600" y="1989000"/>
              <a:ext cx="1535040" cy="2376720"/>
            </a:xfrm>
            <a:custGeom>
              <a:avLst/>
              <a:gdLst/>
              <a:ahLst/>
              <a:rect l="l" t="t" r="r" b="b"/>
              <a:pathLst>
                <a:path w="967" h="1497">
                  <a:moveTo>
                    <a:pt x="967" y="0"/>
                  </a:moveTo>
                  <a:cubicBezTo>
                    <a:pt x="816" y="211"/>
                    <a:pt x="665" y="423"/>
                    <a:pt x="559" y="544"/>
                  </a:cubicBezTo>
                  <a:cubicBezTo>
                    <a:pt x="453" y="665"/>
                    <a:pt x="377" y="643"/>
                    <a:pt x="332" y="726"/>
                  </a:cubicBezTo>
                  <a:cubicBezTo>
                    <a:pt x="287" y="809"/>
                    <a:pt x="325" y="960"/>
                    <a:pt x="287" y="1043"/>
                  </a:cubicBezTo>
                  <a:cubicBezTo>
                    <a:pt x="249" y="1126"/>
                    <a:pt x="151" y="1172"/>
                    <a:pt x="106" y="1225"/>
                  </a:cubicBezTo>
                  <a:cubicBezTo>
                    <a:pt x="61" y="1278"/>
                    <a:pt x="30" y="1316"/>
                    <a:pt x="15" y="1361"/>
                  </a:cubicBezTo>
                  <a:cubicBezTo>
                    <a:pt x="0" y="1406"/>
                    <a:pt x="7" y="1451"/>
                    <a:pt x="15" y="14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340000" y="1989000"/>
            <a:ext cx="2016000" cy="144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050560" y="198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46840" y="6237360"/>
            <a:ext cx="423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EXISTE DEFORMACIÓN HORIZON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781440" y="573408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UJE AC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067280" y="1989000"/>
            <a:ext cx="288720" cy="251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71640" y="4508640"/>
            <a:ext cx="2160720" cy="504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27640" y="4076640"/>
            <a:ext cx="2952720" cy="216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56000" y="407664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175400">
            <a:off x="1042560" y="1484280"/>
            <a:ext cx="3095640" cy="216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611280" y="765000"/>
            <a:ext cx="3456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95640" y="2924280"/>
            <a:ext cx="1511280" cy="649080"/>
          </a:xfrm>
          <a:prstGeom prst="rightArrow">
            <a:avLst>
              <a:gd name="adj1" fmla="val 50000"/>
              <a:gd name="adj2" fmla="val 582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5760" y="6165720"/>
            <a:ext cx="38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ISTE DEFORMACIÓN HORIZON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781440" y="573408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UJE PAS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48680" y="6165720"/>
            <a:ext cx="38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ISTE DEFORMACIÓN HORIZON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84720" y="2060640"/>
            <a:ext cx="216000" cy="266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03280" y="2060640"/>
            <a:ext cx="720720" cy="100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24000" y="2492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258920" y="2637000"/>
            <a:ext cx="57636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0720" y="3789360"/>
            <a:ext cx="14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ERTO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68360" y="2060640"/>
            <a:ext cx="201636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58920" y="2060640"/>
            <a:ext cx="324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4365720"/>
            <a:ext cx="201600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4365720"/>
            <a:ext cx="29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64000" y="328464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68360" y="2565360"/>
            <a:ext cx="576360" cy="358920"/>
          </a:xfrm>
          <a:prstGeom prst="leftArrow">
            <a:avLst>
              <a:gd name="adj1" fmla="val 50000"/>
              <a:gd name="adj2" fmla="val 401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2626920" y="3141720"/>
            <a:ext cx="1081080" cy="273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00720" y="2565360"/>
            <a:ext cx="3166920" cy="154080"/>
          </a:xfrm>
          <a:custGeom>
            <a:avLst/>
            <a:gdLst/>
            <a:ahLst/>
            <a:rect l="l" t="t" r="r" b="b"/>
            <a:pathLst>
              <a:path w="907" h="97">
                <a:moveTo>
                  <a:pt x="0" y="45"/>
                </a:moveTo>
                <a:cubicBezTo>
                  <a:pt x="79" y="67"/>
                  <a:pt x="158" y="90"/>
                  <a:pt x="226" y="90"/>
                </a:cubicBezTo>
                <a:cubicBezTo>
                  <a:pt x="294" y="90"/>
                  <a:pt x="347" y="52"/>
                  <a:pt x="408" y="45"/>
                </a:cubicBezTo>
                <a:cubicBezTo>
                  <a:pt x="469" y="38"/>
                  <a:pt x="521" y="38"/>
                  <a:pt x="589" y="45"/>
                </a:cubicBezTo>
                <a:cubicBezTo>
                  <a:pt x="657" y="52"/>
                  <a:pt x="763" y="97"/>
                  <a:pt x="816" y="90"/>
                </a:cubicBezTo>
                <a:cubicBezTo>
                  <a:pt x="869" y="83"/>
                  <a:pt x="884" y="7"/>
                  <a:pt x="90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991400">
            <a:off x="7019640" y="2421000"/>
            <a:ext cx="288720" cy="287280"/>
          </a:xfrm>
          <a:prstGeom prst="triangle">
            <a:avLst>
              <a:gd name="adj" fmla="val 5494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32360" y="1773360"/>
            <a:ext cx="1655640" cy="1439640"/>
          </a:xfrm>
          <a:custGeom>
            <a:avLst/>
            <a:gdLst>
              <a:gd name="textAreaLeft" fmla="*/ 363960 w 1655640"/>
              <a:gd name="textAreaRight" fmla="*/ 1291680 w 1655640"/>
              <a:gd name="textAreaTop" fmla="*/ 316440 h 1439640"/>
              <a:gd name="textAreaBottom" fmla="*/ 1123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19640" y="1268280"/>
            <a:ext cx="108108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35640" y="981000"/>
            <a:ext cx="73080" cy="287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5289840" y="2125800"/>
            <a:ext cx="941400" cy="143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9" y="9199"/>
                </a:moveTo>
                <a:arcTo wR="10800" hR="10800" stAng="-10288554" swAng="10288554"/>
                <a:lnTo>
                  <a:pt x="10800" y="10800"/>
                </a:lnTo>
                <a:close/>
              </a:path>
              <a:path fill="none" w="21600" h="21600">
                <a:moveTo>
                  <a:pt x="119" y="9199"/>
                </a:moveTo>
                <a:arcTo wR="10800" hR="10800" stAng="-10288554" swAng="10288554"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28603" t="14005" r="26587" b="43989"/>
          <a:stretch/>
        </p:blipFill>
        <p:spPr>
          <a:xfrm>
            <a:off x="2151000" y="0"/>
            <a:ext cx="537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26168" t="58224" r="31621" b="15146"/>
          <a:stretch/>
        </p:blipFill>
        <p:spPr>
          <a:xfrm>
            <a:off x="684360" y="104760"/>
            <a:ext cx="755964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01:50:36Z</dcterms:created>
  <dc:creator>karem</dc:creator>
  <dc:description/>
  <dc:language>en-US</dc:language>
  <cp:lastModifiedBy>karem</cp:lastModifiedBy>
  <dcterms:modified xsi:type="dcterms:W3CDTF">2005-09-20T02:42:40Z</dcterms:modified>
  <cp:revision>2</cp:revision>
  <dc:subject/>
  <dc:title>Diapositiva 1</dc:title>
</cp:coreProperties>
</file>