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598-E1CA-4D01-A156-EFE22AE7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5FD-B50E-47A9-AC3A-073C5B92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787-3D4D-40BB-B756-4A28A5B0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CD2-D94F-4E11-93F4-92BF4DF5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45B-9C48-4A25-92A1-2B5FE0B0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C13-BFB3-4320-9436-AC66584E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1062-8B22-433E-B0D1-B8A30555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ACA-3C6E-4839-B4BA-5FB487E7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EB0-09F2-4664-BD6A-541888DC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BE9-5355-4DDD-9432-03A9E2BE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FFB-925F-423F-86CF-A7A3F451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4FF-E8A4-4AAF-A140-DDDC3AE0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0401-DCA7-4484-9AF4-141D21137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modelo Hiperbó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sayo triaxial 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arena suelta (DR = 3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95280" y="836640"/>
          <a:ext cx="8424720" cy="3591000"/>
        </p:xfrm>
        <a:graphic>
          <a:graphicData uri="http://schemas.openxmlformats.org/drawingml/2006/table">
            <a:tbl>
              <a:tblPr/>
              <a:tblGrid>
                <a:gridCol w="1155600"/>
                <a:gridCol w="1154160"/>
                <a:gridCol w="1251000"/>
                <a:gridCol w="1155600"/>
                <a:gridCol w="1155600"/>
                <a:gridCol w="1390680"/>
                <a:gridCol w="1162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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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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lti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-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kg/cm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kg/cm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kg/cm2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395797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867427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858937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39640" y="765000"/>
          <a:ext cx="8137800" cy="53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765000"/>
                    <a:ext cx="81378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867280" y="1000080"/>
            <a:ext cx="1866960" cy="2076480"/>
            <a:chOff x="5867280" y="1000080"/>
            <a:chExt cx="1866960" cy="2076480"/>
          </a:xfrm>
        </p:grpSpPr>
        <p:sp>
          <p:nvSpPr>
            <p:cNvPr id="80" name=""/>
            <p:cNvSpPr/>
            <p:nvPr/>
          </p:nvSpPr>
          <p:spPr>
            <a:xfrm flipH="1">
              <a:off x="6084360" y="1268280"/>
              <a:ext cx="5749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5867280" y="2133720"/>
              <a:ext cx="93672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14360" y="1000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nsay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06880" y="27082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260280"/>
          <a:ext cx="8893080" cy="58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889308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227280" y="692280"/>
            <a:ext cx="1867320" cy="2076480"/>
            <a:chOff x="6227280" y="692280"/>
            <a:chExt cx="1867320" cy="2076480"/>
          </a:xfrm>
        </p:grpSpPr>
        <p:sp>
          <p:nvSpPr>
            <p:cNvPr id="88" name=""/>
            <p:cNvSpPr/>
            <p:nvPr/>
          </p:nvSpPr>
          <p:spPr>
            <a:xfrm flipH="1">
              <a:off x="6227280" y="960480"/>
              <a:ext cx="7923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6227640" y="1825200"/>
              <a:ext cx="9367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74720" y="6922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nsay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67240" y="2400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0" y="0"/>
          <a:ext cx="9144000" cy="601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87640" y="777960"/>
            <a:ext cx="1868760" cy="2076480"/>
            <a:chOff x="6587640" y="777960"/>
            <a:chExt cx="1868760" cy="2076480"/>
          </a:xfrm>
        </p:grpSpPr>
        <p:sp>
          <p:nvSpPr>
            <p:cNvPr id="96" name=""/>
            <p:cNvSpPr/>
            <p:nvPr/>
          </p:nvSpPr>
          <p:spPr>
            <a:xfrm flipH="1">
              <a:off x="6587640" y="1046160"/>
              <a:ext cx="79380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6589440" y="1910880"/>
              <a:ext cx="93636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6880" y="77796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nsay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29040" y="248616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Mod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763640" y="1052640"/>
          <a:ext cx="2016000" cy="182556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51280" y="549360"/>
          <a:ext cx="4464000" cy="266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549360"/>
                    <a:ext cx="446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50920" y="3357720"/>
          <a:ext cx="4321080" cy="2833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357720"/>
                    <a:ext cx="43210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467240" y="3357720"/>
          <a:ext cx="4352760" cy="2836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7240" y="3357720"/>
                    <a:ext cx="435276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294520" y="155736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1800" y="472428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5440" y="450864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69800" y="1117440"/>
            <a:ext cx="1273320" cy="1737000"/>
            <a:chOff x="469800" y="1117440"/>
            <a:chExt cx="1273320" cy="1737000"/>
          </a:xfrm>
        </p:grpSpPr>
        <p:sp>
          <p:nvSpPr>
            <p:cNvPr id="111" name=""/>
            <p:cNvSpPr/>
            <p:nvPr/>
          </p:nvSpPr>
          <p:spPr>
            <a:xfrm>
              <a:off x="469800" y="1117440"/>
              <a:ext cx="1273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ROBE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4520" y="1766880"/>
              <a:ext cx="627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°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4520" y="2125800"/>
              <a:ext cx="627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°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4520" y="2486160"/>
              <a:ext cx="627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°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32720" y="0"/>
            <a:ext cx="64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LCULO DE PARAMETROS DE MODELO HIPERBO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JUSTADOS A CADA ENS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04640"/>
          <a:ext cx="7777440" cy="566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4640"/>
                    <a:ext cx="77774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569280" y="143208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4520" y="263700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61440" y="443700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549360"/>
          <a:ext cx="813600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13600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950160" y="486900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1800" y="436572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21800" y="3860640"/>
            <a:ext cx="178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1280" y="476280"/>
          <a:ext cx="7920000" cy="57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92000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867280" y="981000"/>
          <a:ext cx="2519280" cy="1007280"/>
        </p:xfrm>
        <a:graphic>
          <a:graphicData uri="http://schemas.openxmlformats.org/drawingml/2006/table">
            <a:tbl>
              <a:tblPr/>
              <a:tblGrid>
                <a:gridCol w="1260000"/>
                <a:gridCol w="1259280"/>
              </a:tblGrid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24000" y="260280"/>
          <a:ext cx="8208720" cy="59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20872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50920" y="260280"/>
          <a:ext cx="8642160" cy="629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6421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24000" y="260280"/>
          <a:ext cx="8532720" cy="62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53272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565800" y="63086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24000" y="549360"/>
          <a:ext cx="8353440" cy="54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49360"/>
                    <a:ext cx="835344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004000" y="170172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BETA N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6000" y="278136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BETA N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4365720"/>
            <a:ext cx="125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BETA N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124000" y="2565360"/>
                <a:ext cx="5400720" cy="22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323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476360" y="5373720"/>
                <a:ext cx="69120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ltim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259640" y="260280"/>
            <a:ext cx="64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LCULO DE PARAMETROS DE MODELO HIPERBO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 PARTIR DE DATOS DE ENS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132000" y="981000"/>
          <a:ext cx="29527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981000"/>
                    <a:ext cx="29527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5:02:48Z</dcterms:created>
  <dc:creator>SOLIDOS-08</dc:creator>
  <dc:description/>
  <dc:language>en-US</dc:language>
  <cp:lastModifiedBy>SOLIDOS-08</cp:lastModifiedBy>
  <dcterms:modified xsi:type="dcterms:W3CDTF">2005-09-23T13:34:44Z</dcterms:modified>
  <cp:revision>3</cp:revision>
  <dc:subject/>
  <dc:title>Ejemplo modelo Hiperbólico</dc:title>
</cp:coreProperties>
</file>