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910-811B-480A-A74E-3BED9F03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346-0D05-40C0-A732-E3D74C57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1DF-1F03-443E-A78F-F0669FD6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E39-CA8B-4314-B32A-A3CB339E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6C8-2814-46D4-BE42-AF5D6394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EDA-1DE8-477A-ABD3-E697CCE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715-5E05-4507-81FC-D5BE36B2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E1F-8072-4F5F-AF1D-28D2365C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9BD-757F-4ABE-8FAB-B1493DC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866-9F19-4DC3-8D35-0D43881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2C3-E366-4653-B9C4-CE126A9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625-7939-4E79-B67C-DC44054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7178-96A3-4220-BD51-3EE5984B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modelo Hiperbó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o triaxial 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rena suelta (DR = 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836640"/>
          <a:ext cx="8424720" cy="359100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251000"/>
                <a:gridCol w="1155600"/>
                <a:gridCol w="1155600"/>
                <a:gridCol w="1390680"/>
                <a:gridCol w="1162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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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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lt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-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395797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6742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58937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9640" y="765000"/>
          <a:ext cx="813780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81378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867280" y="1000080"/>
            <a:ext cx="1866960" cy="2076480"/>
            <a:chOff x="5867280" y="1000080"/>
            <a:chExt cx="1866960" cy="2076480"/>
          </a:xfrm>
        </p:grpSpPr>
        <p:sp>
          <p:nvSpPr>
            <p:cNvPr id="80" name=""/>
            <p:cNvSpPr/>
            <p:nvPr/>
          </p:nvSpPr>
          <p:spPr>
            <a:xfrm flipH="1">
              <a:off x="6084360" y="1268280"/>
              <a:ext cx="5749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867280" y="2133720"/>
              <a:ext cx="93672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14360" y="1000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06880" y="27082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260280"/>
          <a:ext cx="889308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889308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227280" y="692280"/>
            <a:ext cx="1867320" cy="2076480"/>
            <a:chOff x="6227280" y="692280"/>
            <a:chExt cx="1867320" cy="2076480"/>
          </a:xfrm>
        </p:grpSpPr>
        <p:sp>
          <p:nvSpPr>
            <p:cNvPr id="88" name=""/>
            <p:cNvSpPr/>
            <p:nvPr/>
          </p:nvSpPr>
          <p:spPr>
            <a:xfrm flipH="1">
              <a:off x="6227280" y="960480"/>
              <a:ext cx="792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227640" y="1825200"/>
              <a:ext cx="936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74720" y="6922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7240" y="2400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0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87640" y="777960"/>
            <a:ext cx="1868760" cy="2076480"/>
            <a:chOff x="6587640" y="777960"/>
            <a:chExt cx="1868760" cy="2076480"/>
          </a:xfrm>
        </p:grpSpPr>
        <p:sp>
          <p:nvSpPr>
            <p:cNvPr id="96" name=""/>
            <p:cNvSpPr/>
            <p:nvPr/>
          </p:nvSpPr>
          <p:spPr>
            <a:xfrm flipH="1">
              <a:off x="6587640" y="1046160"/>
              <a:ext cx="7938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6589440" y="1910880"/>
              <a:ext cx="93636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6880" y="77796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29040" y="24861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63640" y="1052640"/>
          <a:ext cx="2016000" cy="182556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51280" y="549360"/>
          <a:ext cx="446400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49360"/>
                    <a:ext cx="446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3357720"/>
          <a:ext cx="4321080" cy="283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357720"/>
                    <a:ext cx="43210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467240" y="3357720"/>
          <a:ext cx="4352760" cy="2836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7240" y="3357720"/>
                    <a:ext cx="43527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294520" y="155736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1800" y="472428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5440" y="450864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9800" y="1117440"/>
            <a:ext cx="1273320" cy="1737000"/>
            <a:chOff x="469800" y="1117440"/>
            <a:chExt cx="1273320" cy="1737000"/>
          </a:xfrm>
        </p:grpSpPr>
        <p:sp>
          <p:nvSpPr>
            <p:cNvPr id="111" name=""/>
            <p:cNvSpPr/>
            <p:nvPr/>
          </p:nvSpPr>
          <p:spPr>
            <a:xfrm>
              <a:off x="469800" y="1117440"/>
              <a:ext cx="1273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ROB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4520" y="176688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4520" y="212580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4520" y="248616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720" y="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CULO DE PARAMETROS DE MODELO HIPERB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JUSTADOS A CADA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04640"/>
          <a:ext cx="7777440" cy="566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77774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569280" y="143208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4520" y="2637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1440" y="4437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549360"/>
          <a:ext cx="813600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13600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950160" y="4869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1800" y="436572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1800" y="386064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1280" y="476280"/>
          <a:ext cx="7920000" cy="57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92000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867280" y="981000"/>
          <a:ext cx="2519280" cy="1007280"/>
        </p:xfrm>
        <a:graphic>
          <a:graphicData uri="http://schemas.openxmlformats.org/drawingml/2006/table">
            <a:tbl>
              <a:tblPr/>
              <a:tblGrid>
                <a:gridCol w="1260000"/>
                <a:gridCol w="1259280"/>
              </a:tblGrid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4000" y="260280"/>
          <a:ext cx="8208720" cy="59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20872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50920" y="260280"/>
          <a:ext cx="8642160" cy="629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421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24000" y="260280"/>
          <a:ext cx="8532720" cy="62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5327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24000" y="549360"/>
          <a:ext cx="8353440" cy="54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49360"/>
                    <a:ext cx="835344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004000" y="170172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6000" y="2781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36572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124000" y="2565360"/>
                <a:ext cx="5400720" cy="22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32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76360" y="5373720"/>
                <a:ext cx="69120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59640" y="26028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CULO DE PARAMETROS DE MODELO HIPERB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 PARTIR DE DATOS DE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132000" y="98100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98100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5:02:48Z</dcterms:created>
  <dc:creator>SOLIDOS-08</dc:creator>
  <dc:description/>
  <dc:language>en-US</dc:language>
  <cp:lastModifiedBy>SOLIDOS-08</cp:lastModifiedBy>
  <dcterms:modified xsi:type="dcterms:W3CDTF">2005-09-23T13:34:44Z</dcterms:modified>
  <cp:revision>3</cp:revision>
  <dc:subject/>
  <dc:title>Ejemplo modelo Hiperbólico</dc:title>
</cp:coreProperties>
</file>