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DEB-CB2E-4D3D-A69B-AAE93553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6B4-991B-4028-BEFC-71E4FBE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95D-66FD-44C1-B090-CF09B1C6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CBE-8BB1-428D-B202-6466E4F1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8AD-0555-4400-BC9F-A57B9CB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CDE-022A-40E7-98DC-FCDEDCBB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791-DCF2-4BF2-A895-C10B3DF6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911-9281-49B2-BE82-54EF0FB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B84-881A-405B-B426-B5153436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F3E-93E0-420D-8419-B1B6ED4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F3F-8195-4B95-BEE7-9493698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6A0-A3A2-4939-A074-EAED9FB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431A-8065-4016-BA17-6440EC15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HIPER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modelo muy simple para representar el comportamiento tensión – deformación, para respuesta drenada del suelo (ejem, arena suel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4320" y="537372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sviador de t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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formación ax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335772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69160" y="30780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 el caso de compresión triaxial se puede aplicar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odelo de la siguie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191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9500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2276640"/>
            <a:ext cx="72072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940360" y="2997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019640" y="2924280"/>
            <a:ext cx="865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1428840"/>
            <a:ext cx="122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9200" y="306864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3120" y="335772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6720" y="16034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20160" y="578016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81120"/>
            <a:ext cx="3960720" cy="3468960"/>
          </a:xfrm>
          <a:custGeom>
            <a:avLst/>
            <a:gdLst/>
            <a:ahLst/>
            <a:rect l="l" t="t" r="r" b="b"/>
            <a:pathLst>
              <a:path w="2495" h="2185">
                <a:moveTo>
                  <a:pt x="0" y="2185"/>
                </a:moveTo>
                <a:cubicBezTo>
                  <a:pt x="64" y="1587"/>
                  <a:pt x="128" y="990"/>
                  <a:pt x="272" y="642"/>
                </a:cubicBezTo>
                <a:cubicBezTo>
                  <a:pt x="416" y="294"/>
                  <a:pt x="492" y="196"/>
                  <a:pt x="862" y="98"/>
                </a:cubicBezTo>
                <a:cubicBezTo>
                  <a:pt x="1232" y="0"/>
                  <a:pt x="2314" y="53"/>
                  <a:pt x="2495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6687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13240"/>
            <a:ext cx="3887640" cy="1536840"/>
          </a:xfrm>
          <a:custGeom>
            <a:avLst/>
            <a:gdLst/>
            <a:ahLst/>
            <a:rect l="l" t="t" r="r" b="b"/>
            <a:pathLst>
              <a:path w="2449" h="968">
                <a:moveTo>
                  <a:pt x="0" y="968"/>
                </a:moveTo>
                <a:cubicBezTo>
                  <a:pt x="64" y="748"/>
                  <a:pt x="128" y="529"/>
                  <a:pt x="317" y="378"/>
                </a:cubicBezTo>
                <a:cubicBezTo>
                  <a:pt x="506" y="227"/>
                  <a:pt x="779" y="120"/>
                  <a:pt x="1134" y="60"/>
                </a:cubicBezTo>
                <a:cubicBezTo>
                  <a:pt x="1489" y="0"/>
                  <a:pt x="1969" y="7"/>
                  <a:pt x="2449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4960" y="20606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320" y="37162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450864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165720"/>
            <a:ext cx="194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332000" y="136692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398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20" y="1052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3240" y="5229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31179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360" y="299736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31417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2000" y="2565000"/>
            <a:ext cx="71892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1160" y="148428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692280"/>
                <a:ext cx="626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Δσ</m:t>
                                </m:r>
                              </m:num>
                              <m:den>
                                <m:r>
                                  <m:t xml:space="preserve">dε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r>
                          <m:t xml:space="preserve">−</m:t>
                        </m:r>
                        <m:r>
                          <m:t xml:space="preserve">bε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24360" y="21337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6372360" y="1268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9400" y="3284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ún Jambu, experimentalmente se ha obtenido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393372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21400" y="501336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   : constante numérica que afecta directamente a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   : exponente que determina la variación de Ei ( n = 0.5 usu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 : Presión atmosférica ( 1 kg/c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333360"/>
                <a:ext cx="4175280" cy="34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4437000"/>
                <a:ext cx="194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5520" y="1890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cordando que en la falla según el círculo de Mohr se cu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8000" y="981000"/>
                <a:ext cx="5112000" cy="35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den>
                            </m:f>
                          </m:e>
                        </m:d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4797360"/>
                <a:ext cx="25894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332000" y="8251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8578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112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3240" y="46879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57652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640" y="223992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4559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1480" y="2350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practica se observ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0360" y="2671920"/>
            <a:ext cx="117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all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5084640"/>
                <a:ext cx="381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la</m:t>
                        </m:r>
                      </m:sub>
                    </m:sSub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Δ</m:t>
                          </m:r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411280" y="6021360"/>
            <a:ext cx="411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0.8 – 1    :  Relación a la fall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delo NO – SIRVE en casos no dr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03280" y="692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971640"/>
            <a:ext cx="2664000" cy="1520640"/>
          </a:xfrm>
          <a:custGeom>
            <a:avLst/>
            <a:gdLst/>
            <a:ahLst/>
            <a:rect l="l" t="t" r="r" b="b"/>
            <a:pathLst>
              <a:path w="1678" h="958">
                <a:moveTo>
                  <a:pt x="0" y="958"/>
                </a:moveTo>
                <a:cubicBezTo>
                  <a:pt x="40" y="816"/>
                  <a:pt x="158" y="216"/>
                  <a:pt x="239" y="108"/>
                </a:cubicBezTo>
                <a:cubicBezTo>
                  <a:pt x="320" y="0"/>
                  <a:pt x="400" y="252"/>
                  <a:pt x="489" y="310"/>
                </a:cubicBezTo>
                <a:cubicBezTo>
                  <a:pt x="578" y="368"/>
                  <a:pt x="573" y="419"/>
                  <a:pt x="771" y="459"/>
                </a:cubicBezTo>
                <a:cubicBezTo>
                  <a:pt x="969" y="499"/>
                  <a:pt x="1323" y="534"/>
                  <a:pt x="1678" y="5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000" y="404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2880" y="2276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95360" y="25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440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080" y="2313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4960" y="4184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24280"/>
            <a:ext cx="2664000" cy="1441440"/>
          </a:xfrm>
          <a:custGeom>
            <a:avLst/>
            <a:gdLst/>
            <a:ahLst/>
            <a:rect l="l" t="t" r="r" b="b"/>
            <a:pathLst>
              <a:path w="1678" h="908">
                <a:moveTo>
                  <a:pt x="0" y="908"/>
                </a:moveTo>
                <a:cubicBezTo>
                  <a:pt x="57" y="802"/>
                  <a:pt x="114" y="696"/>
                  <a:pt x="182" y="636"/>
                </a:cubicBezTo>
                <a:cubicBezTo>
                  <a:pt x="250" y="576"/>
                  <a:pt x="310" y="598"/>
                  <a:pt x="408" y="545"/>
                </a:cubicBezTo>
                <a:cubicBezTo>
                  <a:pt x="506" y="492"/>
                  <a:pt x="650" y="394"/>
                  <a:pt x="771" y="318"/>
                </a:cubicBezTo>
                <a:cubicBezTo>
                  <a:pt x="892" y="242"/>
                  <a:pt x="983" y="144"/>
                  <a:pt x="1134" y="91"/>
                </a:cubicBezTo>
                <a:cubicBezTo>
                  <a:pt x="1285" y="38"/>
                  <a:pt x="1580" y="15"/>
                  <a:pt x="16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95360" y="4615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5360" y="641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080" y="4329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4960" y="62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17960"/>
            <a:ext cx="2376720" cy="1463760"/>
          </a:xfrm>
          <a:custGeom>
            <a:avLst/>
            <a:gdLst/>
            <a:ahLst/>
            <a:rect l="l" t="t" r="r" b="b"/>
            <a:pathLst>
              <a:path w="1497" h="922">
                <a:moveTo>
                  <a:pt x="0" y="922"/>
                </a:moveTo>
                <a:cubicBezTo>
                  <a:pt x="143" y="657"/>
                  <a:pt x="287" y="392"/>
                  <a:pt x="408" y="241"/>
                </a:cubicBezTo>
                <a:cubicBezTo>
                  <a:pt x="529" y="90"/>
                  <a:pt x="620" y="30"/>
                  <a:pt x="726" y="15"/>
                </a:cubicBezTo>
                <a:cubicBezTo>
                  <a:pt x="832" y="0"/>
                  <a:pt x="952" y="106"/>
                  <a:pt x="1043" y="151"/>
                </a:cubicBezTo>
                <a:cubicBezTo>
                  <a:pt x="1134" y="196"/>
                  <a:pt x="1194" y="249"/>
                  <a:pt x="1270" y="287"/>
                </a:cubicBezTo>
                <a:cubicBezTo>
                  <a:pt x="1346" y="325"/>
                  <a:pt x="1452" y="362"/>
                  <a:pt x="1497" y="3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360" y="8571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2997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960" y="50846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sirve hasta el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5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07:34Z</dcterms:created>
  <dc:creator>SOLIDOS-08</dc:creator>
  <dc:description/>
  <dc:language>en-US</dc:language>
  <cp:lastModifiedBy>SOLIDOS-08</cp:lastModifiedBy>
  <dcterms:modified xsi:type="dcterms:W3CDTF">2005-09-08T15:03:53Z</dcterms:modified>
  <cp:revision>3</cp:revision>
  <dc:subject/>
  <dc:title>MODELO HIPERBOLICO</dc:title>
</cp:coreProperties>
</file>