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59B1-BF8F-42EC-A7BD-FDB3A1FD5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1366-EE0B-49AC-B019-61FE7364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600C-1F41-4C64-8B46-27C9D57D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ADF2-58A3-432C-A4B1-B1F62861A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1FC4-4A2D-416A-AD93-DC4605A5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8F15-9759-4CFA-B4FA-F16DADF9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8E18-E568-473A-ABFA-083A20F6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1A8B-7D4D-4E93-B3C2-48A0BAB7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F58E-94B0-4F3D-AC38-3D52017A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4E2E-FBB2-47EC-BA4D-2B21D7CD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FEFA-0A90-49FF-B3C5-C6FAA67B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361C-298C-4C72-A6F0-0FA45B8F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6808-7AF7-47FC-A294-AF83301AB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ODELO HIPERBOL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modelo muy simple para representar el comportamiento tensión – deformación, para respuesta drenada del suelo (ejem, arena suelt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04320" y="5373720"/>
            <a:ext cx="303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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Desviador de ten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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Deformación axia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411280" y="3357720"/>
          <a:ext cx="2952720" cy="13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3357720"/>
                    <a:ext cx="295272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469160" y="307800"/>
            <a:ext cx="71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ara el caso de compresión triaxial se puede aplicar es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modelo de la siguiente f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332000" y="191736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32000" y="5950080"/>
            <a:ext cx="66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43640" y="2276640"/>
            <a:ext cx="720720" cy="12967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04000" y="19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5940360" y="2997000"/>
            <a:ext cx="719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7019640" y="2924280"/>
            <a:ext cx="865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54960" y="1428840"/>
            <a:ext cx="122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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09200" y="3068640"/>
            <a:ext cx="80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23120" y="3357720"/>
            <a:ext cx="80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6720" y="1603440"/>
            <a:ext cx="4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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120160" y="5780160"/>
            <a:ext cx="596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ax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81120"/>
            <a:ext cx="3960720" cy="3468960"/>
          </a:xfrm>
          <a:custGeom>
            <a:avLst/>
            <a:gdLst/>
            <a:ahLst/>
            <a:rect l="l" t="t" r="r" b="b"/>
            <a:pathLst>
              <a:path w="2495" h="2185">
                <a:moveTo>
                  <a:pt x="0" y="2185"/>
                </a:moveTo>
                <a:cubicBezTo>
                  <a:pt x="64" y="1587"/>
                  <a:pt x="128" y="990"/>
                  <a:pt x="272" y="642"/>
                </a:cubicBezTo>
                <a:cubicBezTo>
                  <a:pt x="416" y="294"/>
                  <a:pt x="492" y="196"/>
                  <a:pt x="862" y="98"/>
                </a:cubicBezTo>
                <a:cubicBezTo>
                  <a:pt x="1232" y="0"/>
                  <a:pt x="2314" y="53"/>
                  <a:pt x="2495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3668760"/>
            <a:ext cx="3960720" cy="2352600"/>
          </a:xfrm>
          <a:custGeom>
            <a:avLst/>
            <a:gdLst/>
            <a:ahLst/>
            <a:rect l="l" t="t" r="r" b="b"/>
            <a:pathLst>
              <a:path w="2495" h="1482">
                <a:moveTo>
                  <a:pt x="0" y="1482"/>
                </a:moveTo>
                <a:cubicBezTo>
                  <a:pt x="75" y="1100"/>
                  <a:pt x="151" y="718"/>
                  <a:pt x="363" y="484"/>
                </a:cubicBezTo>
                <a:cubicBezTo>
                  <a:pt x="575" y="250"/>
                  <a:pt x="915" y="152"/>
                  <a:pt x="1270" y="76"/>
                </a:cubicBezTo>
                <a:cubicBezTo>
                  <a:pt x="1625" y="0"/>
                  <a:pt x="2060" y="15"/>
                  <a:pt x="2495" y="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4413240"/>
            <a:ext cx="3887640" cy="1536840"/>
          </a:xfrm>
          <a:custGeom>
            <a:avLst/>
            <a:gdLst/>
            <a:ahLst/>
            <a:rect l="l" t="t" r="r" b="b"/>
            <a:pathLst>
              <a:path w="2449" h="968">
                <a:moveTo>
                  <a:pt x="0" y="968"/>
                </a:moveTo>
                <a:cubicBezTo>
                  <a:pt x="64" y="748"/>
                  <a:pt x="128" y="529"/>
                  <a:pt x="317" y="378"/>
                </a:cubicBezTo>
                <a:cubicBezTo>
                  <a:pt x="506" y="227"/>
                  <a:pt x="779" y="120"/>
                  <a:pt x="1134" y="60"/>
                </a:cubicBezTo>
                <a:cubicBezTo>
                  <a:pt x="1489" y="0"/>
                  <a:pt x="1969" y="7"/>
                  <a:pt x="2449" y="1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44960" y="2060640"/>
            <a:ext cx="50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89320" y="3716280"/>
            <a:ext cx="50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15160" y="4508640"/>
            <a:ext cx="502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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6165720"/>
            <a:ext cx="1944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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2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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 flipV="1">
            <a:off x="1332000" y="1366920"/>
            <a:ext cx="0" cy="40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32000" y="5398920"/>
            <a:ext cx="66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6720" y="1052640"/>
            <a:ext cx="4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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103240" y="522936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32000" y="3117960"/>
            <a:ext cx="3960720" cy="2352600"/>
          </a:xfrm>
          <a:custGeom>
            <a:avLst/>
            <a:gdLst/>
            <a:ahLst/>
            <a:rect l="l" t="t" r="r" b="b"/>
            <a:pathLst>
              <a:path w="2495" h="1482">
                <a:moveTo>
                  <a:pt x="0" y="1482"/>
                </a:moveTo>
                <a:cubicBezTo>
                  <a:pt x="75" y="1100"/>
                  <a:pt x="151" y="718"/>
                  <a:pt x="363" y="484"/>
                </a:cubicBezTo>
                <a:cubicBezTo>
                  <a:pt x="575" y="250"/>
                  <a:pt x="915" y="152"/>
                  <a:pt x="1270" y="76"/>
                </a:cubicBezTo>
                <a:cubicBezTo>
                  <a:pt x="1625" y="0"/>
                  <a:pt x="2060" y="15"/>
                  <a:pt x="2495" y="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360" y="2997360"/>
            <a:ext cx="923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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ult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258560" y="3141720"/>
            <a:ext cx="4033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332000" y="2565000"/>
            <a:ext cx="718920" cy="287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9800" y="3213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41160" y="1484280"/>
            <a:ext cx="178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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ultim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= f (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476360" y="692280"/>
                <a:ext cx="626436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i</m:t>
                    </m:r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dΔσ</m:t>
                                </m:r>
                              </m:num>
                              <m:den>
                                <m:r>
                                  <m:t xml:space="preserve">dε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ε</m:t>
                        </m:r>
                        <m:r>
                          <m:t xml:space="preserve">−</m:t>
                        </m:r>
                        <m:r>
                          <m:t xml:space="preserve">bε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ε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ε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924360" y="2133720"/>
                <a:ext cx="11523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 flipH="1">
            <a:off x="6372360" y="1268280"/>
            <a:ext cx="57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58160" y="162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49400" y="3284640"/>
            <a:ext cx="57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gún Jambu, experimentalmente se ha obtenido qu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916360" y="3933720"/>
                <a:ext cx="259236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i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a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σ</m:t>
                                </m:r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P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121400" y="5013360"/>
            <a:ext cx="730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K   : constante numérica que afecta directamente a 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    : exponente que determina la variación de Ei ( n = 0.5 usualme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 : Presión atmosférica ( 1 kg/cm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484360" y="333360"/>
                <a:ext cx="4175280" cy="34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σ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ε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r>
                              <m:t xml:space="preserve">ε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ε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den>
                        </m:f>
                      </m:e>
                      <m:e>
                        <m:r>
                          <m:t xml:space="preserve">ε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σ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Δ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timo</m:t>
                            </m:r>
                          </m:sub>
                        </m:sSub>
                        <m:m>
                          <m:mr>
                            <m:e/>
                            <m:e>
                              <m:r>
                                <m:t xml:space="preserve">y</m:t>
                              </m:r>
                              <m:m>
                                <m:mr>
                                  <m:e/>
                                  <m:e>
                                    <m:f>
                                      <m:num>
                                        <m:r>
                                          <m:t xml:space="preserve">a</m:t>
                                        </m:r>
                                      </m:num>
                                      <m:den>
                                        <m:r>
                                          <m:t xml:space="preserve">ε</m:t>
                                        </m:r>
                                      </m:den>
                                    </m:f>
                                  </m:e>
                                </m:mr>
                              </m:m>
                            </m:e>
                          </m:mr>
                        </m:m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Δ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tim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059280" y="4437000"/>
                <a:ext cx="194436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Δ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tim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5520" y="189000"/>
            <a:ext cx="786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cordando que en la falla según el círculo de Mohr se cum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la siguiente rel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908000" y="981000"/>
                <a:ext cx="5112000" cy="352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φ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Δ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tim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t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Δ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timo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φ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Δ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timo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en</m:t>
                                </m:r>
                                <m:r>
                                  <m:t xml:space="preserve">φ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en</m:t>
                                </m:r>
                                <m:r>
                                  <m:t xml:space="preserve">φ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en</m:t>
                                </m:r>
                                <m:r>
                                  <m:t xml:space="preserve">φ</m:t>
                                </m:r>
                              </m:den>
                            </m:f>
                          </m:e>
                        </m:d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φ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Δ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tim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φ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132000" y="4797360"/>
                <a:ext cx="2589480" cy="18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φ</m:t>
                            </m:r>
                          </m:den>
                        </m:f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a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1332000" y="82512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2000" y="4857840"/>
            <a:ext cx="66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6720" y="511200"/>
            <a:ext cx="4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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103240" y="468792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2576520"/>
            <a:ext cx="3960720" cy="2352600"/>
          </a:xfrm>
          <a:custGeom>
            <a:avLst/>
            <a:gdLst/>
            <a:ahLst/>
            <a:rect l="l" t="t" r="r" b="b"/>
            <a:pathLst>
              <a:path w="2495" h="1482">
                <a:moveTo>
                  <a:pt x="0" y="1482"/>
                </a:moveTo>
                <a:cubicBezTo>
                  <a:pt x="75" y="1100"/>
                  <a:pt x="151" y="718"/>
                  <a:pt x="363" y="484"/>
                </a:cubicBezTo>
                <a:cubicBezTo>
                  <a:pt x="575" y="250"/>
                  <a:pt x="915" y="152"/>
                  <a:pt x="1270" y="76"/>
                </a:cubicBezTo>
                <a:cubicBezTo>
                  <a:pt x="1625" y="0"/>
                  <a:pt x="2060" y="15"/>
                  <a:pt x="2495" y="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640" y="2239920"/>
            <a:ext cx="923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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ult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258560" y="2455920"/>
            <a:ext cx="4033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81480" y="235080"/>
            <a:ext cx="38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n la practica se observa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60360" y="2671920"/>
            <a:ext cx="117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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falla 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556000" y="5084640"/>
                <a:ext cx="38163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alla</m:t>
                        </m:r>
                      </m:sub>
                    </m:sSub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real</m:t>
                          </m:r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r>
                            <m:t xml:space="preserve">⋅</m:t>
                          </m:r>
                          <m:r>
                            <m:t xml:space="preserve">Δ</m:t>
                          </m:r>
                        </m:e>
                      </m:mr>
                    </m:m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ltim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2411280" y="6021360"/>
            <a:ext cx="4112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0.8 – 1    :  Relación a la fall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360" y="-27360"/>
            <a:ext cx="91440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modelo NO – SIRVE en casos no dre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403280" y="69228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03280" y="249228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3280" y="971640"/>
            <a:ext cx="2664000" cy="1520640"/>
          </a:xfrm>
          <a:custGeom>
            <a:avLst/>
            <a:gdLst/>
            <a:ahLst/>
            <a:rect l="l" t="t" r="r" b="b"/>
            <a:pathLst>
              <a:path w="1678" h="958">
                <a:moveTo>
                  <a:pt x="0" y="958"/>
                </a:moveTo>
                <a:cubicBezTo>
                  <a:pt x="40" y="816"/>
                  <a:pt x="158" y="216"/>
                  <a:pt x="239" y="108"/>
                </a:cubicBezTo>
                <a:cubicBezTo>
                  <a:pt x="320" y="0"/>
                  <a:pt x="400" y="252"/>
                  <a:pt x="489" y="310"/>
                </a:cubicBezTo>
                <a:cubicBezTo>
                  <a:pt x="578" y="368"/>
                  <a:pt x="573" y="419"/>
                  <a:pt x="771" y="459"/>
                </a:cubicBezTo>
                <a:cubicBezTo>
                  <a:pt x="969" y="499"/>
                  <a:pt x="1323" y="534"/>
                  <a:pt x="1678" y="5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8000" y="404640"/>
            <a:ext cx="4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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02880" y="227664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395360" y="259992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95360" y="440064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0080" y="2313000"/>
            <a:ext cx="4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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94960" y="418464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2924280"/>
            <a:ext cx="2664000" cy="1441440"/>
          </a:xfrm>
          <a:custGeom>
            <a:avLst/>
            <a:gdLst/>
            <a:ahLst/>
            <a:rect l="l" t="t" r="r" b="b"/>
            <a:pathLst>
              <a:path w="1678" h="908">
                <a:moveTo>
                  <a:pt x="0" y="908"/>
                </a:moveTo>
                <a:cubicBezTo>
                  <a:pt x="57" y="802"/>
                  <a:pt x="114" y="696"/>
                  <a:pt x="182" y="636"/>
                </a:cubicBezTo>
                <a:cubicBezTo>
                  <a:pt x="250" y="576"/>
                  <a:pt x="310" y="598"/>
                  <a:pt x="408" y="545"/>
                </a:cubicBezTo>
                <a:cubicBezTo>
                  <a:pt x="506" y="492"/>
                  <a:pt x="650" y="394"/>
                  <a:pt x="771" y="318"/>
                </a:cubicBezTo>
                <a:cubicBezTo>
                  <a:pt x="892" y="242"/>
                  <a:pt x="983" y="144"/>
                  <a:pt x="1134" y="91"/>
                </a:cubicBezTo>
                <a:cubicBezTo>
                  <a:pt x="1285" y="38"/>
                  <a:pt x="1580" y="15"/>
                  <a:pt x="167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395360" y="461592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95360" y="641664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0080" y="4329000"/>
            <a:ext cx="4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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4960" y="620064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03280" y="4917960"/>
            <a:ext cx="2376720" cy="1463760"/>
          </a:xfrm>
          <a:custGeom>
            <a:avLst/>
            <a:gdLst/>
            <a:ahLst/>
            <a:rect l="l" t="t" r="r" b="b"/>
            <a:pathLst>
              <a:path w="1497" h="922">
                <a:moveTo>
                  <a:pt x="0" y="922"/>
                </a:moveTo>
                <a:cubicBezTo>
                  <a:pt x="143" y="657"/>
                  <a:pt x="287" y="392"/>
                  <a:pt x="408" y="241"/>
                </a:cubicBezTo>
                <a:cubicBezTo>
                  <a:pt x="529" y="90"/>
                  <a:pt x="620" y="30"/>
                  <a:pt x="726" y="15"/>
                </a:cubicBezTo>
                <a:cubicBezTo>
                  <a:pt x="832" y="0"/>
                  <a:pt x="952" y="106"/>
                  <a:pt x="1043" y="151"/>
                </a:cubicBezTo>
                <a:cubicBezTo>
                  <a:pt x="1134" y="196"/>
                  <a:pt x="1194" y="249"/>
                  <a:pt x="1270" y="287"/>
                </a:cubicBezTo>
                <a:cubicBezTo>
                  <a:pt x="1346" y="325"/>
                  <a:pt x="1452" y="362"/>
                  <a:pt x="1497" y="37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62360" y="85716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ena su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dre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11960" y="299736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ena den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dre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27960" y="5084640"/>
            <a:ext cx="260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ena den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re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lo sirve hasta el 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27280" y="4653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56000" y="494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266560" y="522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4:07:34Z</dcterms:created>
  <dc:creator>SOLIDOS-08</dc:creator>
  <dc:description/>
  <dc:language>en-US</dc:language>
  <cp:lastModifiedBy>SOLIDOS-08</cp:lastModifiedBy>
  <dcterms:modified xsi:type="dcterms:W3CDTF">2005-09-08T15:03:53Z</dcterms:modified>
  <cp:revision>3</cp:revision>
  <dc:subject/>
  <dc:title>MODELO HIPERBOLICO</dc:title>
</cp:coreProperties>
</file>