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607-170A-488E-9720-4E676C8F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CD1-509B-404F-B274-3ADAFE69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A70-B281-40AE-8F3D-9CDE7C0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8AE-4F17-4B90-B716-937943D5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FCE-E9CF-48B3-A1F8-64482B5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A56-E9B9-468E-A39F-345CA050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224-62FB-4329-AE2B-B5DF498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F6A-B632-42FA-989B-74B0CCE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341-7E6B-4A14-BD98-4F7BB2E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093-339D-4730-9BE8-0823A87E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BC0-18C9-4636-8566-55449FE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5CA-128C-4E6E-B437-516DF7D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68A-DA8F-4253-AFAA-B888081B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6840" y="1341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403280" y="83628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2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32000" y="371808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805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6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1872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3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7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8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005360"/>
            <a:ext cx="3097440" cy="1368360"/>
          </a:xfrm>
          <a:custGeom>
            <a:avLst/>
            <a:gdLst/>
            <a:ahLst/>
            <a:rect l="l" t="t" r="r" b="b"/>
            <a:pathLst>
              <a:path w="1951" h="862">
                <a:moveTo>
                  <a:pt x="0" y="0"/>
                </a:moveTo>
                <a:cubicBezTo>
                  <a:pt x="110" y="223"/>
                  <a:pt x="220" y="446"/>
                  <a:pt x="545" y="590"/>
                </a:cubicBezTo>
                <a:cubicBezTo>
                  <a:pt x="870" y="734"/>
                  <a:pt x="1410" y="798"/>
                  <a:pt x="1951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86900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5157720"/>
            <a:ext cx="36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5892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2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56000" y="4437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8480" y="4005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4000" y="1628640"/>
            <a:ext cx="50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520" y="1364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4762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708280"/>
            <a:ext cx="86364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2131920"/>
            <a:ext cx="5113440" cy="3168720"/>
          </a:xfrm>
          <a:custGeom>
            <a:avLst/>
            <a:gdLst/>
            <a:ahLst/>
            <a:rect l="l" t="t" r="r" b="b"/>
            <a:pathLst>
              <a:path w="3221" h="1996">
                <a:moveTo>
                  <a:pt x="0" y="1996"/>
                </a:moveTo>
                <a:cubicBezTo>
                  <a:pt x="95" y="1225"/>
                  <a:pt x="190" y="454"/>
                  <a:pt x="409" y="227"/>
                </a:cubicBezTo>
                <a:cubicBezTo>
                  <a:pt x="628" y="0"/>
                  <a:pt x="847" y="560"/>
                  <a:pt x="1316" y="636"/>
                </a:cubicBezTo>
                <a:cubicBezTo>
                  <a:pt x="1785" y="712"/>
                  <a:pt x="2888" y="681"/>
                  <a:pt x="3221" y="6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8120" y="83664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  (p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1280" y="1936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9600" y="285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080" y="23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8000" y="3881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27280" y="3933360"/>
            <a:ext cx="936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27280" y="3573360"/>
            <a:ext cx="1081080" cy="2448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3640" y="3573360"/>
            <a:ext cx="14436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324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260880"/>
            <a:ext cx="5400720" cy="96012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989000"/>
            <a:ext cx="5472000" cy="131940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800" y="17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357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0360" y="30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03840" y="2655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las deformaciones volumétricas no sufren var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4564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19640" y="263700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580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0160" y="213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8520" y="422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2637000"/>
            <a:ext cx="647640" cy="1008000"/>
          </a:xfrm>
          <a:custGeom>
            <a:avLst/>
            <a:gdLst/>
            <a:ahLst/>
            <a:rect l="l" t="t" r="r" b="b"/>
            <a:pathLst>
              <a:path w="408" h="680">
                <a:moveTo>
                  <a:pt x="0" y="0"/>
                </a:moveTo>
                <a:cubicBezTo>
                  <a:pt x="102" y="11"/>
                  <a:pt x="204" y="23"/>
                  <a:pt x="272" y="136"/>
                </a:cubicBezTo>
                <a:cubicBezTo>
                  <a:pt x="340" y="249"/>
                  <a:pt x="378" y="574"/>
                  <a:pt x="408" y="6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789360"/>
            <a:ext cx="792000" cy="719280"/>
          </a:xfrm>
          <a:custGeom>
            <a:avLst/>
            <a:gdLst/>
            <a:ahLst/>
            <a:rect l="l" t="t" r="r" b="b"/>
            <a:pathLst>
              <a:path w="507" h="506">
                <a:moveTo>
                  <a:pt x="0" y="370"/>
                </a:moveTo>
                <a:cubicBezTo>
                  <a:pt x="75" y="438"/>
                  <a:pt x="151" y="506"/>
                  <a:pt x="227" y="506"/>
                </a:cubicBezTo>
                <a:cubicBezTo>
                  <a:pt x="303" y="506"/>
                  <a:pt x="409" y="423"/>
                  <a:pt x="454" y="370"/>
                </a:cubicBezTo>
                <a:cubicBezTo>
                  <a:pt x="499" y="317"/>
                  <a:pt x="507" y="249"/>
                  <a:pt x="499" y="189"/>
                </a:cubicBezTo>
                <a:cubicBezTo>
                  <a:pt x="491" y="129"/>
                  <a:pt x="423" y="0"/>
                  <a:pt x="408" y="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6720" y="4046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270828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932000" y="242100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19640" y="2205000"/>
            <a:ext cx="1728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00920" y="1936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16360" y="3716280"/>
            <a:ext cx="23032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50520" y="36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2781360"/>
            <a:ext cx="1224000" cy="1800000"/>
          </a:xfrm>
          <a:custGeom>
            <a:avLst/>
            <a:gdLst/>
            <a:ahLst/>
            <a:rect l="l" t="t" r="r" b="b"/>
            <a:pathLst>
              <a:path w="771" h="1134">
                <a:moveTo>
                  <a:pt x="0" y="1134"/>
                </a:moveTo>
                <a:cubicBezTo>
                  <a:pt x="18" y="990"/>
                  <a:pt x="37" y="847"/>
                  <a:pt x="90" y="726"/>
                </a:cubicBezTo>
                <a:cubicBezTo>
                  <a:pt x="143" y="605"/>
                  <a:pt x="203" y="529"/>
                  <a:pt x="317" y="408"/>
                </a:cubicBezTo>
                <a:cubicBezTo>
                  <a:pt x="431" y="287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66920" y="242100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3789360"/>
            <a:ext cx="43164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544"/>
                </a:moveTo>
                <a:cubicBezTo>
                  <a:pt x="22" y="431"/>
                  <a:pt x="45" y="318"/>
                  <a:pt x="90" y="227"/>
                </a:cubicBezTo>
                <a:cubicBezTo>
                  <a:pt x="135" y="136"/>
                  <a:pt x="212" y="30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5640" y="2365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6560" y="3878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094200"/>
            <a:ext cx="5041800" cy="22064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0" y="1390"/>
                </a:moveTo>
                <a:cubicBezTo>
                  <a:pt x="56" y="936"/>
                  <a:pt x="113" y="483"/>
                  <a:pt x="363" y="256"/>
                </a:cubicBezTo>
                <a:cubicBezTo>
                  <a:pt x="613" y="29"/>
                  <a:pt x="1028" y="60"/>
                  <a:pt x="1497" y="30"/>
                </a:cubicBezTo>
                <a:cubicBezTo>
                  <a:pt x="1966" y="0"/>
                  <a:pt x="2889" y="45"/>
                  <a:pt x="3176" y="75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58920" y="32130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98360" y="6113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860640"/>
            <a:ext cx="1631880" cy="2160720"/>
          </a:xfrm>
          <a:custGeom>
            <a:avLst/>
            <a:gdLst/>
            <a:ahLst/>
            <a:rect l="l" t="t" r="r" b="b"/>
            <a:pathLst>
              <a:path w="1028" h="1361">
                <a:moveTo>
                  <a:pt x="302" y="1361"/>
                </a:moveTo>
                <a:cubicBezTo>
                  <a:pt x="151" y="1043"/>
                  <a:pt x="0" y="726"/>
                  <a:pt x="121" y="499"/>
                </a:cubicBezTo>
                <a:cubicBezTo>
                  <a:pt x="242" y="272"/>
                  <a:pt x="816" y="83"/>
                  <a:pt x="1028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652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3765600"/>
            <a:ext cx="2473560" cy="2255760"/>
          </a:xfrm>
          <a:custGeom>
            <a:avLst/>
            <a:gdLst/>
            <a:ahLst/>
            <a:rect l="l" t="t" r="r" b="b"/>
            <a:pathLst>
              <a:path w="1558" h="1421">
                <a:moveTo>
                  <a:pt x="1452" y="1421"/>
                </a:moveTo>
                <a:cubicBezTo>
                  <a:pt x="1505" y="1035"/>
                  <a:pt x="1558" y="650"/>
                  <a:pt x="1497" y="423"/>
                </a:cubicBezTo>
                <a:cubicBezTo>
                  <a:pt x="1436" y="196"/>
                  <a:pt x="1338" y="120"/>
                  <a:pt x="1089" y="60"/>
                </a:cubicBezTo>
                <a:cubicBezTo>
                  <a:pt x="840" y="0"/>
                  <a:pt x="181" y="60"/>
                  <a:pt x="0" y="6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0720" y="4005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108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18728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3645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3052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inicial = 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2655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284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8000" y="508464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80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781360"/>
            <a:ext cx="5400720" cy="96048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284640"/>
            <a:ext cx="5472000" cy="131904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29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8360" y="981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3816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64320" y="26028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805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0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1988640"/>
            <a:ext cx="5545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40000" y="4292640"/>
            <a:ext cx="93672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48000" y="3141360"/>
            <a:ext cx="1511280" cy="2663640"/>
          </a:xfrm>
          <a:prstGeom prst="line">
            <a:avLst/>
          </a:prstGeom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84720" y="2060640"/>
            <a:ext cx="2158920" cy="3744720"/>
          </a:xfrm>
          <a:prstGeom prst="line">
            <a:avLst/>
          </a:prstGeom>
          <a:ln w="381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1800" y="3571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210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366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4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944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9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7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6360" y="37116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520" y="27813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8160" y="1700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46000" y="5608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8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5240" y="2924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8160" y="422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7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8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760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888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488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0872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380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800" y="33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3716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17800" y="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76160" y="4503600"/>
            <a:ext cx="5040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616880" y="6868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720880" y="255888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572000" y="1052640"/>
            <a:ext cx="3044880" cy="34509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9800" y="83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99600" y="5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70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452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306216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3960" y="55119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43640" y="1557360"/>
            <a:ext cx="36360" cy="374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63280" y="189000"/>
            <a:ext cx="71640" cy="36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763280" y="3860640"/>
            <a:ext cx="370836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5280" y="188640"/>
            <a:ext cx="3744720" cy="143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04920" y="53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88000" y="4220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19640" y="371592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06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380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40360" y="4797360"/>
            <a:ext cx="576000" cy="21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4508640"/>
            <a:ext cx="720720" cy="288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89360"/>
            <a:ext cx="900000" cy="122400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57336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240" y="350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2997360"/>
            <a:ext cx="900360" cy="122364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0000" y="285264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88000" y="1413000"/>
            <a:ext cx="11527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98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no -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4320" y="18900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0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781360"/>
            <a:ext cx="4968720" cy="259236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7080" y="524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924280"/>
            <a:ext cx="5113440" cy="949320"/>
          </a:xfrm>
          <a:custGeom>
            <a:avLst/>
            <a:gdLst/>
            <a:ahLst/>
            <a:rect l="l" t="t" r="r" b="b"/>
            <a:pathLst>
              <a:path w="3221" h="598">
                <a:moveTo>
                  <a:pt x="0" y="0"/>
                </a:moveTo>
                <a:cubicBezTo>
                  <a:pt x="227" y="91"/>
                  <a:pt x="454" y="182"/>
                  <a:pt x="862" y="273"/>
                </a:cubicBezTo>
                <a:cubicBezTo>
                  <a:pt x="1270" y="364"/>
                  <a:pt x="2056" y="492"/>
                  <a:pt x="2449" y="545"/>
                </a:cubicBezTo>
                <a:cubicBezTo>
                  <a:pt x="2842" y="598"/>
                  <a:pt x="3031" y="594"/>
                  <a:pt x="3221" y="590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9280" y="2852640"/>
            <a:ext cx="920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4280" y="2421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21300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3500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716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573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789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1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530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229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65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580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5440" y="58770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1187280" y="140652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879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422520"/>
            <a:ext cx="381636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13000"/>
            <a:ext cx="3743640" cy="115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7440" y="119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6520" y="6375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( 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9440" y="5511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07664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3567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67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6000" y="33735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2160" y="4292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11640" y="4292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15640" y="3357720"/>
            <a:ext cx="165564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357720"/>
            <a:ext cx="0" cy="273528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1497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299736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378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3080" y="609300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6093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88920" y="651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Y CURVA ISOTROPA EN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1916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112536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520" y="1844640"/>
            <a:ext cx="25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g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1403280" y="4568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2735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03280" y="817560"/>
            <a:ext cx="5040360" cy="295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7608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84720" y="21128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72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8520" y="2602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EN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728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2160" y="384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8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7800" y="1989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 = M*p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5229360"/>
                <a:ext cx="2232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229360"/>
                <a:ext cx="2179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7164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950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71640" y="2349360"/>
            <a:ext cx="568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03080" y="2152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1080" y="5969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421000"/>
            <a:ext cx="2519280" cy="3529080"/>
          </a:xfrm>
          <a:custGeom>
            <a:avLst/>
            <a:gdLst/>
            <a:ahLst/>
            <a:rect l="l" t="t" r="r" b="b"/>
            <a:pathLst>
              <a:path w="1587" h="2223">
                <a:moveTo>
                  <a:pt x="0" y="2223"/>
                </a:moveTo>
                <a:cubicBezTo>
                  <a:pt x="113" y="1792"/>
                  <a:pt x="227" y="1361"/>
                  <a:pt x="363" y="1043"/>
                </a:cubicBezTo>
                <a:cubicBezTo>
                  <a:pt x="499" y="725"/>
                  <a:pt x="612" y="491"/>
                  <a:pt x="816" y="317"/>
                </a:cubicBezTo>
                <a:cubicBezTo>
                  <a:pt x="1020" y="143"/>
                  <a:pt x="1303" y="71"/>
                  <a:pt x="1587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3284640"/>
            <a:ext cx="1908360" cy="2665440"/>
          </a:xfrm>
          <a:custGeom>
            <a:avLst/>
            <a:gdLst/>
            <a:ahLst/>
            <a:rect l="l" t="t" r="r" b="b"/>
            <a:pathLst>
              <a:path w="1202" h="1679">
                <a:moveTo>
                  <a:pt x="431" y="1679"/>
                </a:moveTo>
                <a:cubicBezTo>
                  <a:pt x="393" y="1414"/>
                  <a:pt x="355" y="1149"/>
                  <a:pt x="295" y="998"/>
                </a:cubicBezTo>
                <a:cubicBezTo>
                  <a:pt x="235" y="847"/>
                  <a:pt x="98" y="847"/>
                  <a:pt x="68" y="771"/>
                </a:cubicBezTo>
                <a:cubicBezTo>
                  <a:pt x="38" y="695"/>
                  <a:pt x="0" y="643"/>
                  <a:pt x="113" y="545"/>
                </a:cubicBezTo>
                <a:cubicBezTo>
                  <a:pt x="226" y="447"/>
                  <a:pt x="567" y="273"/>
                  <a:pt x="748" y="182"/>
                </a:cubicBezTo>
                <a:cubicBezTo>
                  <a:pt x="929" y="91"/>
                  <a:pt x="1111" y="23"/>
                  <a:pt x="12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894200"/>
            <a:ext cx="2089080" cy="1055880"/>
          </a:xfrm>
          <a:custGeom>
            <a:avLst/>
            <a:gdLst/>
            <a:ahLst/>
            <a:rect l="l" t="t" r="r" b="b"/>
            <a:pathLst>
              <a:path w="1316" h="665">
                <a:moveTo>
                  <a:pt x="1316" y="665"/>
                </a:moveTo>
                <a:cubicBezTo>
                  <a:pt x="1304" y="445"/>
                  <a:pt x="1293" y="226"/>
                  <a:pt x="1180" y="120"/>
                </a:cubicBezTo>
                <a:cubicBezTo>
                  <a:pt x="1067" y="14"/>
                  <a:pt x="832" y="0"/>
                  <a:pt x="635" y="30"/>
                </a:cubicBezTo>
                <a:cubicBezTo>
                  <a:pt x="438" y="60"/>
                  <a:pt x="219" y="181"/>
                  <a:pt x="0" y="30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000" y="2152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2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360" y="5176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6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7640" y="270828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960" y="4437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852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58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300640"/>
            <a:ext cx="360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V="1">
            <a:off x="1187280" y="836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5805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187280" y="1483920"/>
            <a:ext cx="763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116000" y="4581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950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680" y="6021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9960" y="602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352760"/>
            <a:ext cx="1800000" cy="1452600"/>
          </a:xfrm>
          <a:custGeom>
            <a:avLst/>
            <a:gdLst/>
            <a:ahLst/>
            <a:rect l="l" t="t" r="r" b="b"/>
            <a:pathLst>
              <a:path w="1134" h="915">
                <a:moveTo>
                  <a:pt x="0" y="8"/>
                </a:moveTo>
                <a:cubicBezTo>
                  <a:pt x="238" y="4"/>
                  <a:pt x="476" y="0"/>
                  <a:pt x="635" y="53"/>
                </a:cubicBezTo>
                <a:cubicBezTo>
                  <a:pt x="794" y="106"/>
                  <a:pt x="870" y="181"/>
                  <a:pt x="953" y="325"/>
                </a:cubicBezTo>
                <a:cubicBezTo>
                  <a:pt x="1036" y="469"/>
                  <a:pt x="1074" y="824"/>
                  <a:pt x="1134" y="91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705120"/>
            <a:ext cx="1728720" cy="2100240"/>
          </a:xfrm>
          <a:custGeom>
            <a:avLst/>
            <a:gdLst/>
            <a:ahLst/>
            <a:rect l="l" t="t" r="r" b="b"/>
            <a:pathLst>
              <a:path w="1089" h="1323">
                <a:moveTo>
                  <a:pt x="0" y="7"/>
                </a:moveTo>
                <a:cubicBezTo>
                  <a:pt x="215" y="3"/>
                  <a:pt x="431" y="0"/>
                  <a:pt x="590" y="98"/>
                </a:cubicBezTo>
                <a:cubicBezTo>
                  <a:pt x="749" y="196"/>
                  <a:pt x="870" y="393"/>
                  <a:pt x="953" y="597"/>
                </a:cubicBezTo>
                <a:cubicBezTo>
                  <a:pt x="1036" y="801"/>
                  <a:pt x="1089" y="1202"/>
                  <a:pt x="1089" y="132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88000" y="1915920"/>
            <a:ext cx="1513080" cy="381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4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600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780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66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653000"/>
            <a:ext cx="863640" cy="1152360"/>
          </a:xfrm>
          <a:custGeom>
            <a:avLst/>
            <a:gdLst/>
            <a:ahLst/>
            <a:rect l="l" t="t" r="r" b="b"/>
            <a:pathLst>
              <a:path w="453" h="726">
                <a:moveTo>
                  <a:pt x="0" y="726"/>
                </a:moveTo>
                <a:cubicBezTo>
                  <a:pt x="30" y="605"/>
                  <a:pt x="61" y="484"/>
                  <a:pt x="136" y="363"/>
                </a:cubicBezTo>
                <a:cubicBezTo>
                  <a:pt x="211" y="242"/>
                  <a:pt x="370" y="23"/>
                  <a:pt x="45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869000"/>
            <a:ext cx="576360" cy="93636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590"/>
                </a:moveTo>
                <a:cubicBezTo>
                  <a:pt x="15" y="480"/>
                  <a:pt x="31" y="370"/>
                  <a:pt x="91" y="272"/>
                </a:cubicBezTo>
                <a:cubicBezTo>
                  <a:pt x="151" y="174"/>
                  <a:pt x="257" y="87"/>
                  <a:pt x="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03280" y="4941360"/>
            <a:ext cx="432000" cy="863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22000" y="5824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suelo fino (limo – ar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121608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. Consolidado : se diseña con no-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.    Consolidado : se diseña con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2880" y="126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95280" y="436572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8120" y="3789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149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357720"/>
            <a:ext cx="3313080" cy="1223640"/>
          </a:xfrm>
          <a:custGeom>
            <a:avLst/>
            <a:gdLst/>
            <a:ahLst/>
            <a:rect l="l" t="t" r="r" b="b"/>
            <a:pathLst>
              <a:path w="1950" h="725">
                <a:moveTo>
                  <a:pt x="0" y="0"/>
                </a:moveTo>
                <a:cubicBezTo>
                  <a:pt x="177" y="121"/>
                  <a:pt x="355" y="242"/>
                  <a:pt x="680" y="363"/>
                </a:cubicBezTo>
                <a:cubicBezTo>
                  <a:pt x="1005" y="484"/>
                  <a:pt x="1799" y="657"/>
                  <a:pt x="1950" y="72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933720"/>
            <a:ext cx="489600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93" y="408"/>
                </a:moveTo>
                <a:cubicBezTo>
                  <a:pt x="2683" y="396"/>
                  <a:pt x="2373" y="385"/>
                  <a:pt x="2041" y="362"/>
                </a:cubicBezTo>
                <a:cubicBezTo>
                  <a:pt x="1709" y="339"/>
                  <a:pt x="1338" y="332"/>
                  <a:pt x="998" y="272"/>
                </a:cubicBezTo>
                <a:cubicBezTo>
                  <a:pt x="658" y="212"/>
                  <a:pt x="166" y="3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35:59Z</dcterms:created>
  <dc:creator>karem</dc:creator>
  <dc:description/>
  <dc:language>en-US</dc:language>
  <cp:lastModifiedBy>SOLIDOS-09</cp:lastModifiedBy>
  <dcterms:modified xsi:type="dcterms:W3CDTF">2005-08-17T19:07:31Z</dcterms:modified>
  <cp:revision>5</cp:revision>
  <dc:subject/>
  <dc:title>Diapositiva 1</dc:title>
</cp:coreProperties>
</file>