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D03-5F46-41FE-ACFF-CB741443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1D8C-1786-472A-8429-D88C1F2E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766-2ADC-4CE4-AF4C-35881F4D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0C5E-6510-4752-81A5-04ED7DAE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450-1FB4-4A04-AE0D-F5F7C567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18F-3A01-4061-A158-6CA5B696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162-B85B-4A99-BC40-7EE8865B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26FC-EA28-45F7-8C24-17423195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4094-6343-4AD6-957F-EDF6FAC4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8BB-8AC8-42BE-A746-E1CD862A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190-1165-44CF-A674-BF15B84F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554B-FFEF-425F-B2D8-E0B47784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5255-A2DE-4D4B-B4DF-07647A8AE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6840" y="134136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yectoria de tensiones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403280" y="83628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292428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332000" y="3718080"/>
            <a:ext cx="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5805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6000" y="49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1872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344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3780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68720" y="292428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4005360"/>
            <a:ext cx="3097440" cy="1368360"/>
          </a:xfrm>
          <a:custGeom>
            <a:avLst/>
            <a:gdLst/>
            <a:ahLst/>
            <a:rect l="l" t="t" r="r" b="b"/>
            <a:pathLst>
              <a:path w="1951" h="862">
                <a:moveTo>
                  <a:pt x="0" y="0"/>
                </a:moveTo>
                <a:cubicBezTo>
                  <a:pt x="110" y="223"/>
                  <a:pt x="220" y="446"/>
                  <a:pt x="545" y="590"/>
                </a:cubicBezTo>
                <a:cubicBezTo>
                  <a:pt x="870" y="734"/>
                  <a:pt x="1410" y="798"/>
                  <a:pt x="1951" y="86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5640" y="429264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869000"/>
            <a:ext cx="28764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5157720"/>
            <a:ext cx="360360" cy="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258920" y="400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216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56000" y="4437000"/>
            <a:ext cx="1008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8480" y="400536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564000" y="1628640"/>
            <a:ext cx="503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32520" y="13644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 flipH="1">
            <a:off x="1402920" y="4149720"/>
            <a:ext cx="50403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443640" y="33300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547640" y="2205000"/>
            <a:ext cx="489600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850920" y="1197000"/>
            <a:ext cx="2592360" cy="2952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45080" y="18446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q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26360" y="2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97280" y="20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6580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5280" y="1197000"/>
            <a:ext cx="3095640" cy="1008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2205000"/>
            <a:ext cx="2664000" cy="31687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03640" y="1197000"/>
            <a:ext cx="1008000" cy="3960720"/>
          </a:xfrm>
          <a:custGeom>
            <a:avLst/>
            <a:gdLst/>
            <a:ahLst/>
            <a:rect l="l" t="t" r="r" b="b"/>
            <a:pathLst>
              <a:path w="703" h="2495">
                <a:moveTo>
                  <a:pt x="408" y="0"/>
                </a:moveTo>
                <a:cubicBezTo>
                  <a:pt x="555" y="313"/>
                  <a:pt x="703" y="627"/>
                  <a:pt x="635" y="1043"/>
                </a:cubicBezTo>
                <a:cubicBezTo>
                  <a:pt x="567" y="1459"/>
                  <a:pt x="83" y="2261"/>
                  <a:pt x="0" y="249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3800" y="47628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 EN EL ESPACIO q- p-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4160" y="1052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2708280"/>
            <a:ext cx="863640" cy="2665440"/>
          </a:xfrm>
          <a:custGeom>
            <a:avLst/>
            <a:gdLst/>
            <a:ahLst/>
            <a:rect l="l" t="t" r="r" b="b"/>
            <a:pathLst>
              <a:path w="514" h="1679">
                <a:moveTo>
                  <a:pt x="318" y="1679"/>
                </a:moveTo>
                <a:cubicBezTo>
                  <a:pt x="401" y="1444"/>
                  <a:pt x="484" y="1210"/>
                  <a:pt x="499" y="998"/>
                </a:cubicBezTo>
                <a:cubicBezTo>
                  <a:pt x="514" y="786"/>
                  <a:pt x="462" y="553"/>
                  <a:pt x="409" y="409"/>
                </a:cubicBezTo>
                <a:cubicBezTo>
                  <a:pt x="356" y="265"/>
                  <a:pt x="250" y="204"/>
                  <a:pt x="182" y="136"/>
                </a:cubicBezTo>
                <a:cubicBezTo>
                  <a:pt x="114" y="68"/>
                  <a:pt x="0" y="15"/>
                  <a:pt x="0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60720" y="51577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e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 flipV="1">
            <a:off x="1258920" y="98064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530064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2131920"/>
            <a:ext cx="5113440" cy="3168720"/>
          </a:xfrm>
          <a:custGeom>
            <a:avLst/>
            <a:gdLst/>
            <a:ahLst/>
            <a:rect l="l" t="t" r="r" b="b"/>
            <a:pathLst>
              <a:path w="3221" h="1996">
                <a:moveTo>
                  <a:pt x="0" y="1996"/>
                </a:moveTo>
                <a:cubicBezTo>
                  <a:pt x="95" y="1225"/>
                  <a:pt x="190" y="454"/>
                  <a:pt x="409" y="227"/>
                </a:cubicBezTo>
                <a:cubicBezTo>
                  <a:pt x="628" y="0"/>
                  <a:pt x="847" y="560"/>
                  <a:pt x="1316" y="636"/>
                </a:cubicBezTo>
                <a:cubicBezTo>
                  <a:pt x="1785" y="712"/>
                  <a:pt x="2888" y="681"/>
                  <a:pt x="3221" y="6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58920" y="3213000"/>
            <a:ext cx="5184720" cy="2087640"/>
          </a:xfrm>
          <a:custGeom>
            <a:avLst/>
            <a:gdLst/>
            <a:ahLst/>
            <a:rect l="l" t="t" r="r" b="b"/>
            <a:pathLst>
              <a:path w="3266" h="1315">
                <a:moveTo>
                  <a:pt x="0" y="1315"/>
                </a:moveTo>
                <a:cubicBezTo>
                  <a:pt x="344" y="963"/>
                  <a:pt x="688" y="612"/>
                  <a:pt x="998" y="408"/>
                </a:cubicBezTo>
                <a:cubicBezTo>
                  <a:pt x="1308" y="204"/>
                  <a:pt x="1482" y="159"/>
                  <a:pt x="1860" y="91"/>
                </a:cubicBezTo>
                <a:cubicBezTo>
                  <a:pt x="2238" y="23"/>
                  <a:pt x="3009" y="8"/>
                  <a:pt x="32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00000" y="836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742880" y="5300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38120" y="836640"/>
            <a:ext cx="435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gual presión de confinamiento  (p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43960" y="4046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61280" y="19368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59600" y="28526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87080" y="2368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98000" y="38815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 flipV="1">
            <a:off x="1187280" y="83664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6021360"/>
            <a:ext cx="712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187280" y="1773360"/>
            <a:ext cx="489744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627280" y="3933360"/>
            <a:ext cx="9367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627280" y="3573360"/>
            <a:ext cx="1081080" cy="24480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563640" y="3573360"/>
            <a:ext cx="144360" cy="36036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3141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83240" y="37893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38120" y="836640"/>
            <a:ext cx="38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gual presión de confi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43960" y="4046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10720" y="164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800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98360" y="611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94360" y="6040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 flipV="1">
            <a:off x="1692360" y="98100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3737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92360" y="328464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5292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19080" y="5678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92360" y="3260880"/>
            <a:ext cx="5400720" cy="960120"/>
          </a:xfrm>
          <a:custGeom>
            <a:avLst/>
            <a:gdLst/>
            <a:ahLst/>
            <a:rect l="l" t="t" r="r" b="b"/>
            <a:pathLst>
              <a:path w="3402" h="605">
                <a:moveTo>
                  <a:pt x="0" y="333"/>
                </a:moveTo>
                <a:cubicBezTo>
                  <a:pt x="83" y="469"/>
                  <a:pt x="166" y="605"/>
                  <a:pt x="272" y="605"/>
                </a:cubicBezTo>
                <a:cubicBezTo>
                  <a:pt x="378" y="605"/>
                  <a:pt x="499" y="416"/>
                  <a:pt x="635" y="333"/>
                </a:cubicBezTo>
                <a:cubicBezTo>
                  <a:pt x="771" y="250"/>
                  <a:pt x="854" y="159"/>
                  <a:pt x="1088" y="106"/>
                </a:cubicBezTo>
                <a:cubicBezTo>
                  <a:pt x="1322" y="53"/>
                  <a:pt x="1655" y="30"/>
                  <a:pt x="2041" y="15"/>
                </a:cubicBezTo>
                <a:cubicBezTo>
                  <a:pt x="2427" y="0"/>
                  <a:pt x="3206" y="38"/>
                  <a:pt x="3402" y="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989000"/>
            <a:ext cx="5472000" cy="1319400"/>
          </a:xfrm>
          <a:custGeom>
            <a:avLst/>
            <a:gdLst/>
            <a:ahLst/>
            <a:rect l="l" t="t" r="r" b="b"/>
            <a:pathLst>
              <a:path w="3447" h="831">
                <a:moveTo>
                  <a:pt x="0" y="0"/>
                </a:moveTo>
                <a:cubicBezTo>
                  <a:pt x="102" y="189"/>
                  <a:pt x="204" y="378"/>
                  <a:pt x="453" y="499"/>
                </a:cubicBezTo>
                <a:cubicBezTo>
                  <a:pt x="702" y="620"/>
                  <a:pt x="1171" y="673"/>
                  <a:pt x="1496" y="726"/>
                </a:cubicBezTo>
                <a:cubicBezTo>
                  <a:pt x="1821" y="779"/>
                  <a:pt x="2079" y="801"/>
                  <a:pt x="2404" y="816"/>
                </a:cubicBezTo>
                <a:cubicBezTo>
                  <a:pt x="2729" y="831"/>
                  <a:pt x="3228" y="808"/>
                  <a:pt x="3447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3800" y="17733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o sue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4160" y="3573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10360" y="3016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03840" y="265572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do últi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de las deformaciones volumétricas no sufren var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38120" y="836640"/>
            <a:ext cx="38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gual presión de confi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43960" y="4046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 flipV="1">
            <a:off x="1403280" y="98100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03280" y="544500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95640" y="1628640"/>
            <a:ext cx="4681440" cy="3095640"/>
          </a:xfrm>
          <a:custGeom>
            <a:avLst/>
            <a:gdLst/>
            <a:ahLst/>
            <a:rect l="l" t="t" r="r" b="b"/>
            <a:pathLst>
              <a:path w="2949" h="1950">
                <a:moveTo>
                  <a:pt x="0" y="0"/>
                </a:moveTo>
                <a:cubicBezTo>
                  <a:pt x="140" y="382"/>
                  <a:pt x="280" y="764"/>
                  <a:pt x="771" y="1089"/>
                </a:cubicBezTo>
                <a:cubicBezTo>
                  <a:pt x="1262" y="1414"/>
                  <a:pt x="2594" y="1807"/>
                  <a:pt x="2949" y="19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1000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4564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419640" y="263700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30000" y="4384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580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8000" y="422100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48000" y="2565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0160" y="21337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o sue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198520" y="422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95640" y="3645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19640" y="2637000"/>
            <a:ext cx="647640" cy="1008000"/>
          </a:xfrm>
          <a:custGeom>
            <a:avLst/>
            <a:gdLst/>
            <a:ahLst/>
            <a:rect l="l" t="t" r="r" b="b"/>
            <a:pathLst>
              <a:path w="408" h="680">
                <a:moveTo>
                  <a:pt x="0" y="0"/>
                </a:moveTo>
                <a:cubicBezTo>
                  <a:pt x="102" y="11"/>
                  <a:pt x="204" y="23"/>
                  <a:pt x="272" y="136"/>
                </a:cubicBezTo>
                <a:cubicBezTo>
                  <a:pt x="340" y="249"/>
                  <a:pt x="378" y="574"/>
                  <a:pt x="408" y="68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19640" y="3789360"/>
            <a:ext cx="792000" cy="719280"/>
          </a:xfrm>
          <a:custGeom>
            <a:avLst/>
            <a:gdLst/>
            <a:ahLst/>
            <a:rect l="l" t="t" r="r" b="b"/>
            <a:pathLst>
              <a:path w="507" h="506">
                <a:moveTo>
                  <a:pt x="0" y="370"/>
                </a:moveTo>
                <a:cubicBezTo>
                  <a:pt x="75" y="438"/>
                  <a:pt x="151" y="506"/>
                  <a:pt x="227" y="506"/>
                </a:cubicBezTo>
                <a:cubicBezTo>
                  <a:pt x="303" y="506"/>
                  <a:pt x="409" y="423"/>
                  <a:pt x="454" y="370"/>
                </a:cubicBezTo>
                <a:cubicBezTo>
                  <a:pt x="499" y="317"/>
                  <a:pt x="507" y="249"/>
                  <a:pt x="499" y="189"/>
                </a:cubicBezTo>
                <a:cubicBezTo>
                  <a:pt x="491" y="129"/>
                  <a:pt x="423" y="0"/>
                  <a:pt x="408" y="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42520" y="3429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38120" y="836640"/>
            <a:ext cx="38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gual presión de confi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143960" y="4046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H="1">
            <a:off x="1402920" y="4149720"/>
            <a:ext cx="50403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443640" y="33300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547640" y="2205000"/>
            <a:ext cx="489600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3850920" y="1197000"/>
            <a:ext cx="2592360" cy="2952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45080" y="18446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q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26360" y="2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97280" y="20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6580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755280" y="1197000"/>
            <a:ext cx="3095640" cy="1008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2205000"/>
            <a:ext cx="2664000" cy="31687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03640" y="1197000"/>
            <a:ext cx="1008000" cy="3960720"/>
          </a:xfrm>
          <a:custGeom>
            <a:avLst/>
            <a:gdLst/>
            <a:ahLst/>
            <a:rect l="l" t="t" r="r" b="b"/>
            <a:pathLst>
              <a:path w="703" h="2495">
                <a:moveTo>
                  <a:pt x="408" y="0"/>
                </a:moveTo>
                <a:cubicBezTo>
                  <a:pt x="555" y="313"/>
                  <a:pt x="703" y="627"/>
                  <a:pt x="635" y="1043"/>
                </a:cubicBezTo>
                <a:cubicBezTo>
                  <a:pt x="567" y="1459"/>
                  <a:pt x="83" y="2261"/>
                  <a:pt x="0" y="249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6720" y="40464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 EN EL ESPACIO q- p-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34160" y="1052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27280" y="2708280"/>
            <a:ext cx="816120" cy="2665440"/>
          </a:xfrm>
          <a:custGeom>
            <a:avLst/>
            <a:gdLst/>
            <a:ahLst/>
            <a:rect l="l" t="t" r="r" b="b"/>
            <a:pathLst>
              <a:path w="514" h="1679">
                <a:moveTo>
                  <a:pt x="318" y="1679"/>
                </a:moveTo>
                <a:cubicBezTo>
                  <a:pt x="401" y="1444"/>
                  <a:pt x="484" y="1210"/>
                  <a:pt x="499" y="998"/>
                </a:cubicBezTo>
                <a:cubicBezTo>
                  <a:pt x="514" y="786"/>
                  <a:pt x="462" y="553"/>
                  <a:pt x="409" y="409"/>
                </a:cubicBezTo>
                <a:cubicBezTo>
                  <a:pt x="356" y="265"/>
                  <a:pt x="250" y="204"/>
                  <a:pt x="182" y="136"/>
                </a:cubicBezTo>
                <a:cubicBezTo>
                  <a:pt x="114" y="68"/>
                  <a:pt x="0" y="15"/>
                  <a:pt x="0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60720" y="51577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e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4932000" y="2421000"/>
            <a:ext cx="36036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219640" y="2205000"/>
            <a:ext cx="172872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00920" y="1936800"/>
            <a:ext cx="13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yectoria de tensiones 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916360" y="3716280"/>
            <a:ext cx="230328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50520" y="36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4328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16360" y="2781360"/>
            <a:ext cx="1224000" cy="1800000"/>
          </a:xfrm>
          <a:custGeom>
            <a:avLst/>
            <a:gdLst/>
            <a:ahLst/>
            <a:rect l="l" t="t" r="r" b="b"/>
            <a:pathLst>
              <a:path w="771" h="1134">
                <a:moveTo>
                  <a:pt x="0" y="1134"/>
                </a:moveTo>
                <a:cubicBezTo>
                  <a:pt x="18" y="990"/>
                  <a:pt x="37" y="847"/>
                  <a:pt x="90" y="726"/>
                </a:cubicBezTo>
                <a:cubicBezTo>
                  <a:pt x="143" y="605"/>
                  <a:pt x="203" y="529"/>
                  <a:pt x="317" y="408"/>
                </a:cubicBezTo>
                <a:cubicBezTo>
                  <a:pt x="431" y="287"/>
                  <a:pt x="718" y="30"/>
                  <a:pt x="771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066920" y="2421000"/>
            <a:ext cx="86508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067280" y="270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76720" y="3716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3789360"/>
            <a:ext cx="43164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0" y="544"/>
                </a:moveTo>
                <a:cubicBezTo>
                  <a:pt x="22" y="431"/>
                  <a:pt x="45" y="318"/>
                  <a:pt x="90" y="227"/>
                </a:cubicBezTo>
                <a:cubicBezTo>
                  <a:pt x="135" y="136"/>
                  <a:pt x="212" y="30"/>
                  <a:pt x="272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 flipV="1">
            <a:off x="1258920" y="98064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58920" y="530064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58920" y="3213000"/>
            <a:ext cx="5184720" cy="2087640"/>
          </a:xfrm>
          <a:custGeom>
            <a:avLst/>
            <a:gdLst/>
            <a:ahLst/>
            <a:rect l="l" t="t" r="r" b="b"/>
            <a:pathLst>
              <a:path w="3266" h="1315">
                <a:moveTo>
                  <a:pt x="0" y="1315"/>
                </a:moveTo>
                <a:cubicBezTo>
                  <a:pt x="344" y="963"/>
                  <a:pt x="688" y="612"/>
                  <a:pt x="998" y="408"/>
                </a:cubicBezTo>
                <a:cubicBezTo>
                  <a:pt x="1308" y="204"/>
                  <a:pt x="1482" y="159"/>
                  <a:pt x="1860" y="91"/>
                </a:cubicBezTo>
                <a:cubicBezTo>
                  <a:pt x="2238" y="23"/>
                  <a:pt x="3009" y="8"/>
                  <a:pt x="3266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00000" y="836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742880" y="5300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12320" y="83664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43960" y="40464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85640" y="23652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96560" y="387828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58920" y="3094200"/>
            <a:ext cx="5041800" cy="2206440"/>
          </a:xfrm>
          <a:custGeom>
            <a:avLst/>
            <a:gdLst/>
            <a:ahLst/>
            <a:rect l="l" t="t" r="r" b="b"/>
            <a:pathLst>
              <a:path w="3176" h="1390">
                <a:moveTo>
                  <a:pt x="0" y="1390"/>
                </a:moveTo>
                <a:cubicBezTo>
                  <a:pt x="56" y="936"/>
                  <a:pt x="113" y="483"/>
                  <a:pt x="363" y="256"/>
                </a:cubicBezTo>
                <a:cubicBezTo>
                  <a:pt x="613" y="29"/>
                  <a:pt x="1028" y="60"/>
                  <a:pt x="1497" y="30"/>
                </a:cubicBezTo>
                <a:cubicBezTo>
                  <a:pt x="1966" y="0"/>
                  <a:pt x="2889" y="45"/>
                  <a:pt x="3176" y="75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258920" y="3213000"/>
            <a:ext cx="496872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2997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 flipV="1">
            <a:off x="1187280" y="83664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87280" y="6021360"/>
            <a:ext cx="712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187280" y="1773360"/>
            <a:ext cx="489744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10720" y="164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800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98360" y="61135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94360" y="6040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12320" y="83664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143960" y="40464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076480" y="3860640"/>
            <a:ext cx="1631880" cy="2160720"/>
          </a:xfrm>
          <a:custGeom>
            <a:avLst/>
            <a:gdLst/>
            <a:ahLst/>
            <a:rect l="l" t="t" r="r" b="b"/>
            <a:pathLst>
              <a:path w="1028" h="1361">
                <a:moveTo>
                  <a:pt x="302" y="1361"/>
                </a:moveTo>
                <a:cubicBezTo>
                  <a:pt x="151" y="1043"/>
                  <a:pt x="0" y="726"/>
                  <a:pt x="121" y="499"/>
                </a:cubicBezTo>
                <a:cubicBezTo>
                  <a:pt x="242" y="272"/>
                  <a:pt x="816" y="83"/>
                  <a:pt x="1028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2652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3765600"/>
            <a:ext cx="2473560" cy="2255760"/>
          </a:xfrm>
          <a:custGeom>
            <a:avLst/>
            <a:gdLst/>
            <a:ahLst/>
            <a:rect l="l" t="t" r="r" b="b"/>
            <a:pathLst>
              <a:path w="1558" h="1421">
                <a:moveTo>
                  <a:pt x="1452" y="1421"/>
                </a:moveTo>
                <a:cubicBezTo>
                  <a:pt x="1505" y="1035"/>
                  <a:pt x="1558" y="650"/>
                  <a:pt x="1497" y="423"/>
                </a:cubicBezTo>
                <a:cubicBezTo>
                  <a:pt x="1436" y="196"/>
                  <a:pt x="1338" y="120"/>
                  <a:pt x="1089" y="60"/>
                </a:cubicBezTo>
                <a:cubicBezTo>
                  <a:pt x="840" y="0"/>
                  <a:pt x="181" y="60"/>
                  <a:pt x="0" y="6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980720" y="400536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81080" y="357336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35280" y="3789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187280" y="386064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5280" y="36450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 flipV="1">
            <a:off x="1692360" y="98100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92360" y="53737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92360" y="3284640"/>
            <a:ext cx="5543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5292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219080" y="5678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630520" y="285264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inicial = 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03840" y="26557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do últi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80680" y="69228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11960" y="2602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 flipV="1">
            <a:off x="1692360" y="98100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28464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92360" y="328464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28000" y="5084640"/>
            <a:ext cx="7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69800" y="3068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92360" y="2781360"/>
            <a:ext cx="5400720" cy="960480"/>
          </a:xfrm>
          <a:custGeom>
            <a:avLst/>
            <a:gdLst/>
            <a:ahLst/>
            <a:rect l="l" t="t" r="r" b="b"/>
            <a:pathLst>
              <a:path w="3402" h="605">
                <a:moveTo>
                  <a:pt x="0" y="333"/>
                </a:moveTo>
                <a:cubicBezTo>
                  <a:pt x="83" y="469"/>
                  <a:pt x="166" y="605"/>
                  <a:pt x="272" y="605"/>
                </a:cubicBezTo>
                <a:cubicBezTo>
                  <a:pt x="378" y="605"/>
                  <a:pt x="499" y="416"/>
                  <a:pt x="635" y="333"/>
                </a:cubicBezTo>
                <a:cubicBezTo>
                  <a:pt x="771" y="250"/>
                  <a:pt x="854" y="159"/>
                  <a:pt x="1088" y="106"/>
                </a:cubicBezTo>
                <a:cubicBezTo>
                  <a:pt x="1322" y="53"/>
                  <a:pt x="1655" y="30"/>
                  <a:pt x="2041" y="15"/>
                </a:cubicBezTo>
                <a:cubicBezTo>
                  <a:pt x="2427" y="0"/>
                  <a:pt x="3206" y="38"/>
                  <a:pt x="3402" y="15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92360" y="3284640"/>
            <a:ext cx="5472000" cy="1319040"/>
          </a:xfrm>
          <a:custGeom>
            <a:avLst/>
            <a:gdLst/>
            <a:ahLst/>
            <a:rect l="l" t="t" r="r" b="b"/>
            <a:pathLst>
              <a:path w="3447" h="831">
                <a:moveTo>
                  <a:pt x="0" y="0"/>
                </a:moveTo>
                <a:cubicBezTo>
                  <a:pt x="102" y="189"/>
                  <a:pt x="204" y="378"/>
                  <a:pt x="453" y="499"/>
                </a:cubicBezTo>
                <a:cubicBezTo>
                  <a:pt x="702" y="620"/>
                  <a:pt x="1171" y="673"/>
                  <a:pt x="1496" y="726"/>
                </a:cubicBezTo>
                <a:cubicBezTo>
                  <a:pt x="1821" y="779"/>
                  <a:pt x="2079" y="801"/>
                  <a:pt x="2404" y="816"/>
                </a:cubicBezTo>
                <a:cubicBezTo>
                  <a:pt x="2729" y="831"/>
                  <a:pt x="3228" y="808"/>
                  <a:pt x="3447" y="816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18944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24360" y="2924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do últi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28360" y="9810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95240" y="256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238160" y="43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80680" y="69228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11960" y="2602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64320" y="260280"/>
            <a:ext cx="32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so drenado de 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rie tri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042920" y="134136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80536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4000" y="114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38000" y="589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042920" y="1988640"/>
            <a:ext cx="554508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340000" y="4292640"/>
            <a:ext cx="936720" cy="1512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348000" y="3141360"/>
            <a:ext cx="1511280" cy="2663640"/>
          </a:xfrm>
          <a:prstGeom prst="line">
            <a:avLst/>
          </a:prstGeom>
          <a:ln w="381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284720" y="2060640"/>
            <a:ext cx="2158920" cy="3744720"/>
          </a:xfrm>
          <a:prstGeom prst="line">
            <a:avLst/>
          </a:prstGeom>
          <a:ln w="38160">
            <a:solidFill>
              <a:srgbClr val="00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81800" y="3571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21080" y="42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63080" y="366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4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9440" y="573408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9080" y="580536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7080" y="580536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86360" y="371160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02520" y="278136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8160" y="170028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 flipV="1">
            <a:off x="1403280" y="98100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03280" y="544500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195640" y="1628640"/>
            <a:ext cx="4681440" cy="3095640"/>
          </a:xfrm>
          <a:custGeom>
            <a:avLst/>
            <a:gdLst/>
            <a:ahLst/>
            <a:rect l="l" t="t" r="r" b="b"/>
            <a:pathLst>
              <a:path w="2949" h="1950">
                <a:moveTo>
                  <a:pt x="0" y="0"/>
                </a:moveTo>
                <a:cubicBezTo>
                  <a:pt x="140" y="382"/>
                  <a:pt x="280" y="764"/>
                  <a:pt x="771" y="1089"/>
                </a:cubicBezTo>
                <a:cubicBezTo>
                  <a:pt x="1262" y="1414"/>
                  <a:pt x="2594" y="1807"/>
                  <a:pt x="2949" y="19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10000" y="78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146000" y="56088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0000" y="4384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1852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05928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3564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295240" y="2924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198160" y="42210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95640" y="3645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42520" y="3429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03280" y="371628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32000" y="3716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41080" y="35002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i =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07600" y="692280"/>
            <a:ext cx="38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gual índice de hueco (ei = c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638880" y="2602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no -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29488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08720" y="3645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73800" y="32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37800" y="3357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32000" y="371628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211280" y="371628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917800" y="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 EN EL ESPACIO q- p-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2576160" y="4503600"/>
            <a:ext cx="504036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7616880" y="68688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2720880" y="2558880"/>
            <a:ext cx="489600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4572000" y="1052640"/>
            <a:ext cx="3044880" cy="34509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89800" y="8366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q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599600" y="561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27052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938680" y="637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64000" y="1197000"/>
            <a:ext cx="1008000" cy="3960720"/>
          </a:xfrm>
          <a:custGeom>
            <a:avLst/>
            <a:gdLst/>
            <a:ahLst/>
            <a:rect l="l" t="t" r="r" b="b"/>
            <a:pathLst>
              <a:path w="703" h="2495">
                <a:moveTo>
                  <a:pt x="408" y="0"/>
                </a:moveTo>
                <a:cubicBezTo>
                  <a:pt x="555" y="313"/>
                  <a:pt x="703" y="627"/>
                  <a:pt x="635" y="1043"/>
                </a:cubicBezTo>
                <a:cubicBezTo>
                  <a:pt x="567" y="1459"/>
                  <a:pt x="83" y="2261"/>
                  <a:pt x="0" y="249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94520" y="981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68520" y="3062160"/>
            <a:ext cx="816120" cy="2665440"/>
          </a:xfrm>
          <a:custGeom>
            <a:avLst/>
            <a:gdLst/>
            <a:ahLst/>
            <a:rect l="l" t="t" r="r" b="b"/>
            <a:pathLst>
              <a:path w="514" h="1679">
                <a:moveTo>
                  <a:pt x="318" y="1679"/>
                </a:moveTo>
                <a:cubicBezTo>
                  <a:pt x="401" y="1444"/>
                  <a:pt x="484" y="1210"/>
                  <a:pt x="499" y="998"/>
                </a:cubicBezTo>
                <a:cubicBezTo>
                  <a:pt x="514" y="786"/>
                  <a:pt x="462" y="553"/>
                  <a:pt x="409" y="409"/>
                </a:cubicBezTo>
                <a:cubicBezTo>
                  <a:pt x="356" y="265"/>
                  <a:pt x="250" y="204"/>
                  <a:pt x="182" y="136"/>
                </a:cubicBezTo>
                <a:cubicBezTo>
                  <a:pt x="114" y="68"/>
                  <a:pt x="0" y="15"/>
                  <a:pt x="0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433960" y="55119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U e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543640" y="1557360"/>
            <a:ext cx="36360" cy="374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763280" y="189000"/>
            <a:ext cx="71640" cy="3671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1763280" y="3860640"/>
            <a:ext cx="3708360" cy="1440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1835280" y="188640"/>
            <a:ext cx="3744720" cy="1439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704920" y="53211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i = 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348000" y="4437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716360" y="494172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788000" y="4220640"/>
            <a:ext cx="208908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419640" y="3715920"/>
            <a:ext cx="223200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0616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653800" y="34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 flipV="1">
            <a:off x="4140360" y="4797360"/>
            <a:ext cx="576000" cy="216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19640" y="4508640"/>
            <a:ext cx="720720" cy="2887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40360" y="3789360"/>
            <a:ext cx="900000" cy="1224000"/>
          </a:xfrm>
          <a:custGeom>
            <a:avLst/>
            <a:gdLst/>
            <a:ahLst/>
            <a:rect l="l" t="t" r="r" b="b"/>
            <a:pathLst>
              <a:path w="567" h="771">
                <a:moveTo>
                  <a:pt x="408" y="771"/>
                </a:moveTo>
                <a:cubicBezTo>
                  <a:pt x="487" y="631"/>
                  <a:pt x="567" y="491"/>
                  <a:pt x="499" y="363"/>
                </a:cubicBezTo>
                <a:cubicBezTo>
                  <a:pt x="431" y="235"/>
                  <a:pt x="75" y="38"/>
                  <a:pt x="0" y="0"/>
                </a:cubicBezTo>
              </a:path>
            </a:pathLst>
          </a:custGeom>
          <a:noFill/>
          <a:ln w="28440">
            <a:solidFill>
              <a:srgbClr val="0099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348000" y="3573360"/>
            <a:ext cx="719280" cy="935280"/>
          </a:xfrm>
          <a:custGeom>
            <a:avLst/>
            <a:gdLst/>
            <a:ahLst/>
            <a:rect l="l" t="t" r="r" b="b"/>
            <a:pathLst>
              <a:path w="484" h="574">
                <a:moveTo>
                  <a:pt x="30" y="574"/>
                </a:moveTo>
                <a:cubicBezTo>
                  <a:pt x="15" y="362"/>
                  <a:pt x="0" y="150"/>
                  <a:pt x="76" y="75"/>
                </a:cubicBezTo>
                <a:cubicBezTo>
                  <a:pt x="152" y="0"/>
                  <a:pt x="408" y="75"/>
                  <a:pt x="484" y="121"/>
                </a:cubicBezTo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140360" y="3716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87240" y="3500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227640" y="2997360"/>
            <a:ext cx="900360" cy="1223640"/>
          </a:xfrm>
          <a:custGeom>
            <a:avLst/>
            <a:gdLst/>
            <a:ahLst/>
            <a:rect l="l" t="t" r="r" b="b"/>
            <a:pathLst>
              <a:path w="567" h="771">
                <a:moveTo>
                  <a:pt x="408" y="771"/>
                </a:moveTo>
                <a:cubicBezTo>
                  <a:pt x="487" y="631"/>
                  <a:pt x="567" y="491"/>
                  <a:pt x="499" y="363"/>
                </a:cubicBezTo>
                <a:cubicBezTo>
                  <a:pt x="431" y="235"/>
                  <a:pt x="75" y="38"/>
                  <a:pt x="0" y="0"/>
                </a:cubicBezTo>
              </a:path>
            </a:pathLst>
          </a:custGeom>
          <a:noFill/>
          <a:ln w="28440">
            <a:solidFill>
              <a:srgbClr val="0099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0000" y="2852640"/>
            <a:ext cx="719280" cy="935280"/>
          </a:xfrm>
          <a:custGeom>
            <a:avLst/>
            <a:gdLst/>
            <a:ahLst/>
            <a:rect l="l" t="t" r="r" b="b"/>
            <a:pathLst>
              <a:path w="484" h="574">
                <a:moveTo>
                  <a:pt x="30" y="574"/>
                </a:moveTo>
                <a:cubicBezTo>
                  <a:pt x="15" y="362"/>
                  <a:pt x="0" y="150"/>
                  <a:pt x="76" y="75"/>
                </a:cubicBezTo>
                <a:cubicBezTo>
                  <a:pt x="152" y="0"/>
                  <a:pt x="408" y="75"/>
                  <a:pt x="484" y="121"/>
                </a:cubicBezTo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6588000" y="1413000"/>
            <a:ext cx="1152720" cy="17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740720" y="981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yectoria de tensiones no -dre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V="1">
            <a:off x="1042920" y="90756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587700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64320" y="189000"/>
            <a:ext cx="32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so drenado de 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rie tri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80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1088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2781360"/>
            <a:ext cx="4968720" cy="2592360"/>
          </a:xfrm>
          <a:custGeom>
            <a:avLst/>
            <a:gdLst/>
            <a:ahLst/>
            <a:rect l="l" t="t" r="r" b="b"/>
            <a:pathLst>
              <a:path w="3130" h="1633">
                <a:moveTo>
                  <a:pt x="0" y="0"/>
                </a:moveTo>
                <a:cubicBezTo>
                  <a:pt x="102" y="385"/>
                  <a:pt x="204" y="771"/>
                  <a:pt x="726" y="1043"/>
                </a:cubicBezTo>
                <a:cubicBezTo>
                  <a:pt x="1248" y="1315"/>
                  <a:pt x="2189" y="1474"/>
                  <a:pt x="3130" y="163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87080" y="5248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2924280"/>
            <a:ext cx="5113440" cy="949320"/>
          </a:xfrm>
          <a:custGeom>
            <a:avLst/>
            <a:gdLst/>
            <a:ahLst/>
            <a:rect l="l" t="t" r="r" b="b"/>
            <a:pathLst>
              <a:path w="3221" h="598">
                <a:moveTo>
                  <a:pt x="0" y="0"/>
                </a:moveTo>
                <a:cubicBezTo>
                  <a:pt x="227" y="91"/>
                  <a:pt x="454" y="182"/>
                  <a:pt x="862" y="273"/>
                </a:cubicBezTo>
                <a:cubicBezTo>
                  <a:pt x="1270" y="364"/>
                  <a:pt x="2056" y="492"/>
                  <a:pt x="2449" y="545"/>
                </a:cubicBezTo>
                <a:cubicBezTo>
                  <a:pt x="2842" y="598"/>
                  <a:pt x="3031" y="594"/>
                  <a:pt x="3221" y="590"/>
                </a:cubicBezTo>
              </a:path>
            </a:pathLst>
          </a:custGeom>
          <a:noFill/>
          <a:ln w="28440">
            <a:solidFill>
              <a:srgbClr val="3333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859280" y="2852640"/>
            <a:ext cx="9208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4280" y="242100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3141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3429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3645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3213000"/>
            <a:ext cx="720720" cy="1511280"/>
          </a:xfrm>
          <a:custGeom>
            <a:avLst/>
            <a:gdLst/>
            <a:ahLst/>
            <a:rect l="l" t="t" r="r" b="b"/>
            <a:pathLst>
              <a:path w="454" h="952">
                <a:moveTo>
                  <a:pt x="0" y="0"/>
                </a:moveTo>
                <a:cubicBezTo>
                  <a:pt x="121" y="34"/>
                  <a:pt x="242" y="68"/>
                  <a:pt x="318" y="227"/>
                </a:cubicBezTo>
                <a:cubicBezTo>
                  <a:pt x="394" y="386"/>
                  <a:pt x="394" y="801"/>
                  <a:pt x="454" y="95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67280" y="3500280"/>
            <a:ext cx="720720" cy="1511280"/>
          </a:xfrm>
          <a:custGeom>
            <a:avLst/>
            <a:gdLst/>
            <a:ahLst/>
            <a:rect l="l" t="t" r="r" b="b"/>
            <a:pathLst>
              <a:path w="454" h="952">
                <a:moveTo>
                  <a:pt x="0" y="0"/>
                </a:moveTo>
                <a:cubicBezTo>
                  <a:pt x="121" y="34"/>
                  <a:pt x="242" y="68"/>
                  <a:pt x="318" y="227"/>
                </a:cubicBezTo>
                <a:cubicBezTo>
                  <a:pt x="394" y="386"/>
                  <a:pt x="394" y="801"/>
                  <a:pt x="454" y="95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3716280"/>
            <a:ext cx="720720" cy="1511280"/>
          </a:xfrm>
          <a:custGeom>
            <a:avLst/>
            <a:gdLst/>
            <a:ahLst/>
            <a:rect l="l" t="t" r="r" b="b"/>
            <a:pathLst>
              <a:path w="454" h="952">
                <a:moveTo>
                  <a:pt x="0" y="0"/>
                </a:moveTo>
                <a:cubicBezTo>
                  <a:pt x="121" y="34"/>
                  <a:pt x="242" y="68"/>
                  <a:pt x="318" y="227"/>
                </a:cubicBezTo>
                <a:cubicBezTo>
                  <a:pt x="394" y="386"/>
                  <a:pt x="394" y="801"/>
                  <a:pt x="454" y="95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321300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92360" y="4724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67280" y="3573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3789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5013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56360" y="5300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4720" y="5229360"/>
            <a:ext cx="14472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4941720"/>
            <a:ext cx="144720" cy="14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465300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5800" y="573408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1080" y="580536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21080" y="5805360"/>
            <a:ext cx="6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5440" y="587700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2520" y="595008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2520" y="595008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 flipV="1">
            <a:off x="1187280" y="1406520"/>
            <a:ext cx="0" cy="46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608796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3422520"/>
            <a:ext cx="3816360" cy="216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3213000"/>
            <a:ext cx="3743640" cy="1152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7440" y="119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26520" y="63752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( p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9440" y="55119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4076640"/>
            <a:ext cx="19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64000" y="35672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4720" y="35672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6000" y="33735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42160" y="429264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429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211640" y="429264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115640" y="3357720"/>
            <a:ext cx="1655640" cy="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3357720"/>
            <a:ext cx="0" cy="273528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4149720"/>
            <a:ext cx="223200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149720"/>
            <a:ext cx="0" cy="194328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6160" y="299736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6160" y="378936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3080" y="6093000"/>
            <a:ext cx="4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9440" y="60930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19280" y="119700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de consolidación isót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88920" y="65160"/>
            <a:ext cx="59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UACIONES DE LEU Y CURVA ISOTROPA EN e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4520" y="1916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5080" y="1125360"/>
            <a:ext cx="23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og(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8520" y="1844640"/>
            <a:ext cx="25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log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1403280" y="4568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427356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403280" y="817560"/>
            <a:ext cx="5040360" cy="295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27608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284720" y="21128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97280" y="33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8520" y="260280"/>
            <a:ext cx="36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UACIONES DE LEU EN q v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37280" y="220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2160" y="384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9816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97800" y="19890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 = M*p +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619280" y="5229360"/>
                <a:ext cx="22320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788000" y="5229360"/>
                <a:ext cx="217944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26920" y="33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iento no drenado en ar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971640" y="1052640"/>
            <a:ext cx="0" cy="48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5950080"/>
            <a:ext cx="705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971640" y="2349360"/>
            <a:ext cx="568800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03080" y="2152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" y="71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11080" y="5969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2421000"/>
            <a:ext cx="2519280" cy="3529080"/>
          </a:xfrm>
          <a:custGeom>
            <a:avLst/>
            <a:gdLst/>
            <a:ahLst/>
            <a:rect l="l" t="t" r="r" b="b"/>
            <a:pathLst>
              <a:path w="1587" h="2223">
                <a:moveTo>
                  <a:pt x="0" y="2223"/>
                </a:moveTo>
                <a:cubicBezTo>
                  <a:pt x="113" y="1792"/>
                  <a:pt x="227" y="1361"/>
                  <a:pt x="363" y="1043"/>
                </a:cubicBezTo>
                <a:cubicBezTo>
                  <a:pt x="499" y="725"/>
                  <a:pt x="612" y="491"/>
                  <a:pt x="816" y="317"/>
                </a:cubicBezTo>
                <a:cubicBezTo>
                  <a:pt x="1020" y="143"/>
                  <a:pt x="1303" y="71"/>
                  <a:pt x="1587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0" y="3284640"/>
            <a:ext cx="1908360" cy="2665440"/>
          </a:xfrm>
          <a:custGeom>
            <a:avLst/>
            <a:gdLst/>
            <a:ahLst/>
            <a:rect l="l" t="t" r="r" b="b"/>
            <a:pathLst>
              <a:path w="1202" h="1679">
                <a:moveTo>
                  <a:pt x="431" y="1679"/>
                </a:moveTo>
                <a:cubicBezTo>
                  <a:pt x="393" y="1414"/>
                  <a:pt x="355" y="1149"/>
                  <a:pt x="295" y="998"/>
                </a:cubicBezTo>
                <a:cubicBezTo>
                  <a:pt x="235" y="847"/>
                  <a:pt x="98" y="847"/>
                  <a:pt x="68" y="771"/>
                </a:cubicBezTo>
                <a:cubicBezTo>
                  <a:pt x="38" y="695"/>
                  <a:pt x="0" y="643"/>
                  <a:pt x="113" y="545"/>
                </a:cubicBezTo>
                <a:cubicBezTo>
                  <a:pt x="226" y="447"/>
                  <a:pt x="567" y="273"/>
                  <a:pt x="748" y="182"/>
                </a:cubicBezTo>
                <a:cubicBezTo>
                  <a:pt x="929" y="91"/>
                  <a:pt x="1111" y="23"/>
                  <a:pt x="120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35280" y="4894200"/>
            <a:ext cx="2089080" cy="1055880"/>
          </a:xfrm>
          <a:custGeom>
            <a:avLst/>
            <a:gdLst/>
            <a:ahLst/>
            <a:rect l="l" t="t" r="r" b="b"/>
            <a:pathLst>
              <a:path w="1316" h="665">
                <a:moveTo>
                  <a:pt x="1316" y="665"/>
                </a:moveTo>
                <a:cubicBezTo>
                  <a:pt x="1304" y="445"/>
                  <a:pt x="1293" y="226"/>
                  <a:pt x="1180" y="120"/>
                </a:cubicBezTo>
                <a:cubicBezTo>
                  <a:pt x="1067" y="14"/>
                  <a:pt x="832" y="0"/>
                  <a:pt x="635" y="30"/>
                </a:cubicBezTo>
                <a:cubicBezTo>
                  <a:pt x="438" y="60"/>
                  <a:pt x="219" y="181"/>
                  <a:pt x="0" y="30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62000" y="2152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47240" y="306864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dad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06360" y="51768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V="1">
            <a:off x="1042920" y="90756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587700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180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8688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1989000"/>
            <a:ext cx="6408720" cy="3384720"/>
          </a:xfrm>
          <a:custGeom>
            <a:avLst/>
            <a:gdLst/>
            <a:ahLst/>
            <a:rect l="l" t="t" r="r" b="b"/>
            <a:pathLst>
              <a:path w="3130" h="1633">
                <a:moveTo>
                  <a:pt x="0" y="0"/>
                </a:moveTo>
                <a:cubicBezTo>
                  <a:pt x="102" y="385"/>
                  <a:pt x="204" y="771"/>
                  <a:pt x="726" y="1043"/>
                </a:cubicBezTo>
                <a:cubicBezTo>
                  <a:pt x="1248" y="1315"/>
                  <a:pt x="2189" y="1474"/>
                  <a:pt x="3130" y="1633"/>
                </a:cubicBezTo>
              </a:path>
            </a:pathLst>
          </a:custGeom>
          <a:noFill/>
          <a:ln w="28440">
            <a:solidFill>
              <a:srgbClr val="808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98520" y="4797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924360" y="270828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1280" y="2637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907640" y="2708280"/>
            <a:ext cx="20163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4880" y="5300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3960" y="44370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dad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8520" y="2276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na 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581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51280" y="522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465300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300640"/>
            <a:ext cx="36003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33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iento no drenado en ar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 flipV="1">
            <a:off x="1187280" y="836640"/>
            <a:ext cx="0" cy="49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87280" y="580536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187280" y="1483920"/>
            <a:ext cx="763272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116000" y="4581360"/>
            <a:ext cx="2232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4581360"/>
            <a:ext cx="0" cy="151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48000" y="59500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700000" y="595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24680" y="6021360"/>
            <a:ext cx="28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mente consol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19960" y="602136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 consol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80000" y="4352760"/>
            <a:ext cx="1800000" cy="1452600"/>
          </a:xfrm>
          <a:custGeom>
            <a:avLst/>
            <a:gdLst/>
            <a:ahLst/>
            <a:rect l="l" t="t" r="r" b="b"/>
            <a:pathLst>
              <a:path w="1134" h="915">
                <a:moveTo>
                  <a:pt x="0" y="8"/>
                </a:moveTo>
                <a:cubicBezTo>
                  <a:pt x="238" y="4"/>
                  <a:pt x="476" y="0"/>
                  <a:pt x="635" y="53"/>
                </a:cubicBezTo>
                <a:cubicBezTo>
                  <a:pt x="794" y="106"/>
                  <a:pt x="870" y="181"/>
                  <a:pt x="953" y="325"/>
                </a:cubicBezTo>
                <a:cubicBezTo>
                  <a:pt x="1036" y="469"/>
                  <a:pt x="1074" y="824"/>
                  <a:pt x="1134" y="915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3705120"/>
            <a:ext cx="1728720" cy="2100240"/>
          </a:xfrm>
          <a:custGeom>
            <a:avLst/>
            <a:gdLst/>
            <a:ahLst/>
            <a:rect l="l" t="t" r="r" b="b"/>
            <a:pathLst>
              <a:path w="1089" h="1323">
                <a:moveTo>
                  <a:pt x="0" y="7"/>
                </a:moveTo>
                <a:cubicBezTo>
                  <a:pt x="215" y="3"/>
                  <a:pt x="431" y="0"/>
                  <a:pt x="590" y="98"/>
                </a:cubicBezTo>
                <a:cubicBezTo>
                  <a:pt x="749" y="196"/>
                  <a:pt x="870" y="393"/>
                  <a:pt x="953" y="597"/>
                </a:cubicBezTo>
                <a:cubicBezTo>
                  <a:pt x="1036" y="801"/>
                  <a:pt x="1089" y="1202"/>
                  <a:pt x="1089" y="1323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588000" y="1915920"/>
            <a:ext cx="1513080" cy="38178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24720" y="3500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16400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06000" y="35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3780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414972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366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 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68360" y="4653000"/>
            <a:ext cx="863640" cy="1152360"/>
          </a:xfrm>
          <a:custGeom>
            <a:avLst/>
            <a:gdLst/>
            <a:ahLst/>
            <a:rect l="l" t="t" r="r" b="b"/>
            <a:pathLst>
              <a:path w="453" h="726">
                <a:moveTo>
                  <a:pt x="0" y="726"/>
                </a:moveTo>
                <a:cubicBezTo>
                  <a:pt x="30" y="605"/>
                  <a:pt x="61" y="484"/>
                  <a:pt x="136" y="363"/>
                </a:cubicBezTo>
                <a:cubicBezTo>
                  <a:pt x="211" y="242"/>
                  <a:pt x="370" y="23"/>
                  <a:pt x="453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03280" y="4869000"/>
            <a:ext cx="576360" cy="936360"/>
          </a:xfrm>
          <a:custGeom>
            <a:avLst/>
            <a:gdLst/>
            <a:ahLst/>
            <a:rect l="l" t="t" r="r" b="b"/>
            <a:pathLst>
              <a:path w="363" h="590">
                <a:moveTo>
                  <a:pt x="0" y="590"/>
                </a:moveTo>
                <a:cubicBezTo>
                  <a:pt x="15" y="480"/>
                  <a:pt x="31" y="370"/>
                  <a:pt x="91" y="272"/>
                </a:cubicBezTo>
                <a:cubicBezTo>
                  <a:pt x="151" y="174"/>
                  <a:pt x="257" y="87"/>
                  <a:pt x="363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403280" y="4941360"/>
            <a:ext cx="432000" cy="86364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00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722000" y="58244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33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iento no drenado en suelo fino (limo – arcil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33600" y="1216080"/>
            <a:ext cx="49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. Consolidado : se diseña con no-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.    Consolidado : se diseña con dre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742880" y="1268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1042920" y="90756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587700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180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88688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92360" y="1989000"/>
            <a:ext cx="6408720" cy="3384720"/>
          </a:xfrm>
          <a:custGeom>
            <a:avLst/>
            <a:gdLst/>
            <a:ahLst/>
            <a:rect l="l" t="t" r="r" b="b"/>
            <a:pathLst>
              <a:path w="3130" h="1633">
                <a:moveTo>
                  <a:pt x="0" y="0"/>
                </a:moveTo>
                <a:cubicBezTo>
                  <a:pt x="102" y="385"/>
                  <a:pt x="204" y="771"/>
                  <a:pt x="726" y="1043"/>
                </a:cubicBezTo>
                <a:cubicBezTo>
                  <a:pt x="1248" y="1315"/>
                  <a:pt x="2189" y="1474"/>
                  <a:pt x="3130" y="1633"/>
                </a:cubicBezTo>
              </a:path>
            </a:pathLst>
          </a:custGeom>
          <a:noFill/>
          <a:ln w="28440">
            <a:solidFill>
              <a:srgbClr val="808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98520" y="4797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12000" y="4292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995280" y="4365720"/>
            <a:ext cx="20163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34880" y="5300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79640" y="443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 consol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98120" y="3789360"/>
            <a:ext cx="28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mente consoli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84360" y="4076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56000" y="4149720"/>
            <a:ext cx="576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" y="3333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rtamiento no drenado en ar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64000" y="3357720"/>
            <a:ext cx="3313080" cy="1223640"/>
          </a:xfrm>
          <a:custGeom>
            <a:avLst/>
            <a:gdLst/>
            <a:ahLst/>
            <a:rect l="l" t="t" r="r" b="b"/>
            <a:pathLst>
              <a:path w="1950" h="725">
                <a:moveTo>
                  <a:pt x="0" y="0"/>
                </a:moveTo>
                <a:cubicBezTo>
                  <a:pt x="177" y="121"/>
                  <a:pt x="355" y="242"/>
                  <a:pt x="680" y="363"/>
                </a:cubicBezTo>
                <a:cubicBezTo>
                  <a:pt x="1005" y="484"/>
                  <a:pt x="1799" y="657"/>
                  <a:pt x="1950" y="725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8000" y="3933720"/>
            <a:ext cx="4896000" cy="647640"/>
          </a:xfrm>
          <a:custGeom>
            <a:avLst/>
            <a:gdLst/>
            <a:ahLst/>
            <a:rect l="l" t="t" r="r" b="b"/>
            <a:pathLst>
              <a:path w="2993" h="408">
                <a:moveTo>
                  <a:pt x="2993" y="408"/>
                </a:moveTo>
                <a:cubicBezTo>
                  <a:pt x="2683" y="396"/>
                  <a:pt x="2373" y="385"/>
                  <a:pt x="2041" y="362"/>
                </a:cubicBezTo>
                <a:cubicBezTo>
                  <a:pt x="1709" y="339"/>
                  <a:pt x="1338" y="332"/>
                  <a:pt x="998" y="272"/>
                </a:cubicBezTo>
                <a:cubicBezTo>
                  <a:pt x="658" y="212"/>
                  <a:pt x="166" y="38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02:35:59Z</dcterms:created>
  <dc:creator>karem</dc:creator>
  <dc:description/>
  <dc:language>en-US</dc:language>
  <cp:lastModifiedBy>SOLIDOS-09</cp:lastModifiedBy>
  <dcterms:modified xsi:type="dcterms:W3CDTF">2005-08-17T19:07:31Z</dcterms:modified>
  <cp:revision>5</cp:revision>
  <dc:subject/>
  <dc:title>Diapositiva 1</dc:title>
</cp:coreProperties>
</file>