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3D2-51ED-4E1B-B394-AB7820F9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5B4-D53B-4C53-95E2-F8CEA092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81D-C8B8-4032-B280-7C443339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ADF-63AF-42FE-AA7C-6DEA984E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C31-8100-45AD-B6CB-BBF6F237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921-3B2E-4BE6-B040-B44CE817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B7D-284C-4122-84FA-8C34920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965-0FC4-4947-868E-255860C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1CB-7EDB-4DBA-BCEE-965F95FC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1D6-B292-4DFD-B5F7-6A6E4E4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E37-6906-440E-A598-86449FB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32A-E2E1-4461-AA49-18CA45D9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0C8-A368-437F-BD76-FD290F0B4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6840" y="1341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403280" y="83628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292428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32000" y="371808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805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6000" y="49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1872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3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780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872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005360"/>
            <a:ext cx="3097440" cy="1368360"/>
          </a:xfrm>
          <a:custGeom>
            <a:avLst/>
            <a:gdLst/>
            <a:ahLst/>
            <a:rect l="l" t="t" r="r" b="b"/>
            <a:pathLst>
              <a:path w="1951" h="862">
                <a:moveTo>
                  <a:pt x="0" y="0"/>
                </a:moveTo>
                <a:cubicBezTo>
                  <a:pt x="110" y="223"/>
                  <a:pt x="220" y="446"/>
                  <a:pt x="545" y="590"/>
                </a:cubicBezTo>
                <a:cubicBezTo>
                  <a:pt x="870" y="734"/>
                  <a:pt x="1410" y="798"/>
                  <a:pt x="1951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4292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869000"/>
            <a:ext cx="287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5157720"/>
            <a:ext cx="360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58920" y="400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2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56000" y="4437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8480" y="4005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4000" y="1628640"/>
            <a:ext cx="503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520" y="1364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4762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2708280"/>
            <a:ext cx="86364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2131920"/>
            <a:ext cx="5113440" cy="3168720"/>
          </a:xfrm>
          <a:custGeom>
            <a:avLst/>
            <a:gdLst/>
            <a:ahLst/>
            <a:rect l="l" t="t" r="r" b="b"/>
            <a:pathLst>
              <a:path w="3221" h="1996">
                <a:moveTo>
                  <a:pt x="0" y="1996"/>
                </a:moveTo>
                <a:cubicBezTo>
                  <a:pt x="95" y="1225"/>
                  <a:pt x="190" y="454"/>
                  <a:pt x="409" y="227"/>
                </a:cubicBezTo>
                <a:cubicBezTo>
                  <a:pt x="628" y="0"/>
                  <a:pt x="847" y="560"/>
                  <a:pt x="1316" y="636"/>
                </a:cubicBezTo>
                <a:cubicBezTo>
                  <a:pt x="1785" y="712"/>
                  <a:pt x="2888" y="681"/>
                  <a:pt x="3221" y="6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8120" y="83664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  (p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1280" y="1936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9600" y="2852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7080" y="2368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8000" y="3881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627280" y="3933360"/>
            <a:ext cx="936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627280" y="3573360"/>
            <a:ext cx="1081080" cy="2448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3640" y="3573360"/>
            <a:ext cx="144360" cy="36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324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983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3260880"/>
            <a:ext cx="5400720" cy="96012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989000"/>
            <a:ext cx="5472000" cy="131940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3800" y="1773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160" y="3573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0360" y="3016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03840" y="265572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las deformaciones volumétricas no sufren var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4564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419640" y="263700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580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0160" y="2133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8520" y="422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2637000"/>
            <a:ext cx="647640" cy="1008000"/>
          </a:xfrm>
          <a:custGeom>
            <a:avLst/>
            <a:gdLst/>
            <a:ahLst/>
            <a:rect l="l" t="t" r="r" b="b"/>
            <a:pathLst>
              <a:path w="408" h="680">
                <a:moveTo>
                  <a:pt x="0" y="0"/>
                </a:moveTo>
                <a:cubicBezTo>
                  <a:pt x="102" y="11"/>
                  <a:pt x="204" y="23"/>
                  <a:pt x="272" y="136"/>
                </a:cubicBezTo>
                <a:cubicBezTo>
                  <a:pt x="340" y="249"/>
                  <a:pt x="378" y="574"/>
                  <a:pt x="408" y="6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789360"/>
            <a:ext cx="792000" cy="719280"/>
          </a:xfrm>
          <a:custGeom>
            <a:avLst/>
            <a:gdLst/>
            <a:ahLst/>
            <a:rect l="l" t="t" r="r" b="b"/>
            <a:pathLst>
              <a:path w="507" h="506">
                <a:moveTo>
                  <a:pt x="0" y="370"/>
                </a:moveTo>
                <a:cubicBezTo>
                  <a:pt x="75" y="438"/>
                  <a:pt x="151" y="506"/>
                  <a:pt x="227" y="506"/>
                </a:cubicBezTo>
                <a:cubicBezTo>
                  <a:pt x="303" y="506"/>
                  <a:pt x="409" y="423"/>
                  <a:pt x="454" y="370"/>
                </a:cubicBezTo>
                <a:cubicBezTo>
                  <a:pt x="499" y="317"/>
                  <a:pt x="507" y="249"/>
                  <a:pt x="499" y="189"/>
                </a:cubicBezTo>
                <a:cubicBezTo>
                  <a:pt x="491" y="129"/>
                  <a:pt x="423" y="0"/>
                  <a:pt x="408" y="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6720" y="40464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270828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932000" y="2421000"/>
            <a:ext cx="360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219640" y="2205000"/>
            <a:ext cx="172872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00920" y="19368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16360" y="3716280"/>
            <a:ext cx="230328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50520" y="36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2781360"/>
            <a:ext cx="1224000" cy="1800000"/>
          </a:xfrm>
          <a:custGeom>
            <a:avLst/>
            <a:gdLst/>
            <a:ahLst/>
            <a:rect l="l" t="t" r="r" b="b"/>
            <a:pathLst>
              <a:path w="771" h="1134">
                <a:moveTo>
                  <a:pt x="0" y="1134"/>
                </a:moveTo>
                <a:cubicBezTo>
                  <a:pt x="18" y="990"/>
                  <a:pt x="37" y="847"/>
                  <a:pt x="90" y="726"/>
                </a:cubicBezTo>
                <a:cubicBezTo>
                  <a:pt x="143" y="605"/>
                  <a:pt x="203" y="529"/>
                  <a:pt x="317" y="408"/>
                </a:cubicBezTo>
                <a:cubicBezTo>
                  <a:pt x="431" y="287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066920" y="242100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3789360"/>
            <a:ext cx="43164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0" y="544"/>
                </a:moveTo>
                <a:cubicBezTo>
                  <a:pt x="22" y="431"/>
                  <a:pt x="45" y="318"/>
                  <a:pt x="90" y="227"/>
                </a:cubicBezTo>
                <a:cubicBezTo>
                  <a:pt x="135" y="136"/>
                  <a:pt x="212" y="30"/>
                  <a:pt x="27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85640" y="2365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6560" y="3878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094200"/>
            <a:ext cx="5041800" cy="22064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0" y="1390"/>
                </a:moveTo>
                <a:cubicBezTo>
                  <a:pt x="56" y="936"/>
                  <a:pt x="113" y="483"/>
                  <a:pt x="363" y="256"/>
                </a:cubicBezTo>
                <a:cubicBezTo>
                  <a:pt x="613" y="29"/>
                  <a:pt x="1028" y="60"/>
                  <a:pt x="1497" y="30"/>
                </a:cubicBezTo>
                <a:cubicBezTo>
                  <a:pt x="1966" y="0"/>
                  <a:pt x="2889" y="45"/>
                  <a:pt x="3176" y="75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258920" y="321300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29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98360" y="61135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3860640"/>
            <a:ext cx="1631880" cy="2160720"/>
          </a:xfrm>
          <a:custGeom>
            <a:avLst/>
            <a:gdLst/>
            <a:ahLst/>
            <a:rect l="l" t="t" r="r" b="b"/>
            <a:pathLst>
              <a:path w="1028" h="1361">
                <a:moveTo>
                  <a:pt x="302" y="1361"/>
                </a:moveTo>
                <a:cubicBezTo>
                  <a:pt x="151" y="1043"/>
                  <a:pt x="0" y="726"/>
                  <a:pt x="121" y="499"/>
                </a:cubicBezTo>
                <a:cubicBezTo>
                  <a:pt x="242" y="272"/>
                  <a:pt x="816" y="83"/>
                  <a:pt x="1028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2652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3765600"/>
            <a:ext cx="2473560" cy="2255760"/>
          </a:xfrm>
          <a:custGeom>
            <a:avLst/>
            <a:gdLst/>
            <a:ahLst/>
            <a:rect l="l" t="t" r="r" b="b"/>
            <a:pathLst>
              <a:path w="1558" h="1421">
                <a:moveTo>
                  <a:pt x="1452" y="1421"/>
                </a:moveTo>
                <a:cubicBezTo>
                  <a:pt x="1505" y="1035"/>
                  <a:pt x="1558" y="650"/>
                  <a:pt x="1497" y="423"/>
                </a:cubicBezTo>
                <a:cubicBezTo>
                  <a:pt x="1436" y="196"/>
                  <a:pt x="1338" y="120"/>
                  <a:pt x="1089" y="60"/>
                </a:cubicBezTo>
                <a:cubicBezTo>
                  <a:pt x="840" y="0"/>
                  <a:pt x="181" y="60"/>
                  <a:pt x="0" y="6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80720" y="4005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1080" y="3573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378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187280" y="3860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3645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30520" y="2852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inicial = 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2655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2846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8000" y="5084640"/>
            <a:ext cx="7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800" y="306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2781360"/>
            <a:ext cx="5400720" cy="96048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3284640"/>
            <a:ext cx="5472000" cy="131904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9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29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8360" y="981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5240" y="256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3816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64320" y="26028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80536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0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3800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42920" y="1988640"/>
            <a:ext cx="5545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340000" y="4292640"/>
            <a:ext cx="936720" cy="1512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48000" y="3141360"/>
            <a:ext cx="1511280" cy="2663640"/>
          </a:xfrm>
          <a:prstGeom prst="line">
            <a:avLst/>
          </a:prstGeom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284720" y="2060640"/>
            <a:ext cx="2158920" cy="3744720"/>
          </a:xfrm>
          <a:prstGeom prst="line">
            <a:avLst/>
          </a:prstGeom>
          <a:ln w="381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1800" y="3571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2108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3080" y="366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4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944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9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7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86360" y="37116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2520" y="278136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8160" y="17002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46000" y="5608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8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3564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95240" y="2924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98160" y="422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37162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37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1080" y="3500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760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888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9488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08720" y="364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380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800" y="33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37162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211280" y="3716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17800" y="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76160" y="4503600"/>
            <a:ext cx="504036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616880" y="6868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720880" y="255888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572000" y="1052640"/>
            <a:ext cx="3044880" cy="34509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9800" y="836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99600" y="5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705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4520" y="98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68520" y="306216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3960" y="55119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43640" y="1557360"/>
            <a:ext cx="36360" cy="374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63280" y="189000"/>
            <a:ext cx="71640" cy="36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763280" y="3860640"/>
            <a:ext cx="3708360" cy="144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835280" y="188640"/>
            <a:ext cx="3744720" cy="1439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04920" y="53211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788000" y="4220640"/>
            <a:ext cx="208908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19640" y="3715920"/>
            <a:ext cx="22320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06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380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4140360" y="4797360"/>
            <a:ext cx="576000" cy="21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4508640"/>
            <a:ext cx="720720" cy="288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789360"/>
            <a:ext cx="900000" cy="122400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357336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37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7240" y="3500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2997360"/>
            <a:ext cx="900360" cy="122364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0000" y="285264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588000" y="1413000"/>
            <a:ext cx="11527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98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no -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877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4320" y="18900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0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781360"/>
            <a:ext cx="4968720" cy="259236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7080" y="5248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2924280"/>
            <a:ext cx="5113440" cy="949320"/>
          </a:xfrm>
          <a:custGeom>
            <a:avLst/>
            <a:gdLst/>
            <a:ahLst/>
            <a:rect l="l" t="t" r="r" b="b"/>
            <a:pathLst>
              <a:path w="3221" h="598">
                <a:moveTo>
                  <a:pt x="0" y="0"/>
                </a:moveTo>
                <a:cubicBezTo>
                  <a:pt x="227" y="91"/>
                  <a:pt x="454" y="182"/>
                  <a:pt x="862" y="273"/>
                </a:cubicBezTo>
                <a:cubicBezTo>
                  <a:pt x="1270" y="364"/>
                  <a:pt x="2056" y="492"/>
                  <a:pt x="2449" y="545"/>
                </a:cubicBezTo>
                <a:cubicBezTo>
                  <a:pt x="2842" y="598"/>
                  <a:pt x="3031" y="594"/>
                  <a:pt x="3221" y="590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859280" y="2852640"/>
            <a:ext cx="9208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4280" y="24210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429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321300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3500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3716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7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3573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789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501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530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22936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65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580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5440" y="58770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>
            <a:off x="1187280" y="140652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0879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422520"/>
            <a:ext cx="381636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213000"/>
            <a:ext cx="3743640" cy="115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7440" y="119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6520" y="63752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( p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9440" y="55119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4076640"/>
            <a:ext cx="19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35672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3567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6000" y="33735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2160" y="4292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11640" y="4292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115640" y="3357720"/>
            <a:ext cx="165564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357720"/>
            <a:ext cx="0" cy="273528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14972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160" y="299736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160" y="37893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3080" y="609300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9440" y="6093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88920" y="6516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Y CURVA ISOTROPA EN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4520" y="1916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112536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g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520" y="1844640"/>
            <a:ext cx="25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og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1403280" y="4568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42735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403280" y="817560"/>
            <a:ext cx="5040360" cy="295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27608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84720" y="21128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7280" y="33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8520" y="26028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EN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37280" y="220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2160" y="384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8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7800" y="1989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 = M*p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9280" y="5229360"/>
                <a:ext cx="2232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229360"/>
                <a:ext cx="21794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971640" y="105264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95008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71640" y="2349360"/>
            <a:ext cx="568800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03080" y="2152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" y="7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1080" y="5969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421000"/>
            <a:ext cx="2519280" cy="3529080"/>
          </a:xfrm>
          <a:custGeom>
            <a:avLst/>
            <a:gdLst/>
            <a:ahLst/>
            <a:rect l="l" t="t" r="r" b="b"/>
            <a:pathLst>
              <a:path w="1587" h="2223">
                <a:moveTo>
                  <a:pt x="0" y="2223"/>
                </a:moveTo>
                <a:cubicBezTo>
                  <a:pt x="113" y="1792"/>
                  <a:pt x="227" y="1361"/>
                  <a:pt x="363" y="1043"/>
                </a:cubicBezTo>
                <a:cubicBezTo>
                  <a:pt x="499" y="725"/>
                  <a:pt x="612" y="491"/>
                  <a:pt x="816" y="317"/>
                </a:cubicBezTo>
                <a:cubicBezTo>
                  <a:pt x="1020" y="143"/>
                  <a:pt x="1303" y="71"/>
                  <a:pt x="1587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0" y="3284640"/>
            <a:ext cx="1908360" cy="2665440"/>
          </a:xfrm>
          <a:custGeom>
            <a:avLst/>
            <a:gdLst/>
            <a:ahLst/>
            <a:rect l="l" t="t" r="r" b="b"/>
            <a:pathLst>
              <a:path w="1202" h="1679">
                <a:moveTo>
                  <a:pt x="431" y="1679"/>
                </a:moveTo>
                <a:cubicBezTo>
                  <a:pt x="393" y="1414"/>
                  <a:pt x="355" y="1149"/>
                  <a:pt x="295" y="998"/>
                </a:cubicBezTo>
                <a:cubicBezTo>
                  <a:pt x="235" y="847"/>
                  <a:pt x="98" y="847"/>
                  <a:pt x="68" y="771"/>
                </a:cubicBezTo>
                <a:cubicBezTo>
                  <a:pt x="38" y="695"/>
                  <a:pt x="0" y="643"/>
                  <a:pt x="113" y="545"/>
                </a:cubicBezTo>
                <a:cubicBezTo>
                  <a:pt x="226" y="447"/>
                  <a:pt x="567" y="273"/>
                  <a:pt x="748" y="182"/>
                </a:cubicBezTo>
                <a:cubicBezTo>
                  <a:pt x="929" y="91"/>
                  <a:pt x="1111" y="23"/>
                  <a:pt x="120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894200"/>
            <a:ext cx="2089080" cy="1055880"/>
          </a:xfrm>
          <a:custGeom>
            <a:avLst/>
            <a:gdLst/>
            <a:ahLst/>
            <a:rect l="l" t="t" r="r" b="b"/>
            <a:pathLst>
              <a:path w="1316" h="665">
                <a:moveTo>
                  <a:pt x="1316" y="665"/>
                </a:moveTo>
                <a:cubicBezTo>
                  <a:pt x="1304" y="445"/>
                  <a:pt x="1293" y="226"/>
                  <a:pt x="1180" y="120"/>
                </a:cubicBezTo>
                <a:cubicBezTo>
                  <a:pt x="1067" y="14"/>
                  <a:pt x="832" y="0"/>
                  <a:pt x="635" y="30"/>
                </a:cubicBezTo>
                <a:cubicBezTo>
                  <a:pt x="438" y="60"/>
                  <a:pt x="219" y="181"/>
                  <a:pt x="0" y="30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000" y="2152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7240" y="3068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6360" y="5176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24360" y="2708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26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7640" y="270828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3960" y="4437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852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58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653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300640"/>
            <a:ext cx="360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V="1">
            <a:off x="1187280" y="836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58053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187280" y="1483920"/>
            <a:ext cx="763272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116000" y="4581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581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5950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000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4680" y="6021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9960" y="602136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352760"/>
            <a:ext cx="1800000" cy="1452600"/>
          </a:xfrm>
          <a:custGeom>
            <a:avLst/>
            <a:gdLst/>
            <a:ahLst/>
            <a:rect l="l" t="t" r="r" b="b"/>
            <a:pathLst>
              <a:path w="1134" h="915">
                <a:moveTo>
                  <a:pt x="0" y="8"/>
                </a:moveTo>
                <a:cubicBezTo>
                  <a:pt x="238" y="4"/>
                  <a:pt x="476" y="0"/>
                  <a:pt x="635" y="53"/>
                </a:cubicBezTo>
                <a:cubicBezTo>
                  <a:pt x="794" y="106"/>
                  <a:pt x="870" y="181"/>
                  <a:pt x="953" y="325"/>
                </a:cubicBezTo>
                <a:cubicBezTo>
                  <a:pt x="1036" y="469"/>
                  <a:pt x="1074" y="824"/>
                  <a:pt x="1134" y="915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705120"/>
            <a:ext cx="1728720" cy="2100240"/>
          </a:xfrm>
          <a:custGeom>
            <a:avLst/>
            <a:gdLst/>
            <a:ahLst/>
            <a:rect l="l" t="t" r="r" b="b"/>
            <a:pathLst>
              <a:path w="1089" h="1323">
                <a:moveTo>
                  <a:pt x="0" y="7"/>
                </a:moveTo>
                <a:cubicBezTo>
                  <a:pt x="215" y="3"/>
                  <a:pt x="431" y="0"/>
                  <a:pt x="590" y="98"/>
                </a:cubicBezTo>
                <a:cubicBezTo>
                  <a:pt x="749" y="196"/>
                  <a:pt x="870" y="393"/>
                  <a:pt x="953" y="597"/>
                </a:cubicBezTo>
                <a:cubicBezTo>
                  <a:pt x="1036" y="801"/>
                  <a:pt x="1089" y="1202"/>
                  <a:pt x="1089" y="1323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588000" y="1915920"/>
            <a:ext cx="1513080" cy="381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400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0600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780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4149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66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653000"/>
            <a:ext cx="863640" cy="1152360"/>
          </a:xfrm>
          <a:custGeom>
            <a:avLst/>
            <a:gdLst/>
            <a:ahLst/>
            <a:rect l="l" t="t" r="r" b="b"/>
            <a:pathLst>
              <a:path w="453" h="726">
                <a:moveTo>
                  <a:pt x="0" y="726"/>
                </a:moveTo>
                <a:cubicBezTo>
                  <a:pt x="30" y="605"/>
                  <a:pt x="61" y="484"/>
                  <a:pt x="136" y="363"/>
                </a:cubicBezTo>
                <a:cubicBezTo>
                  <a:pt x="211" y="242"/>
                  <a:pt x="370" y="23"/>
                  <a:pt x="45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869000"/>
            <a:ext cx="576360" cy="93636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0" y="590"/>
                </a:moveTo>
                <a:cubicBezTo>
                  <a:pt x="15" y="480"/>
                  <a:pt x="31" y="370"/>
                  <a:pt x="91" y="272"/>
                </a:cubicBezTo>
                <a:cubicBezTo>
                  <a:pt x="151" y="174"/>
                  <a:pt x="257" y="87"/>
                  <a:pt x="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03280" y="4941360"/>
            <a:ext cx="432000" cy="863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22000" y="58244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suelo fino (limo – ar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33600" y="121608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. Consolidado : se diseña con no-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.    Consolidado : se diseña con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2880" y="126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95280" y="436572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8120" y="3789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14972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64000" y="3357720"/>
            <a:ext cx="3313080" cy="1223640"/>
          </a:xfrm>
          <a:custGeom>
            <a:avLst/>
            <a:gdLst/>
            <a:ahLst/>
            <a:rect l="l" t="t" r="r" b="b"/>
            <a:pathLst>
              <a:path w="1950" h="725">
                <a:moveTo>
                  <a:pt x="0" y="0"/>
                </a:moveTo>
                <a:cubicBezTo>
                  <a:pt x="177" y="121"/>
                  <a:pt x="355" y="242"/>
                  <a:pt x="680" y="363"/>
                </a:cubicBezTo>
                <a:cubicBezTo>
                  <a:pt x="1005" y="484"/>
                  <a:pt x="1799" y="657"/>
                  <a:pt x="1950" y="725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933720"/>
            <a:ext cx="489600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93" y="408"/>
                </a:moveTo>
                <a:cubicBezTo>
                  <a:pt x="2683" y="396"/>
                  <a:pt x="2373" y="385"/>
                  <a:pt x="2041" y="362"/>
                </a:cubicBezTo>
                <a:cubicBezTo>
                  <a:pt x="1709" y="339"/>
                  <a:pt x="1338" y="332"/>
                  <a:pt x="998" y="272"/>
                </a:cubicBezTo>
                <a:cubicBezTo>
                  <a:pt x="658" y="212"/>
                  <a:pt x="166" y="3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35:59Z</dcterms:created>
  <dc:creator>karem</dc:creator>
  <dc:description/>
  <dc:language>en-US</dc:language>
  <cp:lastModifiedBy>SOLIDOS-09</cp:lastModifiedBy>
  <dcterms:modified xsi:type="dcterms:W3CDTF">2005-08-17T19:07:31Z</dcterms:modified>
  <cp:revision>5</cp:revision>
  <dc:subject/>
  <dc:title>Diapositiva 1</dc:title>
</cp:coreProperties>
</file>