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412-B107-49F9-918D-CF6EB52A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596-4E7F-4543-8180-95CB3BF7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122-3DFE-40CB-93B6-B923DDE7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B5E-FD9F-419F-9EDE-1C514ABA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C41-807B-4316-8813-3D5E2E79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A44-B95C-41B8-8F51-04AE4019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B6C-7FAF-472F-9F19-F2F214F7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B01-DB3D-468F-8594-E86F324E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835-9A6F-44C9-B3A7-3FAD0918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9CC-A9D3-40C6-BC22-391B737B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CBD-7926-45E8-B3CA-2AAB5B01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822-EB7C-4307-B596-7E825E74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FE60-E6AA-4035-AE54-253B04156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269160"/>
            <a:ext cx="8686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2: vehículos que transportan producto 1 a la ide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2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85800"/>
            <a:ext cx="79246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188880" y="4561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880920"/>
            <a:ext cx="83055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rvicio de buses expreso tipo metro desde Paradero 14 Vicuña Mackenna hasta plaza Puente Alto. Con pago extra-veh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manda {pax/min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-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2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ojas Magalla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9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briel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4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ospita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uente Al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58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= 85 pax. sentados + 65 pax. de pie. Tiempo de viaje entre tramos: 8min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+: 9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: 12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. Parada de 3 min en terminales (Metro, P. Alto) para arqu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cular frecuencia para operar a un 85% de la capacidad en el tramo más cargado. Calcular el tamaño de la fl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66680" y="1752480"/>
                <a:ext cx="60134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286000" y="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mplo sistema cíclico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443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04920" y="3826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capacidad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m</cp:lastModifiedBy>
  <dcterms:modified xsi:type="dcterms:W3CDTF">2005-11-14T14:23:19Z</dcterms:modified>
  <cp:revision>39</cp:revision>
  <dc:subject/>
  <dc:title>Sin título de diapositiva</dc:title>
</cp:coreProperties>
</file>