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B17-C554-44C6-8140-0E88E05B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DB9-FD3B-42F8-9E0E-CC25272F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83A-27A7-4AAC-B40A-8CAE72DD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624-83FC-4CA6-A455-DAB7A097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71B-8839-4F14-9894-E567B0A4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711-11C0-4343-BC17-556D73D3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AE9-8C5C-4B06-BBB0-A89DA889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DDD-0514-4300-9E47-8E4540E0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BA0-F69D-4FD8-9AD5-42293E86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5FB-48D9-42FE-AE72-D8D3A036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2A9-CF2E-4998-B2F2-6264988F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133-CEBA-4ED9-A607-AF2213C4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50DF-2666-4F4F-9C0A-DA382E621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85800"/>
            <a:ext cx="79246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 Con pago extra-veh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Parada de 3 min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1752480"/>
                <a:ext cx="601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286000" y="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sistema cíclic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1-14T14:23:19Z</dcterms:modified>
  <cp:revision>39</cp:revision>
  <dc:subject/>
  <dc:title>Sin título de diapositiva</dc:title>
</cp:coreProperties>
</file>