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92D-DF4F-4F0F-84D4-6105A937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148-D1F7-48E4-BA21-318907FE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DBF-545D-42EC-BCF2-394BBB27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A37-5E01-4C1D-84BA-F328449D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8C8-F8FD-437F-8344-B68940D7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7BF-5D5E-4CBF-B461-ACC71217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F1F-3E26-4160-B3CF-2FA4BC39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318-2F5E-46AE-BCF2-640612AE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38A-5CEE-49FC-ABD7-5C37D21A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46C-C583-4E97-BFA9-8E7E355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6A3-E01E-40DD-BBFC-07696CF4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D91-C0A0-4742-9C64-98086181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F21-3FC0-4E2B-879A-4F18D0C7AD6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m</cp:lastModifiedBy>
  <dcterms:modified xsi:type="dcterms:W3CDTF">2005-10-28T15:40:35Z</dcterms:modified>
  <cp:revision>16</cp:revision>
  <dc:subject/>
  <dc:title>Sin título de diapositiva</dc:title>
</cp:coreProperties>
</file>