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B41-2237-41E3-AF92-1F26C1E2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3B6-A407-452D-A253-DD684A0B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3FE-77A5-4712-95F8-64BFC196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7B6-D4B2-4374-AC07-BC827352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45C-97DB-4478-874F-4FDCEBBE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981-2D7A-49E5-82CA-D2B651B5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BC6-226C-40C5-974F-3D945675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7DD-DD0D-40A0-B84B-D73C1E89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06B-53FD-48DF-B6D3-C22064C2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E00-A74C-4DE6-A4C0-0EB09B1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59C-41B5-4BEE-9CBB-DCCAB944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335-2382-4F41-AB16-D0D8DCCA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51A6-0399-4EF1-9B00-70AC05C7E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las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1720" y="1205280"/>
            <a:ext cx="2040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las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las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las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1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5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9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457200" y="1447920"/>
                <a:ext cx="1974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533520" y="2057400"/>
                <a:ext cx="12636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3" name=""/>
          <p:cNvSpPr/>
          <p:nvPr/>
        </p:nvSpPr>
        <p:spPr>
          <a:xfrm>
            <a:off x="2666880" y="16747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E que reproduzca el estado de equilibrio en la red y además el equilibr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762120" y="3200400"/>
                <a:ext cx="81612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33520" y="1828800"/>
                <a:ext cx="80769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592200" y="3352680"/>
                <a:ext cx="13669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1981080" y="3505320"/>
                <a:ext cx="18417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3733920" y="3505320"/>
                <a:ext cx="98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0" name=""/>
          <p:cNvSpPr/>
          <p:nvPr/>
        </p:nvSpPr>
        <p:spPr>
          <a:xfrm>
            <a:off x="4876920" y="3048120"/>
            <a:ext cx="533160" cy="1752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421600" y="3093840"/>
            <a:ext cx="209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 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56080" y="408456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6240" y="49518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i existe flujo en el par ij ento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04920" y="5562720"/>
                <a:ext cx="281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3581280" y="5562720"/>
                <a:ext cx="19051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6229440" y="5562720"/>
                <a:ext cx="1789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4589280" y="6247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Costo del par 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6477120" y="6019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m</cp:lastModifiedBy>
  <dcterms:modified xsi:type="dcterms:W3CDTF">2005-10-28T15:31:16Z</dcterms:modified>
  <cp:revision>102</cp:revision>
  <dc:subject/>
  <dc:title>Sin título de diapositiva</dc:title>
</cp:coreProperties>
</file>