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29.xlsx" ContentType="application/vnd.openxmlformats-officedocument.spreadsheetml.sheet"/>
  <Override PartName="/ppt/embeddings/oleObject28.xlsx" ContentType="application/vnd.openxmlformats-officedocument.spreadsheetml.sheet"/>
  <Override PartName="/ppt/embeddings/oleObject27.xlsx" ContentType="application/vnd.openxmlformats-officedocument.spreadsheetml.sheet"/>
  <Override PartName="/ppt/embeddings/oleObject26.xlsx" ContentType="application/vnd.openxmlformats-officedocument.spreadsheetml.sheet"/>
  <Override PartName="/ppt/embeddings/oleObject25.xlsx" ContentType="application/vnd.openxmlformats-officedocument.spreadsheetml.sheet"/>
  <Override PartName="/ppt/embeddings/oleObject24.xlsx" ContentType="application/vnd.openxmlformats-officedocument.spreadsheetml.sheet"/>
  <Override PartName="/ppt/embeddings/oleObject10.xlsx" ContentType="application/vnd.openxmlformats-officedocument.spreadsheetml.sheet"/>
  <Override PartName="/ppt/embeddings/oleObject30.xlsx" ContentType="application/vnd.openxmlformats-officedocument.spreadsheetml.sheet"/>
  <Override PartName="/ppt/embeddings/oleObject3.xlsx" ContentType="application/vnd.openxmlformats-officedocument.spreadsheetml.sheet"/>
  <Override PartName="/ppt/embeddings/oleObject11.xlsx" ContentType="application/vnd.openxmlformats-officedocument.spreadsheetml.sheet"/>
  <Override PartName="/ppt/embeddings/oleObject31.xlsx" ContentType="application/vnd.openxmlformats-officedocument.spreadsheetml.sheet"/>
  <Override PartName="/ppt/embeddings/oleObject4.xlsx" ContentType="application/vnd.openxmlformats-officedocument.spreadsheetml.sheet"/>
  <Override PartName="/ppt/embeddings/oleObject12.xlsx" ContentType="application/vnd.openxmlformats-officedocument.spreadsheetml.sheet"/>
  <Override PartName="/ppt/embeddings/oleObject5.xlsx" ContentType="application/vnd.openxmlformats-officedocument.spreadsheetml.sheet"/>
  <Override PartName="/ppt/embeddings/oleObject32.xlsx" ContentType="application/vnd.openxmlformats-officedocument.spreadsheetml.sheet"/>
  <Override PartName="/ppt/embeddings/oleObject17.xlsx" ContentType="application/vnd.openxmlformats-officedocument.spreadsheetml.sheet"/>
  <Override PartName="/ppt/embeddings/oleObject13.xlsx" ContentType="application/vnd.openxmlformats-officedocument.spreadsheetml.sheet"/>
  <Override PartName="/ppt/embeddings/oleObject6.xlsx" ContentType="application/vnd.openxmlformats-officedocument.spreadsheetml.sheet"/>
  <Override PartName="/ppt/embeddings/oleObject33.xlsx" ContentType="application/vnd.openxmlformats-officedocument.spreadsheetml.sheet"/>
  <Override PartName="/ppt/embeddings/oleObject9.xlsx" ContentType="application/vnd.openxmlformats-officedocument.spreadsheetml.sheet"/>
  <Override PartName="/ppt/embeddings/oleObject16.xlsx" ContentType="application/vnd.openxmlformats-officedocument.spreadsheetml.sheet"/>
  <Override PartName="/ppt/embeddings/oleObject35.xlsx" ContentType="application/vnd.openxmlformats-officedocument.spreadsheetml.sheet"/>
  <Override PartName="/ppt/embeddings/oleObject8.xlsx" ContentType="application/vnd.openxmlformats-officedocument.spreadsheetml.sheet"/>
  <Override PartName="/ppt/embeddings/oleObject15.xlsx" ContentType="application/vnd.openxmlformats-officedocument.spreadsheetml.sheet"/>
  <Override PartName="/ppt/embeddings/oleObject19.xlsx" ContentType="application/vnd.openxmlformats-officedocument.spreadsheetml.sheet"/>
  <Override PartName="/ppt/embeddings/oleObject2.xlsx" ContentType="application/vnd.openxmlformats-officedocument.spreadsheetml.sheet"/>
  <Override PartName="/ppt/embeddings/oleObject34.xlsx" ContentType="application/vnd.openxmlformats-officedocument.spreadsheetml.sheet"/>
  <Override PartName="/ppt/embeddings/oleObject7.xlsx" ContentType="application/vnd.openxmlformats-officedocument.spreadsheetml.sheet"/>
  <Override PartName="/ppt/embeddings/oleObject14.xlsx" ContentType="application/vnd.openxmlformats-officedocument.spreadsheetml.sheet"/>
  <Override PartName="/ppt/embeddings/oleObject18.xlsx" ContentType="application/vnd.openxmlformats-officedocument.spreadsheetml.sheet"/>
  <Override PartName="/ppt/embeddings/oleObject20.xlsx" ContentType="application/vnd.openxmlformats-officedocument.spreadsheetml.sheet"/>
  <Override PartName="/ppt/embeddings/oleObject1.xlsx" ContentType="application/vnd.openxmlformats-officedocument.spreadsheetml.sheet"/>
  <Override PartName="/ppt/embeddings/oleObject21.xlsx" ContentType="application/vnd.openxmlformats-officedocument.spreadsheetml.sheet"/>
  <Override PartName="/ppt/embeddings/oleObject22.xlsx" ContentType="application/vnd.openxmlformats-officedocument.spreadsheetml.sheet"/>
  <Override PartName="/ppt/embeddings/oleObject23.xlsx" ContentType="application/vnd.openxmlformats-officedocument.spreadsheetml.shee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0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30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26FA-BD8B-47C4-B90D-633FFE4A8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E615-9243-4DF9-820C-1B3775544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101E-6DAC-4D7A-8F03-0A1977A43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81B3-2375-4366-83E4-F6432CC82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D6FF-4FF1-4FFB-9BCE-03D11067A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BCE2-10DB-4B68-B783-8490460DC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C542-3850-4C37-BAF7-197726982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5BBD-6C4F-469A-A950-56B7BAA3C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5EFD-1232-4A2F-A016-FDAFBC04D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D149-1EBB-464C-BFC0-72A42044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F276-8267-4B84-933C-4F9B9B46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619B-10DC-4670-873F-F5492F92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98488-5F26-49F5-9C21-4D98878E68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6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7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8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9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0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1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2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3.wmf"/><Relationship Id="rId21" Type="http://schemas.openxmlformats.org/officeDocument/2006/relationships/package" Target="../embeddings/oleObject11.xlsx"/><Relationship Id="rId22" Type="http://schemas.openxmlformats.org/officeDocument/2006/relationships/image" Target="../media/image14.wmf"/><Relationship Id="rId23" Type="http://schemas.openxmlformats.org/officeDocument/2006/relationships/package" Target="../embeddings/oleObject12.xlsx"/><Relationship Id="rId24" Type="http://schemas.openxmlformats.org/officeDocument/2006/relationships/image" Target="../media/image15.wmf"/><Relationship Id="rId25" Type="http://schemas.openxmlformats.org/officeDocument/2006/relationships/package" Target="../embeddings/oleObject13.xlsx"/><Relationship Id="rId26" Type="http://schemas.openxmlformats.org/officeDocument/2006/relationships/image" Target="../media/image16.wmf"/><Relationship Id="rId27" Type="http://schemas.openxmlformats.org/officeDocument/2006/relationships/package" Target="../embeddings/oleObject14.xlsx"/><Relationship Id="rId28" Type="http://schemas.openxmlformats.org/officeDocument/2006/relationships/image" Target="../media/image17.wmf"/><Relationship Id="rId29" Type="http://schemas.openxmlformats.org/officeDocument/2006/relationships/package" Target="../embeddings/oleObject15.xlsx"/><Relationship Id="rId30" Type="http://schemas.openxmlformats.org/officeDocument/2006/relationships/image" Target="../media/image18.wmf"/><Relationship Id="rId31" Type="http://schemas.openxmlformats.org/officeDocument/2006/relationships/package" Target="../embeddings/oleObject16.xlsx"/><Relationship Id="rId32" Type="http://schemas.openxmlformats.org/officeDocument/2006/relationships/image" Target="../media/image19.wmf"/><Relationship Id="rId33" Type="http://schemas.openxmlformats.org/officeDocument/2006/relationships/package" Target="../embeddings/oleObject17.xlsx"/><Relationship Id="rId34" Type="http://schemas.openxmlformats.org/officeDocument/2006/relationships/image" Target="../media/image20.wmf"/><Relationship Id="rId35" Type="http://schemas.openxmlformats.org/officeDocument/2006/relationships/package" Target="../embeddings/oleObject18.xlsx"/><Relationship Id="rId36" Type="http://schemas.openxmlformats.org/officeDocument/2006/relationships/image" Target="../media/image21.wmf"/><Relationship Id="rId37" Type="http://schemas.openxmlformats.org/officeDocument/2006/relationships/package" Target="../embeddings/oleObject19.xlsx"/><Relationship Id="rId38" Type="http://schemas.openxmlformats.org/officeDocument/2006/relationships/image" Target="../media/image22.wmf"/><Relationship Id="rId39" Type="http://schemas.openxmlformats.org/officeDocument/2006/relationships/package" Target="../embeddings/oleObject20.xlsx"/><Relationship Id="rId40" Type="http://schemas.openxmlformats.org/officeDocument/2006/relationships/image" Target="../media/image23.wmf"/><Relationship Id="rId41" Type="http://schemas.openxmlformats.org/officeDocument/2006/relationships/package" Target="../embeddings/oleObject21.xlsx"/><Relationship Id="rId42" Type="http://schemas.openxmlformats.org/officeDocument/2006/relationships/image" Target="../media/image24.wmf"/><Relationship Id="rId43" Type="http://schemas.openxmlformats.org/officeDocument/2006/relationships/package" Target="../embeddings/oleObject22.xlsx"/><Relationship Id="rId44" Type="http://schemas.openxmlformats.org/officeDocument/2006/relationships/image" Target="../media/image25.wmf"/><Relationship Id="rId45" Type="http://schemas.openxmlformats.org/officeDocument/2006/relationships/package" Target="../embeddings/oleObject23.xlsx"/><Relationship Id="rId46" Type="http://schemas.openxmlformats.org/officeDocument/2006/relationships/image" Target="../media/image26.wmf"/><Relationship Id="rId47" Type="http://schemas.openxmlformats.org/officeDocument/2006/relationships/package" Target="../embeddings/oleObject24.xlsx"/><Relationship Id="rId48" Type="http://schemas.openxmlformats.org/officeDocument/2006/relationships/image" Target="../media/image27.wmf"/><Relationship Id="rId49" Type="http://schemas.openxmlformats.org/officeDocument/2006/relationships/package" Target="../embeddings/oleObject25.xlsx"/><Relationship Id="rId50" Type="http://schemas.openxmlformats.org/officeDocument/2006/relationships/image" Target="../media/image28.wmf"/><Relationship Id="rId51" Type="http://schemas.openxmlformats.org/officeDocument/2006/relationships/package" Target="../embeddings/oleObject26.xlsx"/><Relationship Id="rId52" Type="http://schemas.openxmlformats.org/officeDocument/2006/relationships/image" Target="../media/image29.wmf"/><Relationship Id="rId53" Type="http://schemas.openxmlformats.org/officeDocument/2006/relationships/package" Target="../embeddings/oleObject27.xlsx"/><Relationship Id="rId54" Type="http://schemas.openxmlformats.org/officeDocument/2006/relationships/image" Target="../media/image30.wmf"/><Relationship Id="rId55" Type="http://schemas.openxmlformats.org/officeDocument/2006/relationships/package" Target="../embeddings/oleObject28.xlsx"/><Relationship Id="rId56" Type="http://schemas.openxmlformats.org/officeDocument/2006/relationships/image" Target="../media/image31.wmf"/><Relationship Id="rId57" Type="http://schemas.openxmlformats.org/officeDocument/2006/relationships/package" Target="../embeddings/oleObject29.xlsx"/><Relationship Id="rId58" Type="http://schemas.openxmlformats.org/officeDocument/2006/relationships/image" Target="../media/image32.wmf"/><Relationship Id="rId59" Type="http://schemas.openxmlformats.org/officeDocument/2006/relationships/package" Target="../embeddings/oleObject30.xlsx"/><Relationship Id="rId60" Type="http://schemas.openxmlformats.org/officeDocument/2006/relationships/image" Target="../media/image33.wmf"/><Relationship Id="rId61" Type="http://schemas.openxmlformats.org/officeDocument/2006/relationships/package" Target="../embeddings/oleObject31.xlsx"/><Relationship Id="rId62" Type="http://schemas.openxmlformats.org/officeDocument/2006/relationships/image" Target="../media/image34.wmf"/><Relationship Id="rId63" Type="http://schemas.openxmlformats.org/officeDocument/2006/relationships/package" Target="../embeddings/oleObject32.xlsx"/><Relationship Id="rId64" Type="http://schemas.openxmlformats.org/officeDocument/2006/relationships/image" Target="../media/image35.wmf"/><Relationship Id="rId65" Type="http://schemas.openxmlformats.org/officeDocument/2006/relationships/package" Target="../embeddings/oleObject33.xlsx"/><Relationship Id="rId66" Type="http://schemas.openxmlformats.org/officeDocument/2006/relationships/image" Target="../media/image36.wmf"/><Relationship Id="rId67" Type="http://schemas.openxmlformats.org/officeDocument/2006/relationships/package" Target="../embeddings/oleObject34.xlsx"/><Relationship Id="rId68" Type="http://schemas.openxmlformats.org/officeDocument/2006/relationships/image" Target="../media/image37.wmf"/><Relationship Id="rId69" Type="http://schemas.openxmlformats.org/officeDocument/2006/relationships/package" Target="../embeddings/oleObject35.xlsx"/><Relationship Id="rId70" Type="http://schemas.openxmlformats.org/officeDocument/2006/relationships/image" Target="../media/image38.wmf"/><Relationship Id="rId7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0" y="121896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quilibrio Oferta-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gunta: ¿qué ruta elegi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guntas previ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es una ru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es una 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295280"/>
            <a:ext cx="838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2286000"/>
            <a:ext cx="914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3429000"/>
            <a:ext cx="914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4572000"/>
            <a:ext cx="914400" cy="4597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819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3962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48006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981080" y="37335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1219320" y="3733920"/>
            <a:ext cx="7617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81080" y="25142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1143000" y="25146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981080" y="15238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143000" y="15238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3657600"/>
            <a:ext cx="5257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presentación esquemática de una estructura física o conceptual --&gt; se compone de arcos y no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4876920"/>
            <a:ext cx="6172200" cy="9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efinición matemática de r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junto de nodos y conjunto de arcos que los conectan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marL="58320" indent="-5832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flujo (f)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número medio de vehículos que pasan por un cierto punto fijo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ensidad (K)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número medio de vehículos presentes, en un cierto instante, en una sección de cam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velocidad (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cuación fundamental del tráfico: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f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·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laciones:la velocidad decrece con la dens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típico: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(K)=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.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: velocidad de flujo li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: densidad máxima (jam density, parking lot syndro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2280" y="15228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Clase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(k)=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·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(k)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19320" y="1447920"/>
            <a:ext cx="838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81080" y="1447920"/>
            <a:ext cx="2895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85800" y="2139840"/>
          <a:ext cx="8077320" cy="452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39840"/>
                    <a:ext cx="8077320" cy="452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 flipH="1">
            <a:off x="1295280" y="2895480"/>
            <a:ext cx="335304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2280" y="266616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a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(k)=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·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(k)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19320" y="1447920"/>
            <a:ext cx="838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981080" y="1447920"/>
            <a:ext cx="2895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990720" y="2209680"/>
          <a:ext cx="6912000" cy="387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09680"/>
                    <a:ext cx="6912000" cy="38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 flipV="1">
            <a:off x="6781680" y="3885840"/>
            <a:ext cx="0" cy="160020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72200" y="540936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a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lación tiempo flu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167652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En la práctica no se observa ese retorno hacia atrá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3520" y="3276720"/>
            <a:ext cx="792468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Trabajar con curvas monótonamente crecient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rincipales demoras están en interse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semaforiz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de prio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5410080" y="304920"/>
          <a:ext cx="3505320" cy="261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304920"/>
                    <a:ext cx="350532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semaforiz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rot="16200000">
            <a:off x="-142560" y="3036240"/>
            <a:ext cx="297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Demora esperada (seg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90920" y="502920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asa de llegada (veh/hr-pis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2057400" y="152352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7400" y="46483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0920" y="40377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00920" y="2208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920" y="26661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00920" y="31233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00920" y="35805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828800" y="464724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200    400    600    800   1000   1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057400" y="1752480"/>
            <a:ext cx="3581280" cy="2667240"/>
          </a:xfrm>
          <a:custGeom>
            <a:avLst/>
            <a:gdLst/>
            <a:ahLst/>
            <a:rect l="l" t="t" r="r" b="b"/>
            <a:pathLst>
              <a:path w="2400" h="1680">
                <a:moveTo>
                  <a:pt x="0" y="1680"/>
                </a:moveTo>
                <a:cubicBezTo>
                  <a:pt x="784" y="1652"/>
                  <a:pt x="1568" y="1624"/>
                  <a:pt x="1968" y="1344"/>
                </a:cubicBezTo>
                <a:cubicBezTo>
                  <a:pt x="2368" y="1064"/>
                  <a:pt x="2384" y="532"/>
                  <a:pt x="240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057400" y="1752480"/>
            <a:ext cx="2286000" cy="2133720"/>
          </a:xfrm>
          <a:custGeom>
            <a:avLst/>
            <a:gdLst/>
            <a:ahLst/>
            <a:rect l="l" t="t" r="r" b="b"/>
            <a:pathLst>
              <a:path w="1152" h="1344">
                <a:moveTo>
                  <a:pt x="0" y="1344"/>
                </a:moveTo>
                <a:cubicBezTo>
                  <a:pt x="360" y="1312"/>
                  <a:pt x="720" y="1280"/>
                  <a:pt x="912" y="1056"/>
                </a:cubicBezTo>
                <a:cubicBezTo>
                  <a:pt x="1104" y="832"/>
                  <a:pt x="1128" y="416"/>
                  <a:pt x="115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597320"/>
            <a:ext cx="8380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=9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=4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867280" y="1749600"/>
            <a:ext cx="83844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=9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=6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27680" y="5866920"/>
            <a:ext cx="179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uente: Sheffi 19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Intersecciones de prio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16200000">
            <a:off x="-750240" y="2958480"/>
            <a:ext cx="46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iempo medio de espera en cola (seg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66880" y="609588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asa de llegada (veh/hr-pis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057400" y="15238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57400" y="563868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600920" y="19040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00920" y="31233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05120" y="563796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    200    300    400    500    600    700    800   9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438280" y="18288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100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57400" y="1752480"/>
            <a:ext cx="1523880" cy="2895840"/>
          </a:xfrm>
          <a:custGeom>
            <a:avLst/>
            <a:gdLst/>
            <a:ahLst/>
            <a:rect l="l" t="t" r="r" b="b"/>
            <a:pathLst>
              <a:path w="960" h="1824">
                <a:moveTo>
                  <a:pt x="0" y="1824"/>
                </a:moveTo>
                <a:cubicBezTo>
                  <a:pt x="208" y="1760"/>
                  <a:pt x="416" y="1696"/>
                  <a:pt x="576" y="1392"/>
                </a:cubicBezTo>
                <a:cubicBezTo>
                  <a:pt x="736" y="1088"/>
                  <a:pt x="848" y="544"/>
                  <a:pt x="96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057400" y="1828800"/>
            <a:ext cx="1219320" cy="2743200"/>
          </a:xfrm>
          <a:custGeom>
            <a:avLst/>
            <a:gdLst/>
            <a:ahLst/>
            <a:rect l="l" t="t" r="r" b="b"/>
            <a:pathLst>
              <a:path w="768" h="1728">
                <a:moveTo>
                  <a:pt x="0" y="1728"/>
                </a:moveTo>
                <a:cubicBezTo>
                  <a:pt x="224" y="1584"/>
                  <a:pt x="448" y="1440"/>
                  <a:pt x="576" y="1152"/>
                </a:cubicBezTo>
                <a:cubicBezTo>
                  <a:pt x="704" y="864"/>
                  <a:pt x="736" y="432"/>
                  <a:pt x="768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057400" y="1752480"/>
            <a:ext cx="2743200" cy="3276720"/>
          </a:xfrm>
          <a:custGeom>
            <a:avLst/>
            <a:gdLst/>
            <a:ahLst/>
            <a:rect l="l" t="t" r="r" b="b"/>
            <a:pathLst>
              <a:path w="1728" h="2064">
                <a:moveTo>
                  <a:pt x="0" y="2064"/>
                </a:moveTo>
                <a:cubicBezTo>
                  <a:pt x="456" y="1972"/>
                  <a:pt x="912" y="1880"/>
                  <a:pt x="1200" y="1536"/>
                </a:cubicBezTo>
                <a:cubicBezTo>
                  <a:pt x="1488" y="1192"/>
                  <a:pt x="1640" y="25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57400" y="1676520"/>
            <a:ext cx="2514600" cy="3352680"/>
          </a:xfrm>
          <a:custGeom>
            <a:avLst/>
            <a:gdLst/>
            <a:ahLst/>
            <a:rect l="l" t="t" r="r" b="b"/>
            <a:pathLst>
              <a:path w="1728" h="2064">
                <a:moveTo>
                  <a:pt x="0" y="2064"/>
                </a:moveTo>
                <a:cubicBezTo>
                  <a:pt x="456" y="1972"/>
                  <a:pt x="912" y="1880"/>
                  <a:pt x="1200" y="1536"/>
                </a:cubicBezTo>
                <a:cubicBezTo>
                  <a:pt x="1488" y="1192"/>
                  <a:pt x="1640" y="25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81080"/>
            <a:ext cx="4876920" cy="3276720"/>
          </a:xfrm>
          <a:custGeom>
            <a:avLst/>
            <a:gdLst/>
            <a:ahLst/>
            <a:rect l="l" t="t" r="r" b="b"/>
            <a:pathLst>
              <a:path w="3552" h="1200">
                <a:moveTo>
                  <a:pt x="0" y="1200"/>
                </a:moveTo>
                <a:cubicBezTo>
                  <a:pt x="1072" y="1084"/>
                  <a:pt x="2144" y="968"/>
                  <a:pt x="2736" y="768"/>
                </a:cubicBezTo>
                <a:cubicBezTo>
                  <a:pt x="3328" y="568"/>
                  <a:pt x="3416" y="128"/>
                  <a:pt x="355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057400" y="2895480"/>
            <a:ext cx="5410080" cy="2438640"/>
          </a:xfrm>
          <a:custGeom>
            <a:avLst/>
            <a:gdLst/>
            <a:ahLst/>
            <a:rect l="l" t="t" r="r" b="b"/>
            <a:pathLst>
              <a:path w="3552" h="1200">
                <a:moveTo>
                  <a:pt x="0" y="1200"/>
                </a:moveTo>
                <a:cubicBezTo>
                  <a:pt x="1072" y="1084"/>
                  <a:pt x="2144" y="968"/>
                  <a:pt x="2736" y="768"/>
                </a:cubicBezTo>
                <a:cubicBezTo>
                  <a:pt x="3328" y="568"/>
                  <a:pt x="3416" y="128"/>
                  <a:pt x="3552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84872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079840" y="358092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gap cr 5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84872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079840" y="41144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gap cr 6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0574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100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86200" y="16765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75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0" y="16765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75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391520" y="25909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50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352680" y="24382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125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costo de los arcos de la red, que consideran tramos de calles e interse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s separables ==&gt;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f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racterísticas deseables de las funciones flujo-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realista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no decrec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ontinuas y diferenc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 podría ser constante para valores pequeños de flu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cada usuario que es asignado al arco a percibe ese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6000"/>
          </a:bodyPr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a --&gt; cada usuario que es asignado al arco a percibe ese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total de operación del arco a:    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·f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uc/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precio óptimo desde el punto de vista soci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8800" y="3199320"/>
            <a:ext cx="26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gt;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sto margi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19520" y="319824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cuánto sube el costo total de operación de un arco al ingresar un usuario adicional a ese ar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7600" y="4905720"/>
            <a:ext cx="27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precio percibi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282480" y="4846680"/>
            <a:ext cx="488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109600" y="5464080"/>
            <a:ext cx="250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¿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&gt;&lt;= c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1371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660680" y="1265040"/>
            <a:ext cx="988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·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971800" y="1493640"/>
            <a:ext cx="1905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·1 +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83880" y="126504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670640" y="179712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452200" y="1493640"/>
            <a:ext cx="698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· 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857600" y="184464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00200" y="182880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0" y="182880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16126800">
            <a:off x="3695400" y="1866600"/>
            <a:ext cx="75960" cy="609480"/>
          </a:xfrm>
          <a:custGeom>
            <a:avLst/>
            <a:gdLst>
              <a:gd name="textAreaLeft" fmla="*/ 48600 w 75960"/>
              <a:gd name="textAreaRight" fmla="*/ 76320 w 7596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971800" y="2208600"/>
            <a:ext cx="139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sto percib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01320" y="989640"/>
            <a:ext cx="51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≥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16126800">
            <a:off x="5332320" y="1744200"/>
            <a:ext cx="75960" cy="1295280"/>
          </a:xfrm>
          <a:custGeom>
            <a:avLst/>
            <a:gdLst>
              <a:gd name="textAreaLeft" fmla="*/ 48600 w 75960"/>
              <a:gd name="textAreaRight" fmla="*/ 76320 w 7596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419720" y="2432880"/>
            <a:ext cx="47242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ribución a la demora del resto debido a la incorporación de un vehículo adi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26280" y="385596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13040" y="438768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14400" y="441972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676520" y="4084560"/>
            <a:ext cx="3429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==&gt; 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20400" y="4795560"/>
            <a:ext cx="413388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ólo en la parte plana de la cur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no existe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Redes: notación y conceptos bás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75248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0020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75248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6002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00200" y="43434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600200" y="3123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20040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04812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20040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48120" y="17524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9718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648320" y="17524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9568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49568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9436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943600" y="1905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3048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495680" y="3200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4956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8672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648320" y="4343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49568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648320" y="5638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419720" y="42670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4956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8672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867280" y="42670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9436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828800" y="43434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011320" y="14389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882400" y="479952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408920" y="479952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867280" y="3504240"/>
            <a:ext cx="3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409280" y="350424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512360" y="35042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848920" y="213264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53560" y="213264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558800" y="205632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140080" y="533304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094000" y="40377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808720" y="40377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129640" y="2742120"/>
            <a:ext cx="2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576600" y="27421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21840" y="274212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111280" y="144684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646800" y="14468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970720" y="2132640"/>
            <a:ext cx="31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447920" y="12952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483920" y="128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9368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9728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3084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3444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9446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108080" y="28274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144080" y="2818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860560" y="313200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96560" y="3123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537080" y="30560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73080" y="3047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985000" y="29797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21000" y="2970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260360" y="442764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296360" y="4418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079880" y="44276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052160" y="4418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985000" y="43513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956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15620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12812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90868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88096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52280" y="12952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98360" y="14007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84320" y="400860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38320" y="4113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966000" y="248436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020360" y="2589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118280" y="5303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164360" y="5409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04920" y="53341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81120" y="5333040"/>
            <a:ext cx="20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: nodos rute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28600" y="6095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08040" y="609516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: centro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85800" y="17524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14349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5800" y="42670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39495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095880" y="297180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095880" y="265428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95880" y="563868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5880" y="532116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885360" y="1400760"/>
            <a:ext cx="170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¿rutas par AC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362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3429000"/>
            <a:ext cx="8305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rcos direc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 tienen asociada una dir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ranspor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d &lt;--&gt; ofe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porte privado (auto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d vial (calles e intersecciones) --&gt; red de arcos y n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rco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nen asociada una impeda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porte público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8120" y="1371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13716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86400" y="14479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562720" y="14479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240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562720" y="2743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27432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67480" y="2209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543800" y="22096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882880" y="175248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4120" y="190512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1019000">
            <a:off x="3428640" y="175248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1019000">
            <a:off x="5943240" y="182880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05320" y="1600200"/>
            <a:ext cx="19810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943600" y="1676520"/>
            <a:ext cx="1523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019560" y="2590920"/>
            <a:ext cx="1523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504960" y="2895480"/>
            <a:ext cx="20574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601992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red servicios ofrec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Redes: notación y conceptos bás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11720" y="1205280"/>
            <a:ext cx="20401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tas par A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1) -&gt; a-b-c-m 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2) -&gt; a-b-l-f -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3) -&gt; a-k-e-f -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4) -&gt; j-d-e-f -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196520" y="1218960"/>
            <a:ext cx="4773960" cy="23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efinic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: flujo en la ruta 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: flujo producido por el nodo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: flujo atraído por el nodo 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(i): conjunto de nodos posteriores a 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981160" y="4952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828880" y="51055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828880" y="49528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752560" y="61722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427560" y="46472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18720" y="5333040"/>
            <a:ext cx="38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717640" y="450360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753640" y="449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089240" y="4503600"/>
            <a:ext cx="381240" cy="381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125240" y="449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641680" y="6332400"/>
            <a:ext cx="380880" cy="381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77680" y="6323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276800" y="49528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182120" y="3580560"/>
            <a:ext cx="45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i): conjunto de nodos anteriores a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65280" y="49608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413000" y="496080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824120" y="464724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296360" y="449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19320" y="4495680"/>
            <a:ext cx="380880" cy="3812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518440" y="4566600"/>
            <a:ext cx="2739600" cy="1015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f} : flujo en ar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h} : flujo en ru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800600" y="571500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jemplo: flujo en todas las rutas = 10 veh/h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lujo en redes y leyes de conserv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90840" y="1215000"/>
            <a:ext cx="3809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i es rute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flujo que sale = flujo que en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181480" y="121824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i es centro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838080" y="2209680"/>
                <a:ext cx="3124440" cy="10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B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i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65" name=""/>
          <p:cNvSpPr/>
          <p:nvPr/>
        </p:nvSpPr>
        <p:spPr>
          <a:xfrm>
            <a:off x="609480" y="1143000"/>
            <a:ext cx="3962520" cy="23623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5334120" y="1752480"/>
                <a:ext cx="205740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5334120" y="2895480"/>
                <a:ext cx="213336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8" name=""/>
          <p:cNvSpPr/>
          <p:nvPr/>
        </p:nvSpPr>
        <p:spPr>
          <a:xfrm>
            <a:off x="5029200" y="1066680"/>
            <a:ext cx="2743200" cy="3276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838080" y="4982040"/>
            <a:ext cx="713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Obs: esta notación sólo se puede usar si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! arco entre cada par de nod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-360" y="9140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demanda es asignada &lt;==&gt;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dado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{r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: conjunto de rutas que unen el par de centroides ij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0880" y="3373200"/>
            <a:ext cx="731520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: matriz de incidencia arco-r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ap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295280" y="3960720"/>
            <a:ext cx="7696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 si arco a pertenece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la ruta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p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 si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00600" y="4946760"/>
            <a:ext cx="40384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conocemos los flujos en rutas, siempre podremos calcular los flujos en arc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vicevers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2971800" y="2133360"/>
            <a:ext cx="5943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suma de los flujos de todas las rutas que cubren el par ij, debe ser igual a la demanda en ese p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762120" y="2133720"/>
                <a:ext cx="190476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p>
                        </m:sSup>
                      </m:sub>
                      <m:sup/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76" name=""/>
          <p:cNvSpPr/>
          <p:nvPr/>
        </p:nvSpPr>
        <p:spPr>
          <a:xfrm>
            <a:off x="1066680" y="3884760"/>
            <a:ext cx="228600" cy="685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480" y="4875120"/>
            <a:ext cx="762120" cy="38124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1600200" y="4722840"/>
                <a:ext cx="274320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79" name=""/>
          <p:cNvSpPr/>
          <p:nvPr/>
        </p:nvSpPr>
        <p:spPr>
          <a:xfrm>
            <a:off x="152280" y="15228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Clase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143000" y="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lujo en redes y leyes de conserv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85800" y="1010520"/>
            <a:ext cx="784872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ada la oferta 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) y la demanda (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 necesitamos conoc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--&gt; {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 ==&gt; Costo total del sistema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09480" y="2747160"/>
            <a:ext cx="800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--&gt; {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 ==&gt; Costo entre i y j = ¿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48520" y="2694240"/>
            <a:ext cx="2438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3200" spc="-1" strike="noStrike" baseline="-25000">
                <a:solidFill>
                  <a:srgbClr val="ff3300"/>
                </a:solidFill>
                <a:latin typeface="Comic Sans MS"/>
              </a:rPr>
              <a:t>r</a:t>
            </a:r>
            <a:r>
              <a:rPr b="0" lang="es-ES_tradnl" sz="3200" spc="-1" strike="noStrike" baseline="30000">
                <a:solidFill>
                  <a:srgbClr val="ff3300"/>
                </a:solidFill>
                <a:latin typeface="Comic Sans MS"/>
              </a:rPr>
              <a:t>ij</a:t>
            </a: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6705720" y="1905120"/>
                <a:ext cx="1282680" cy="75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86" name=""/>
          <p:cNvSpPr/>
          <p:nvPr/>
        </p:nvSpPr>
        <p:spPr>
          <a:xfrm>
            <a:off x="609480" y="3795840"/>
            <a:ext cx="8001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ues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dividuos razonables, eligen ruta de menor co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empo es la variable domin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no hay congestión (costo constante) ==&gt; el problema es separable por par origen-desti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85800" y="152136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IGNACIÓN TODO O 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85800" y="2466720"/>
            <a:ext cx="8001000" cy="36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a un determinado par O/D,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OD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el flujo se asigna a la ruta de mínimo cos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lgoritmos de asignación a rutas mínim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jks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’Eso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: TODO O N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75248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0020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75248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6002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6002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600200" y="43434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1600200" y="3123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20040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04812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20040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048120" y="17524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9718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648320" y="17524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49568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9436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943600" y="1905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648320" y="3048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495680" y="3200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4956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94360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648320" y="4343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49568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648320" y="5638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419720" y="42670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4956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8672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867280" y="42670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9436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828800" y="43434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903680" y="1438920"/>
            <a:ext cx="53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: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076440" y="47995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: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417200" y="487584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67280" y="350424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457880" y="35805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636920" y="342792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: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048000" y="213264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622400" y="2056320"/>
            <a:ext cx="4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523880" y="2056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: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032800" y="5333040"/>
            <a:ext cx="4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986360" y="403776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: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628000" y="403776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: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989240" y="274212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 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436200" y="2742120"/>
            <a:ext cx="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 :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981440" y="2742120"/>
            <a:ext cx="61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 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003640" y="1446840"/>
            <a:ext cx="51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539160" y="144684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: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096720" y="2132640"/>
            <a:ext cx="5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447920" y="12952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483920" y="128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9368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9728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3084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3444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9086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9446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108080" y="28274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144080" y="2818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860560" y="313200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896560" y="3123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537080" y="30560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573080" y="3047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985000" y="29797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021000" y="2970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260360" y="442764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296360" y="4418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079880" y="44276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052160" y="4418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985000" y="43513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956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15620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12812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90868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88096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52280" y="12952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98360" y="14007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84320" y="400860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38320" y="4113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966000" y="248436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020360" y="2589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118280" y="5303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164360" y="5409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85800" y="17524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85800" y="14349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5800" y="42670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85800" y="39495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97180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95880" y="265428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095880" y="563868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095880" y="532116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619760" y="522720"/>
            <a:ext cx="12916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mand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: 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C: 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D: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981080" y="1675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505320" y="1675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029200" y="1675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943600" y="19040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133720" y="42663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419720" y="33519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105520" y="297072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590560" y="4266360"/>
            <a:ext cx="7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+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419720" y="44949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952880" y="55616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Qué pasa cuando existe congestión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09480" y="10656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752480" y="164484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867280" y="17514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09480" y="3243960"/>
            <a:ext cx="8001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Ruta de menor cos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icialmente: C1=10, C2=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1=0 h2=10 =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0 f2=10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10, C2=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666880" y="1981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638680" y="1905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743200" y="205740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743200" y="143496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743280" y="109620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251520" y="281844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973240" y="5409000"/>
            <a:ext cx="42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lt;-- ya no es de costo mín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838080" y="1016640"/>
            <a:ext cx="784872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J. Wardrop (195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Primer principio de War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el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quilibri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ningún usuario puede reducir unilateralmente sus costos mediante un cambio de ru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todos los usuarios perciben los costos de la misma manera, i.e. No hay efecto estocástico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condiciones de equilibrio, todas las rutas utilizadas para un determinado par origen-destino tendrán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iguales y mínim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mientras que las rutas no utilizadas tendrá costos mayores o igu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838080" y="424440"/>
            <a:ext cx="8001000" cy="60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or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 conjunto de flujos en rutas H (que implica F) constituye un estado de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quilibrio de usuari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si existe un ordenamiento 1,2,... r, r+1, ... s de las rutas que unen cada par O/D tal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=...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+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  (p=1,2,3,... 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  (p=r+1,r+2,... 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condiciones de equilibrio pueden expresarse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 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/ hp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 hp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38080" y="1488600"/>
            <a:ext cx="800100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 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: costo observado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njunto de todas las rutas que conectan el par 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náloga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-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)=0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 ij, ruta 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el 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Rut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411480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jemplo: cómo representar una intersección como la de Blanco Encalada-Beauchef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presentación agre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presentación detal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0200" y="1828800"/>
            <a:ext cx="4330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92400" y="18288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78480" y="1905120"/>
            <a:ext cx="4334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30680" y="19051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0200" y="3124080"/>
            <a:ext cx="4330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92400" y="31240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6272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27520" y="32004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43580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32640" y="26668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63800" y="2209680"/>
            <a:ext cx="2286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15040" y="2362320"/>
            <a:ext cx="2286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1019000">
            <a:off x="3455640" y="2211120"/>
            <a:ext cx="18108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1019000">
            <a:off x="5970240" y="2287080"/>
            <a:ext cx="18108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78400" y="2057400"/>
            <a:ext cx="18763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992920" y="2133720"/>
            <a:ext cx="1442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068520" y="3048120"/>
            <a:ext cx="1443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3580920" y="3352680"/>
            <a:ext cx="1949400" cy="76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9907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min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ue une i y j y no contiene circuitos (cicl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21337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rutas entre 1 y 5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85800" y="317808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7,5 f2=2,5 ; c1=10 c2=10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ujo mucho menor: O=D=1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1+h2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0=5+2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+f2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80880" y="15051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295280" y="1841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267080" y="17654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371600" y="191772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371600" y="129528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371680" y="956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879920" y="26787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572000" y="1599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438280" y="4495680"/>
            <a:ext cx="457200" cy="1676520"/>
          </a:xfrm>
          <a:custGeom>
            <a:avLst/>
            <a:gdLst>
              <a:gd name="textAreaLeft" fmla="*/ 0 w 457200"/>
              <a:gd name="textAreaRight" fmla="*/ 164880 w 4572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078720" y="4865040"/>
            <a:ext cx="1160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-1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2=2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343400" y="4952880"/>
            <a:ext cx="457200" cy="990720"/>
          </a:xfrm>
          <a:custGeom>
            <a:avLst/>
            <a:gdLst>
              <a:gd name="textAreaLeft" fmla="*/ 0 w 457200"/>
              <a:gd name="textAreaRight" fmla="*/ 164880 w 4572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838040" y="4743720"/>
            <a:ext cx="28753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ruta 1 no se 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0 f2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10 c2=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85800" y="318132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a el caso (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to total del sistem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= 10*7.5+10* 2.5=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pasa si f1=8 y f2=2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2=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80880" y="15051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295280" y="1841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267080" y="17654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371600" y="191772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371600" y="129528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371680" y="956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879920" y="26787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572000" y="1599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676520" y="5410080"/>
            <a:ext cx="380880" cy="914400"/>
          </a:xfrm>
          <a:custGeom>
            <a:avLst/>
            <a:gdLst>
              <a:gd name="textAreaLeft" fmla="*/ 0 w 380880"/>
              <a:gd name="textAreaRight" fmla="*/ 137520 w 3808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133720" y="548496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hay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105520" y="2961000"/>
            <a:ext cx="38098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= 8*10+2*9=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n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=&gt; existen situaciones que no son de equilibrio y que tienen un costo total men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952880" y="22860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838080" y="1388160"/>
            <a:ext cx="784872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Segundo principio de War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fa} es óptimo si el costo total de operación asociado a tal estructura de flujos es mínimo. Esto se cumple cuando los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de todas las rutas utilizadas para un determinado par origen-destino so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iguales y mínim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mientras que las rutas no utilizadas tendrá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mayores o iguales. Si no existe congestión, ambos principios son equival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685800" y="2640240"/>
            <a:ext cx="30481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1= 10f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2= 5+2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g1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g2 = 5+4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10=5+4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2=1,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8,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80880" y="8193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295280" y="1155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267080" y="10796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371600" y="123192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371600" y="60948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371680" y="2703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879920" y="19929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572000" y="9133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733920" y="259092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137120" y="3433320"/>
            <a:ext cx="42544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g1=Cmg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=10*8,75+(5+2*1,25)*1,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96,8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52280" y="30492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Clase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838080" y="1370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a encontrar el Optimo del Sistem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286000" y="236232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641760" y="2103480"/>
            <a:ext cx="988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·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838680" y="268272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81280" y="266688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178640" y="4673520"/>
            <a:ext cx="5745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gualar los costos marginales por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r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1844640" y="3524400"/>
                <a:ext cx="3780000" cy="99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mg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m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09480" y="1293840"/>
            <a:ext cx="8001000" cy="49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-C =7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-C=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=10+0,2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=7+0,05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=10+0,2f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=7+0,1f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=5+0,4f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contrar el equilibrio y el ó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57200" y="19051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19120" y="419904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710240" y="290340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41080" y="19724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11640" y="4266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802400" y="2970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447920" y="2286000"/>
            <a:ext cx="1295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895480" y="2743200"/>
            <a:ext cx="1371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1523880" y="388620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2895480" y="3276360"/>
            <a:ext cx="12956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2743200" y="2895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295280" y="2209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371600" y="4419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743200" y="2666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743200" y="3809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267080" y="3200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990720" y="2209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14300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3434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902960" y="2086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465000" y="2505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712520" y="391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465000" y="3610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398320" y="3115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533520" y="43560"/>
            <a:ext cx="838188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Cómo encontrar el equilibrio y el óptimo del sistem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Algoritmo sencillo de asigna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Asignación Incre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ividir demanda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en fracciones pequeñas, e ir asignando a la 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 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0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    Definir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tal qu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1    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n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2. Construir el conjunto de árboles de mínimo costo para cada ori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3. Asignar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=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T usando TODO o NADA ==&gt;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-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4. Calcular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-Si todas las fracciones de T se han asignado, fin. Si no, volver a 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Precisión del métod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Permite encontrar el equilibrio y el ópti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457200" y="2286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19120" y="25146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710240" y="122724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41080" y="295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11640" y="2581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802400" y="1294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447920" y="609480"/>
            <a:ext cx="1295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895480" y="1066680"/>
            <a:ext cx="13716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1523880" y="22096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2895480" y="1600200"/>
            <a:ext cx="12956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2743200" y="1219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295280" y="533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371600" y="2735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743200" y="990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743200" y="2133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267080" y="1523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990720" y="533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143000" y="2811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343400" y="1600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486400" y="142560"/>
            <a:ext cx="33526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:   A-C =700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1=10+0,2f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-C=50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t2=7+0,05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3=10+0,2f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4=7+0,1f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5=5+0,4f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868040" y="4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430080" y="837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677600" y="2247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430080" y="1942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363400" y="1446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037400" y="1730880"/>
            <a:ext cx="2894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{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}={0,2;0,2;0,2;0,2;0,2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90360" y="3124080"/>
          <a:ext cx="1781280" cy="206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60" y="3124080"/>
                    <a:ext cx="17812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6" name=""/>
          <p:cNvGraphicFramePr/>
          <p:nvPr/>
        </p:nvGraphicFramePr>
        <p:xfrm>
          <a:off x="90360" y="5562720"/>
          <a:ext cx="1019160" cy="3524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360" y="5562720"/>
                    <a:ext cx="1019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8" name=""/>
          <p:cNvGraphicFramePr/>
          <p:nvPr/>
        </p:nvGraphicFramePr>
        <p:xfrm>
          <a:off x="1081080" y="5562720"/>
          <a:ext cx="771480" cy="3524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1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1080" y="55627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0" name=""/>
          <p:cNvGraphicFramePr/>
          <p:nvPr/>
        </p:nvGraphicFramePr>
        <p:xfrm>
          <a:off x="90360" y="5896080"/>
          <a:ext cx="1019160" cy="35244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62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0360" y="5896080"/>
                    <a:ext cx="1019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2" name=""/>
          <p:cNvGraphicFramePr/>
          <p:nvPr/>
        </p:nvGraphicFramePr>
        <p:xfrm>
          <a:off x="1081080" y="5896080"/>
          <a:ext cx="771480" cy="3524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62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81080" y="5896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4" name=""/>
          <p:cNvGraphicFramePr/>
          <p:nvPr/>
        </p:nvGraphicFramePr>
        <p:xfrm>
          <a:off x="90360" y="6248520"/>
          <a:ext cx="1019160" cy="3524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62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360" y="6248520"/>
                    <a:ext cx="1019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6" name=""/>
          <p:cNvGraphicFramePr/>
          <p:nvPr/>
        </p:nvGraphicFramePr>
        <p:xfrm>
          <a:off x="1081080" y="6248520"/>
          <a:ext cx="771480" cy="35244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62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081080" y="62485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8" name=""/>
          <p:cNvGraphicFramePr/>
          <p:nvPr/>
        </p:nvGraphicFramePr>
        <p:xfrm>
          <a:off x="1843200" y="3124080"/>
          <a:ext cx="771480" cy="35244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62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84320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0" name=""/>
          <p:cNvGraphicFramePr/>
          <p:nvPr/>
        </p:nvGraphicFramePr>
        <p:xfrm>
          <a:off x="1843200" y="3457440"/>
          <a:ext cx="771480" cy="172404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63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843200" y="3457440"/>
                    <a:ext cx="7714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2" name=""/>
          <p:cNvGraphicFramePr/>
          <p:nvPr/>
        </p:nvGraphicFramePr>
        <p:xfrm>
          <a:off x="1843200" y="5562720"/>
          <a:ext cx="771480" cy="35244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633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843200" y="55627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4" name=""/>
          <p:cNvGraphicFramePr/>
          <p:nvPr/>
        </p:nvGraphicFramePr>
        <p:xfrm>
          <a:off x="1843200" y="5896080"/>
          <a:ext cx="771480" cy="352440"/>
        </p:xfrm>
        <a:graphic>
          <a:graphicData uri="http://schemas.openxmlformats.org/presentationml/2006/ole">
            <p:oleObj progId="Excel.Sheet.12" r:id="rId21" spid="">
              <p:embed/>
              <p:pic>
                <p:nvPicPr>
                  <p:cNvPr id="635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843200" y="5896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6" name=""/>
          <p:cNvGraphicFramePr/>
          <p:nvPr/>
        </p:nvGraphicFramePr>
        <p:xfrm>
          <a:off x="1843200" y="6248520"/>
          <a:ext cx="771480" cy="352440"/>
        </p:xfrm>
        <a:graphic>
          <a:graphicData uri="http://schemas.openxmlformats.org/presentationml/2006/ole">
            <p:oleObj progId="Excel.Sheet.12" r:id="rId23" spid="">
              <p:embed/>
              <p:pic>
                <p:nvPicPr>
                  <p:cNvPr id="637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843200" y="62485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8" name=""/>
          <p:cNvGraphicFramePr/>
          <p:nvPr/>
        </p:nvGraphicFramePr>
        <p:xfrm>
          <a:off x="2604960" y="2743200"/>
          <a:ext cx="771480" cy="352440"/>
        </p:xfrm>
        <a:graphic>
          <a:graphicData uri="http://schemas.openxmlformats.org/presentationml/2006/ole">
            <p:oleObj progId="Excel.Sheet.12" r:id="rId25" spid="">
              <p:embed/>
              <p:pic>
                <p:nvPicPr>
                  <p:cNvPr id="639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604960" y="274320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0" name=""/>
          <p:cNvGraphicFramePr/>
          <p:nvPr/>
        </p:nvGraphicFramePr>
        <p:xfrm>
          <a:off x="2604960" y="3124080"/>
          <a:ext cx="771480" cy="352440"/>
        </p:xfrm>
        <a:graphic>
          <a:graphicData uri="http://schemas.openxmlformats.org/presentationml/2006/ole">
            <p:oleObj progId="Excel.Sheet.12" r:id="rId27" spid="">
              <p:embed/>
              <p:pic>
                <p:nvPicPr>
                  <p:cNvPr id="641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60496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2" name=""/>
          <p:cNvGraphicFramePr/>
          <p:nvPr/>
        </p:nvGraphicFramePr>
        <p:xfrm>
          <a:off x="2604960" y="5210280"/>
          <a:ext cx="771480" cy="352440"/>
        </p:xfrm>
        <a:graphic>
          <a:graphicData uri="http://schemas.openxmlformats.org/presentationml/2006/ole">
            <p:oleObj progId="Excel.Sheet.12" r:id="rId29" spid="">
              <p:embed/>
              <p:pic>
                <p:nvPicPr>
                  <p:cNvPr id="643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604960" y="52102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4" name=""/>
          <p:cNvGraphicFramePr/>
          <p:nvPr/>
        </p:nvGraphicFramePr>
        <p:xfrm>
          <a:off x="2604960" y="5562720"/>
          <a:ext cx="771480" cy="352440"/>
        </p:xfrm>
        <a:graphic>
          <a:graphicData uri="http://schemas.openxmlformats.org/presentationml/2006/ole">
            <p:oleObj progId="Excel.Sheet.12" r:id="rId31" spid="">
              <p:embed/>
              <p:pic>
                <p:nvPicPr>
                  <p:cNvPr id="645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604960" y="55627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6" name=""/>
          <p:cNvGraphicFramePr/>
          <p:nvPr/>
        </p:nvGraphicFramePr>
        <p:xfrm>
          <a:off x="2604960" y="6248520"/>
          <a:ext cx="771480" cy="352440"/>
        </p:xfrm>
        <a:graphic>
          <a:graphicData uri="http://schemas.openxmlformats.org/presentationml/2006/ole">
            <p:oleObj progId="Excel.Sheet.12" r:id="rId33" spid="">
              <p:embed/>
              <p:pic>
                <p:nvPicPr>
                  <p:cNvPr id="647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604960" y="62485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8" name=""/>
          <p:cNvGraphicFramePr/>
          <p:nvPr/>
        </p:nvGraphicFramePr>
        <p:xfrm>
          <a:off x="2604960" y="3457440"/>
          <a:ext cx="771480" cy="352440"/>
        </p:xfrm>
        <a:graphic>
          <a:graphicData uri="http://schemas.openxmlformats.org/presentationml/2006/ole">
            <p:oleObj progId="Excel.Sheet.12" r:id="rId35" spid="">
              <p:embed/>
              <p:pic>
                <p:nvPicPr>
                  <p:cNvPr id="649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2604960" y="345744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0" name=""/>
          <p:cNvGraphicFramePr/>
          <p:nvPr/>
        </p:nvGraphicFramePr>
        <p:xfrm>
          <a:off x="2604960" y="3809880"/>
          <a:ext cx="771480" cy="352440"/>
        </p:xfrm>
        <a:graphic>
          <a:graphicData uri="http://schemas.openxmlformats.org/presentationml/2006/ole">
            <p:oleObj progId="Excel.Sheet.12" r:id="rId37" spid="">
              <p:embed/>
              <p:pic>
                <p:nvPicPr>
                  <p:cNvPr id="651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2604960" y="38098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2" name=""/>
          <p:cNvGraphicFramePr/>
          <p:nvPr/>
        </p:nvGraphicFramePr>
        <p:xfrm>
          <a:off x="2604960" y="4143240"/>
          <a:ext cx="771480" cy="352440"/>
        </p:xfrm>
        <a:graphic>
          <a:graphicData uri="http://schemas.openxmlformats.org/presentationml/2006/ole">
            <p:oleObj progId="Excel.Sheet.12" r:id="rId39" spid="">
              <p:embed/>
              <p:pic>
                <p:nvPicPr>
                  <p:cNvPr id="653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2604960" y="414324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4" name=""/>
          <p:cNvGraphicFramePr/>
          <p:nvPr/>
        </p:nvGraphicFramePr>
        <p:xfrm>
          <a:off x="2604960" y="4495680"/>
          <a:ext cx="771480" cy="352440"/>
        </p:xfrm>
        <a:graphic>
          <a:graphicData uri="http://schemas.openxmlformats.org/presentationml/2006/ole">
            <p:oleObj progId="Excel.Sheet.12" r:id="rId41" spid="">
              <p:embed/>
              <p:pic>
                <p:nvPicPr>
                  <p:cNvPr id="655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2604960" y="44956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6" name=""/>
          <p:cNvGraphicFramePr/>
          <p:nvPr/>
        </p:nvGraphicFramePr>
        <p:xfrm>
          <a:off x="2604960" y="4829040"/>
          <a:ext cx="771480" cy="352440"/>
        </p:xfrm>
        <a:graphic>
          <a:graphicData uri="http://schemas.openxmlformats.org/presentationml/2006/ole">
            <p:oleObj progId="Excel.Sheet.12" r:id="rId43" spid="">
              <p:embed/>
              <p:pic>
                <p:nvPicPr>
                  <p:cNvPr id="657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2604960" y="482904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8" name=""/>
          <p:cNvGraphicFramePr/>
          <p:nvPr/>
        </p:nvGraphicFramePr>
        <p:xfrm>
          <a:off x="3367080" y="3124080"/>
          <a:ext cx="771480" cy="352440"/>
        </p:xfrm>
        <a:graphic>
          <a:graphicData uri="http://schemas.openxmlformats.org/presentationml/2006/ole">
            <p:oleObj progId="Excel.Sheet.12" r:id="rId45" spid="">
              <p:embed/>
              <p:pic>
                <p:nvPicPr>
                  <p:cNvPr id="659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336708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0" name=""/>
          <p:cNvGraphicFramePr/>
          <p:nvPr/>
        </p:nvGraphicFramePr>
        <p:xfrm>
          <a:off x="3367080" y="3457440"/>
          <a:ext cx="771480" cy="1724040"/>
        </p:xfrm>
        <a:graphic>
          <a:graphicData uri="http://schemas.openxmlformats.org/presentationml/2006/ole">
            <p:oleObj progId="Excel.Sheet.12" r:id="rId47" spid="">
              <p:embed/>
              <p:pic>
                <p:nvPicPr>
                  <p:cNvPr id="661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3367080" y="3457440"/>
                    <a:ext cx="7714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2" name=""/>
          <p:cNvGraphicFramePr/>
          <p:nvPr/>
        </p:nvGraphicFramePr>
        <p:xfrm>
          <a:off x="3367080" y="5210280"/>
          <a:ext cx="771480" cy="352440"/>
        </p:xfrm>
        <a:graphic>
          <a:graphicData uri="http://schemas.openxmlformats.org/presentationml/2006/ole">
            <p:oleObj progId="Excel.Sheet.12" r:id="rId49" spid="">
              <p:embed/>
              <p:pic>
                <p:nvPicPr>
                  <p:cNvPr id="663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3367080" y="52102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4" name=""/>
          <p:cNvGraphicFramePr/>
          <p:nvPr/>
        </p:nvGraphicFramePr>
        <p:xfrm>
          <a:off x="3367080" y="5562720"/>
          <a:ext cx="771480" cy="1038240"/>
        </p:xfrm>
        <a:graphic>
          <a:graphicData uri="http://schemas.openxmlformats.org/presentationml/2006/ole">
            <p:oleObj progId="Excel.Sheet.12" r:id="rId51" spid="">
              <p:embed/>
              <p:pic>
                <p:nvPicPr>
                  <p:cNvPr id="665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3367080" y="5562720"/>
                    <a:ext cx="77148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6" name=""/>
          <p:cNvGraphicFramePr/>
          <p:nvPr/>
        </p:nvGraphicFramePr>
        <p:xfrm>
          <a:off x="4129200" y="3124080"/>
          <a:ext cx="771480" cy="352440"/>
        </p:xfrm>
        <a:graphic>
          <a:graphicData uri="http://schemas.openxmlformats.org/presentationml/2006/ole">
            <p:oleObj progId="Excel.Sheet.12" r:id="rId53" spid="">
              <p:embed/>
              <p:pic>
                <p:nvPicPr>
                  <p:cNvPr id="667" name="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412920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8" name=""/>
          <p:cNvGraphicFramePr/>
          <p:nvPr/>
        </p:nvGraphicFramePr>
        <p:xfrm>
          <a:off x="4129200" y="3457440"/>
          <a:ext cx="771480" cy="1724040"/>
        </p:xfrm>
        <a:graphic>
          <a:graphicData uri="http://schemas.openxmlformats.org/presentationml/2006/ole">
            <p:oleObj progId="Excel.Sheet.12" r:id="rId55" spid="">
              <p:embed/>
              <p:pic>
                <p:nvPicPr>
                  <p:cNvPr id="669" name="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4129200" y="3457440"/>
                    <a:ext cx="7714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0" name=""/>
          <p:cNvGraphicFramePr/>
          <p:nvPr/>
        </p:nvGraphicFramePr>
        <p:xfrm>
          <a:off x="4129200" y="5562720"/>
          <a:ext cx="771480" cy="1038240"/>
        </p:xfrm>
        <a:graphic>
          <a:graphicData uri="http://schemas.openxmlformats.org/presentationml/2006/ole">
            <p:oleObj progId="Excel.Sheet.12" r:id="rId57" spid="">
              <p:embed/>
              <p:pic>
                <p:nvPicPr>
                  <p:cNvPr id="671" name="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4129200" y="5562720"/>
                    <a:ext cx="77148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2" name=""/>
          <p:cNvGraphicFramePr/>
          <p:nvPr/>
        </p:nvGraphicFramePr>
        <p:xfrm>
          <a:off x="4876920" y="2743200"/>
          <a:ext cx="771480" cy="352440"/>
        </p:xfrm>
        <a:graphic>
          <a:graphicData uri="http://schemas.openxmlformats.org/presentationml/2006/ole">
            <p:oleObj progId="Excel.Sheet.12" r:id="rId59" spid="">
              <p:embed/>
              <p:pic>
                <p:nvPicPr>
                  <p:cNvPr id="673" name="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4876920" y="274320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4" name=""/>
          <p:cNvGraphicFramePr/>
          <p:nvPr/>
        </p:nvGraphicFramePr>
        <p:xfrm>
          <a:off x="4876920" y="3124080"/>
          <a:ext cx="771480" cy="3438720"/>
        </p:xfrm>
        <a:graphic>
          <a:graphicData uri="http://schemas.openxmlformats.org/presentationml/2006/ole">
            <p:oleObj progId="Excel.Sheet.12" r:id="rId61" spid="">
              <p:embed/>
              <p:pic>
                <p:nvPicPr>
                  <p:cNvPr id="675" name="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4876920" y="3124080"/>
                    <a:ext cx="771480" cy="34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6" name=""/>
          <p:cNvGraphicFramePr/>
          <p:nvPr/>
        </p:nvGraphicFramePr>
        <p:xfrm>
          <a:off x="5638680" y="3124080"/>
          <a:ext cx="1533600" cy="3438720"/>
        </p:xfrm>
        <a:graphic>
          <a:graphicData uri="http://schemas.openxmlformats.org/presentationml/2006/ole">
            <p:oleObj progId="Excel.Sheet.12" r:id="rId63" spid="">
              <p:embed/>
              <p:pic>
                <p:nvPicPr>
                  <p:cNvPr id="677" name="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5638680" y="3124080"/>
                    <a:ext cx="1533600" cy="34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8" name=""/>
          <p:cNvGraphicFramePr/>
          <p:nvPr/>
        </p:nvGraphicFramePr>
        <p:xfrm>
          <a:off x="6008760" y="2770200"/>
          <a:ext cx="3058920" cy="3782880"/>
        </p:xfrm>
        <a:graphic>
          <a:graphicData uri="http://schemas.openxmlformats.org/presentationml/2006/ole">
            <p:oleObj progId="Excel.Sheet.12" r:id="rId65" spid="">
              <p:embed/>
              <p:pic>
                <p:nvPicPr>
                  <p:cNvPr id="679" name="" descr="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6008760" y="2770200"/>
                    <a:ext cx="305892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0" name=""/>
          <p:cNvGraphicFramePr/>
          <p:nvPr/>
        </p:nvGraphicFramePr>
        <p:xfrm>
          <a:off x="6084720" y="2743200"/>
          <a:ext cx="3059280" cy="3782880"/>
        </p:xfrm>
        <a:graphic>
          <a:graphicData uri="http://schemas.openxmlformats.org/presentationml/2006/ole">
            <p:oleObj progId="Excel.Sheet.12" r:id="rId67" spid="">
              <p:embed/>
              <p:pic>
                <p:nvPicPr>
                  <p:cNvPr id="681" name="" descr=""/>
                  <p:cNvPicPr/>
                  <p:nvPr/>
                </p:nvPicPr>
                <p:blipFill>
                  <a:blip r:embed="rId68"/>
                  <a:stretch/>
                </p:blipFill>
                <p:spPr>
                  <a:xfrm>
                    <a:off x="6084720" y="2743200"/>
                    <a:ext cx="305928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2" name=""/>
          <p:cNvGraphicFramePr/>
          <p:nvPr/>
        </p:nvGraphicFramePr>
        <p:xfrm>
          <a:off x="5943600" y="2743200"/>
          <a:ext cx="3059280" cy="3782880"/>
        </p:xfrm>
        <a:graphic>
          <a:graphicData uri="http://schemas.openxmlformats.org/presentationml/2006/ole">
            <p:oleObj progId="Excel.Sheet.12" r:id="rId69" spid="">
              <p:embed/>
              <p:pic>
                <p:nvPicPr>
                  <p:cNvPr id="683" name="" descr=""/>
                  <p:cNvPicPr/>
                  <p:nvPr/>
                </p:nvPicPr>
                <p:blipFill>
                  <a:blip r:embed="rId70"/>
                  <a:stretch/>
                </p:blipFill>
                <p:spPr>
                  <a:xfrm>
                    <a:off x="5943600" y="2743200"/>
                    <a:ext cx="305928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4" name=""/>
          <p:cNvSpPr/>
          <p:nvPr/>
        </p:nvSpPr>
        <p:spPr>
          <a:xfrm>
            <a:off x="5639760" y="457092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1653480" y="2124000"/>
            <a:ext cx="6080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retos para huir del embotellamien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762120" y="930240"/>
            <a:ext cx="746748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Primer principio de Ward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n condiciones de equilibrio, todas las rutas utilizadas para un determinado par origen-destino tendrán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costos iguales y mínimo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, mientras que las rutas no utilizadas tendrá costos mayores o igu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Optimo del 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Segundo principio de Ward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{fa} es óptimo si el costo total de operación asociado a tal estructura de flujos es mínimo. Esto se cumple cuando los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de todas las rutas utilizadas para un determinado par origen-destino son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 iguales y mínimo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, mientras que las rutas no utilizadas tendrá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mayores o iguales. Si no existe congestión, ambos principios son equival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52280" y="30492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Clase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marL="5832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istintos niveles de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en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red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, dadas matrices O/D por mo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usuarios satisfechos con ruta us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congestión afecta usuarios otros mo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del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patrones de flujo afectan decisiones de modo, destino y frecu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2952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Equilib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609480" y="909000"/>
            <a:ext cx="784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Paradoja de Bra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quilibrio en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990720" y="2971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438280" y="2209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438280" y="3657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962520" y="28954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990720" y="2285640"/>
            <a:ext cx="1447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066680" y="297180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2514600" y="2971440"/>
            <a:ext cx="1447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514600" y="220968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04920" y="2971800"/>
            <a:ext cx="5331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191120" y="2971800"/>
            <a:ext cx="5331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53080" y="2505600"/>
            <a:ext cx="63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O=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104360" y="2513520"/>
            <a:ext cx="63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=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524960" y="2269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195000" y="2269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445760" y="3229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277800" y="3199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027760" y="903600"/>
            <a:ext cx="1134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=50+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=10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3=10f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4=50+f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176440" y="2811960"/>
            <a:ext cx="26708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quilibrio inici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a=tb=8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total=6*83=4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832680" y="4494960"/>
            <a:ext cx="269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 agrega un nuevo ar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2514600" y="2286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603440" y="4875840"/>
            <a:ext cx="11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5=10+f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512440" y="2810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717440" y="4321440"/>
            <a:ext cx="29224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uevo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s tres rutas se us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a=tb=tc=9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total=6*92=55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Todos se demoran más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Bra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cutir qué impl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Qué pasa en el óptimo del sistem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Tarificación por congest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lvamos al ejemplo más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80880" y="211464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295280" y="24512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267080" y="23749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371600" y="252720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371600" y="1905120"/>
            <a:ext cx="2743200" cy="46980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392200" y="1566000"/>
            <a:ext cx="7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900440" y="3288240"/>
            <a:ext cx="11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572000" y="2208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625440" y="1899000"/>
            <a:ext cx="14608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e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e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g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g2=5+4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333800" y="4229640"/>
            <a:ext cx="2286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ilibrio: t1=t2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=7,5   f2=2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536720" y="4305960"/>
            <a:ext cx="3885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o del sistema: tmg1=tmg2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=8,75   f2=1,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943200" y="5253480"/>
            <a:ext cx="7562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¿Cuánto se debe cobrar para lograr el óptimo del sistem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TARIFA=</a:t>
            </a: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VST(tmg*-tme*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/>
          <p:nvPr/>
        </p:nvSpPr>
        <p:spPr>
          <a:xfrm>
            <a:off x="377280" y="37980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ráf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4267080" y="53316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267080" y="335268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810960" y="68472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299480" y="353448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343400" y="3505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1600200" y="27432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600200" y="556272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44080" y="28947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676520" y="5715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676880" y="571392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267080" y="762120"/>
            <a:ext cx="3581640" cy="2298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267080" y="76212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600200" y="3352680"/>
            <a:ext cx="2057400" cy="138456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600200" y="2666880"/>
            <a:ext cx="1676520" cy="20574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792560" y="448200"/>
            <a:ext cx="79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me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425400" y="3504240"/>
            <a:ext cx="79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me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696000" y="380160"/>
            <a:ext cx="8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mg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882880" y="2269080"/>
            <a:ext cx="8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mg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/>
          <p:nvPr/>
        </p:nvSpPr>
        <p:spPr>
          <a:xfrm>
            <a:off x="377280" y="37980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ráf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1981080" y="137160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981080" y="556272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506240" y="28947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003400" y="574416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057400" y="5715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6781680" y="167616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840000" y="28947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324480" y="5715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315120" y="571392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1981080" y="2743200"/>
            <a:ext cx="3581640" cy="2298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981080" y="1752480"/>
            <a:ext cx="3353040" cy="327672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H="1">
            <a:off x="4419000" y="2286000"/>
            <a:ext cx="2361960" cy="214632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 flipH="1">
            <a:off x="5181480" y="1905120"/>
            <a:ext cx="1524240" cy="2514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5257800" y="22860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901920" y="2040480"/>
            <a:ext cx="159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mg1=tmg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H="1">
            <a:off x="1981080" y="22860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083240" y="2040480"/>
            <a:ext cx="9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mg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181480" y="22860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1981080" y="37339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422720" y="350424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066680" y="2286000"/>
            <a:ext cx="152640" cy="1447920"/>
          </a:xfrm>
          <a:custGeom>
            <a:avLst/>
            <a:gdLst>
              <a:gd name="textAreaLeft" fmla="*/ 97560 w 152640"/>
              <a:gd name="textAreaRight" fmla="*/ 153000 w 15264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93240" y="2589840"/>
            <a:ext cx="9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rifa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2860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98720" y="2925000"/>
            <a:ext cx="6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V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181480" y="41148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854760" y="396144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086600" y="2286000"/>
            <a:ext cx="380880" cy="1828800"/>
          </a:xfrm>
          <a:custGeom>
            <a:avLst/>
            <a:gdLst>
              <a:gd name="textAreaLeft" fmla="*/ 0 w 380880"/>
              <a:gd name="textAreaRight" fmla="*/ 137520 w 38088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708320" y="2788200"/>
            <a:ext cx="9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rifa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843680" y="31701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7813800" y="3123360"/>
            <a:ext cx="6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V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799920" y="985320"/>
            <a:ext cx="6142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solver para el ejemplo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solver para caso paradoja de Braes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arificación por 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olvamos al ejemplo más 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80880" y="211464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295280" y="24512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267080" y="23749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371600" y="252720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371600" y="1905120"/>
            <a:ext cx="2743200" cy="46980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392200" y="1566000"/>
            <a:ext cx="7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900440" y="3288240"/>
            <a:ext cx="11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572000" y="2208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625440" y="1899000"/>
            <a:ext cx="14608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e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e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g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g2=5+4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333800" y="4229640"/>
            <a:ext cx="2286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ilibrio: t1=t2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=7,5   f2=2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536720" y="4305960"/>
            <a:ext cx="3885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o del sistema: tmg1=tmg2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=8,75   f2=1,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943200" y="5253480"/>
            <a:ext cx="7562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¿Cuánto se debe cobrar para lograr el óptimo del sistem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TARIFA=</a:t>
            </a: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VST(tmg*-tme*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"/>
          <p:cNvSpPr/>
          <p:nvPr/>
        </p:nvSpPr>
        <p:spPr>
          <a:xfrm>
            <a:off x="377280" y="37980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ráf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1981080" y="137160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981080" y="556272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506240" y="28947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003400" y="574416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057400" y="5715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V="1">
            <a:off x="6781680" y="167616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6840000" y="28947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6324480" y="5715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315120" y="571392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981080" y="2743200"/>
            <a:ext cx="3581640" cy="2298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981080" y="1752480"/>
            <a:ext cx="3353040" cy="327672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4419000" y="2286000"/>
            <a:ext cx="2361960" cy="214632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5181480" y="1905120"/>
            <a:ext cx="1524240" cy="2514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5257800" y="22860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901920" y="2040480"/>
            <a:ext cx="159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mg1=tmg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H="1">
            <a:off x="1981080" y="22860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083240" y="2040480"/>
            <a:ext cx="9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mg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181480" y="22860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981080" y="37339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422720" y="350424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066680" y="2286000"/>
            <a:ext cx="152640" cy="1447920"/>
          </a:xfrm>
          <a:custGeom>
            <a:avLst/>
            <a:gdLst>
              <a:gd name="textAreaLeft" fmla="*/ 97560 w 152640"/>
              <a:gd name="textAreaRight" fmla="*/ 153000 w 15264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93240" y="2589840"/>
            <a:ext cx="9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rifa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2860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98720" y="2925000"/>
            <a:ext cx="6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V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5181480" y="41148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6854760" y="396144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7086600" y="2286000"/>
            <a:ext cx="380880" cy="1828800"/>
          </a:xfrm>
          <a:custGeom>
            <a:avLst/>
            <a:gdLst>
              <a:gd name="textAreaLeft" fmla="*/ 0 w 380880"/>
              <a:gd name="textAreaRight" fmla="*/ 137520 w 38088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708320" y="2788200"/>
            <a:ext cx="9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rifa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7843680" y="31701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7813800" y="3123360"/>
            <a:ext cx="6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V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/>
          <p:nvPr/>
        </p:nvSpPr>
        <p:spPr>
          <a:xfrm>
            <a:off x="556920" y="1269360"/>
            <a:ext cx="812232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condiciones de equilibrio pueden expresarse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 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: costo observado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njunto de todas las rutas que conectan el par 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náloga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-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)=0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 ij, ruta 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"/>
          <p:cNvSpPr/>
          <p:nvPr/>
        </p:nvSpPr>
        <p:spPr>
          <a:xfrm>
            <a:off x="634320" y="1294200"/>
            <a:ext cx="40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ransformada de Beck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28600" y="2438280"/>
            <a:ext cx="8534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a --&gt; depende sólo del flujo en ese ar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008720" y="3400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095480" y="393228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996840" y="3963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702440" y="365796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075840" y="3400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157200" y="3932280"/>
            <a:ext cx="6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063960" y="396396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887640" y="3656520"/>
            <a:ext cx="42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0 para todo b distinto d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0" name=""/>
              <p:cNvSpPr txBox="1"/>
              <p:nvPr/>
            </p:nvSpPr>
            <p:spPr>
              <a:xfrm>
                <a:off x="4952880" y="1219320"/>
                <a:ext cx="356580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4000"/>
          </a:bodyPr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co: transporte privado, equilibrio en la red, demanda inelást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Costos en la red de au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principalmente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209120" y="1114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295880" y="164628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197240" y="1677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902840" y="137196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895000" y="1114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976720" y="1646280"/>
            <a:ext cx="6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883120" y="1677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791760" y="1370520"/>
            <a:ext cx="6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0" name=""/>
              <p:cNvSpPr txBox="1"/>
              <p:nvPr/>
            </p:nvSpPr>
            <p:spPr>
              <a:xfrm>
                <a:off x="762120" y="2286000"/>
                <a:ext cx="3782880" cy="388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51" name=""/>
          <p:cNvSpPr/>
          <p:nvPr/>
        </p:nvSpPr>
        <p:spPr>
          <a:xfrm>
            <a:off x="5334120" y="2187720"/>
            <a:ext cx="327636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logro demostrar que la solución de este problema cumple las condiciones de Wardrop, habré encontrado una forma de encontrar el 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Gráficamente 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Analíticamente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2" name=""/>
              <p:cNvSpPr txBox="1"/>
              <p:nvPr/>
            </p:nvSpPr>
            <p:spPr>
              <a:xfrm>
                <a:off x="228600" y="1066680"/>
                <a:ext cx="3565440" cy="12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499320" y="837000"/>
            <a:ext cx="790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 de Optimización Equivalente para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4" name=""/>
              <p:cNvSpPr txBox="1"/>
              <p:nvPr/>
            </p:nvSpPr>
            <p:spPr>
              <a:xfrm>
                <a:off x="685800" y="1600200"/>
                <a:ext cx="288756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55" name=""/>
          <p:cNvSpPr/>
          <p:nvPr/>
        </p:nvSpPr>
        <p:spPr>
          <a:xfrm>
            <a:off x="3828240" y="141912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915000" y="195084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816360" y="19828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521600" y="167688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895000" y="141912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5976720" y="1950840"/>
            <a:ext cx="6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883120" y="19828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791760" y="1675440"/>
            <a:ext cx="6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3" name=""/>
              <p:cNvSpPr txBox="1"/>
              <p:nvPr/>
            </p:nvSpPr>
            <p:spPr>
              <a:xfrm>
                <a:off x="609480" y="2743200"/>
                <a:ext cx="3413160" cy="350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64" name=""/>
          <p:cNvSpPr/>
          <p:nvPr/>
        </p:nvSpPr>
        <p:spPr>
          <a:xfrm>
            <a:off x="4419720" y="2735280"/>
            <a:ext cx="457200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solución de este problema coincide con las condiciones de Wardrop. ==&gt; al resolver este P.O.E.  se encuentra el 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en todos los arcos existe algún nivel de congestión, entonces el problema tiene solución única en términos de flujos en arc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o se puede demostrar lo mismo para el caso de flujos en ru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"/>
          <p:cNvSpPr/>
          <p:nvPr/>
        </p:nvSpPr>
        <p:spPr>
          <a:xfrm>
            <a:off x="1666080" y="451800"/>
            <a:ext cx="581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 de Optimización Equival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ara el O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7" name=""/>
              <p:cNvSpPr txBox="1"/>
              <p:nvPr/>
            </p:nvSpPr>
            <p:spPr>
              <a:xfrm>
                <a:off x="304920" y="1676520"/>
                <a:ext cx="3413160" cy="38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8" name=""/>
              <p:cNvSpPr txBox="1"/>
              <p:nvPr/>
            </p:nvSpPr>
            <p:spPr>
              <a:xfrm>
                <a:off x="4648320" y="1676520"/>
                <a:ext cx="3813120" cy="38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mg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69" name=""/>
          <p:cNvSpPr/>
          <p:nvPr/>
        </p:nvSpPr>
        <p:spPr>
          <a:xfrm>
            <a:off x="3809880" y="3276720"/>
            <a:ext cx="762120" cy="380880"/>
          </a:xfrm>
          <a:prstGeom prst="leftRightArrow">
            <a:avLst>
              <a:gd name="adj1" fmla="val 50000"/>
              <a:gd name="adj2" fmla="val 3983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926720" y="5980680"/>
            <a:ext cx="52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mostración análoga a la an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/>
          <p:nvPr/>
        </p:nvSpPr>
        <p:spPr>
          <a:xfrm>
            <a:off x="380880" y="645120"/>
            <a:ext cx="7925040" cy="33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¿Qué pasa si la demanda es elástic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 depende de 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imultáneamente con encontrar el equilibrio en la red, hay que encontrar el equilibrio de merc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Gráfica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"/>
          <p:cNvSpPr/>
          <p:nvPr/>
        </p:nvSpPr>
        <p:spPr>
          <a:xfrm flipV="1">
            <a:off x="2057400" y="15238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2057400" y="518148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617120" y="1477080"/>
            <a:ext cx="2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V="1" rot="10721400">
            <a:off x="6629040" y="5331960"/>
            <a:ext cx="30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057400" y="2514600"/>
            <a:ext cx="2209680" cy="2362320"/>
          </a:xfrm>
          <a:custGeom>
            <a:avLst/>
            <a:gdLst/>
            <a:ahLst/>
            <a:rect l="l" t="t" r="r" b="b"/>
            <a:pathLst>
              <a:path w="1392" h="1488">
                <a:moveTo>
                  <a:pt x="0" y="1488"/>
                </a:moveTo>
                <a:cubicBezTo>
                  <a:pt x="340" y="1444"/>
                  <a:pt x="680" y="1400"/>
                  <a:pt x="912" y="1152"/>
                </a:cubicBezTo>
                <a:cubicBezTo>
                  <a:pt x="1144" y="904"/>
                  <a:pt x="1268" y="452"/>
                  <a:pt x="1392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 flipV="1" rot="10800000">
            <a:off x="3733920" y="2056320"/>
            <a:ext cx="106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ta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057400" y="2438280"/>
            <a:ext cx="3200400" cy="2057400"/>
          </a:xfrm>
          <a:custGeom>
            <a:avLst/>
            <a:gdLst/>
            <a:ahLst/>
            <a:rect l="l" t="t" r="r" b="b"/>
            <a:pathLst>
              <a:path w="2016" h="1296">
                <a:moveTo>
                  <a:pt x="0" y="1296"/>
                </a:moveTo>
                <a:cubicBezTo>
                  <a:pt x="528" y="1236"/>
                  <a:pt x="1056" y="1176"/>
                  <a:pt x="1392" y="960"/>
                </a:cubicBezTo>
                <a:cubicBezTo>
                  <a:pt x="1728" y="744"/>
                  <a:pt x="1872" y="372"/>
                  <a:pt x="2016" y="0"/>
                </a:cubicBezTo>
              </a:path>
            </a:pathLst>
          </a:custGeom>
          <a:noFill/>
          <a:ln w="936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 flipV="1" rot="10800000">
            <a:off x="4800240" y="2056320"/>
            <a:ext cx="10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uta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rot="21315600">
            <a:off x="2057040" y="4495320"/>
            <a:ext cx="1297080" cy="304920"/>
          </a:xfrm>
          <a:custGeom>
            <a:avLst/>
            <a:gdLst/>
            <a:ahLst/>
            <a:rect l="l" t="t" r="r" b="b"/>
            <a:pathLst>
              <a:path w="1392" h="1488">
                <a:moveTo>
                  <a:pt x="0" y="1488"/>
                </a:moveTo>
                <a:cubicBezTo>
                  <a:pt x="340" y="1444"/>
                  <a:pt x="680" y="1400"/>
                  <a:pt x="912" y="1152"/>
                </a:cubicBezTo>
                <a:cubicBezTo>
                  <a:pt x="1144" y="904"/>
                  <a:pt x="1268" y="452"/>
                  <a:pt x="1392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276720" y="2514600"/>
            <a:ext cx="3962160" cy="1981080"/>
          </a:xfrm>
          <a:custGeom>
            <a:avLst/>
            <a:gdLst/>
            <a:ahLst/>
            <a:rect l="l" t="t" r="r" b="b"/>
            <a:pathLst>
              <a:path w="2016" h="1296">
                <a:moveTo>
                  <a:pt x="0" y="1296"/>
                </a:moveTo>
                <a:cubicBezTo>
                  <a:pt x="528" y="1236"/>
                  <a:pt x="1056" y="1176"/>
                  <a:pt x="1392" y="960"/>
                </a:cubicBezTo>
                <a:cubicBezTo>
                  <a:pt x="1728" y="744"/>
                  <a:pt x="1872" y="372"/>
                  <a:pt x="2016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 flipV="1" rot="10800000">
            <a:off x="6629040" y="2132640"/>
            <a:ext cx="10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 flipH="1">
            <a:off x="4266360" y="1676520"/>
            <a:ext cx="4038840" cy="2895480"/>
          </a:xfrm>
          <a:custGeom>
            <a:avLst/>
            <a:gdLst/>
            <a:ahLst/>
            <a:rect l="l" t="t" r="r" b="b"/>
            <a:pathLst>
              <a:path w="2016" h="1296">
                <a:moveTo>
                  <a:pt x="0" y="1296"/>
                </a:moveTo>
                <a:cubicBezTo>
                  <a:pt x="528" y="1236"/>
                  <a:pt x="1056" y="1176"/>
                  <a:pt x="1392" y="960"/>
                </a:cubicBezTo>
                <a:cubicBezTo>
                  <a:pt x="1728" y="744"/>
                  <a:pt x="1872" y="372"/>
                  <a:pt x="2016" y="0"/>
                </a:cubicBezTo>
              </a:path>
            </a:pathLst>
          </a:custGeom>
          <a:noFill/>
          <a:ln w="572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V="1" rot="10800000">
            <a:off x="7540200" y="4491360"/>
            <a:ext cx="129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Comic Sans MS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 flipH="1">
            <a:off x="2057040" y="4038480"/>
            <a:ext cx="3809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 flipV="1" rot="10721400">
            <a:off x="3352320" y="3731760"/>
            <a:ext cx="4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 flipV="1" rot="10721400">
            <a:off x="3806280" y="372924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867280" y="40384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 flipV="1" rot="10800000">
            <a:off x="5406840" y="52488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+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 rot="10800000">
            <a:off x="2362320" y="76104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Curva de 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1020960" y="5360400"/>
            <a:ext cx="358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mar horizontal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jemplo asignación con demanda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62120" y="990720"/>
            <a:ext cx="1218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2057400" y="14191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flipV="1">
            <a:off x="762120" y="2286000"/>
            <a:ext cx="1218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V="1">
            <a:off x="2057400" y="190512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V="1">
            <a:off x="1981080" y="1447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85800" y="26337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671400" y="9428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976400" y="22431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1967040" y="1357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276720" y="1828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228600" y="762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276720" y="1660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228600" y="2514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523880" y="16765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2514600" y="2057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1143000" y="24382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2300400" y="1238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1138320" y="87156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80880" y="2971800"/>
            <a:ext cx="3429000" cy="38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manda:  AC=7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C=f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0+0,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7+0,0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0+0,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7+0,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5+0,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-2819520" y="6461280"/>
            <a:ext cx="609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struir la curva de 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191120" y="914400"/>
            <a:ext cx="2438280" cy="24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7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700 +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6019920" y="914400"/>
            <a:ext cx="2895480" cy="31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+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+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¿Qué ruta se usa inicialment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=0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700 = 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2590920" y="3886200"/>
            <a:ext cx="2590560" cy="29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2209680" y="4114800"/>
            <a:ext cx="3049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191120" y="3946680"/>
            <a:ext cx="4952880" cy="28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 + 5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 +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nicialmente se usa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fert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=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t=10+0,2T+7+0,1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7+0,3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jemplo asignación con demanda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762120" y="1371600"/>
            <a:ext cx="3429000" cy="43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¿Hasta qué punto pasa es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0&lt;T&lt;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asta que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,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0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+0,2T +5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+0,2T +7+0,1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"/>
          <p:cNvSpPr/>
          <p:nvPr/>
        </p:nvSpPr>
        <p:spPr>
          <a:xfrm>
            <a:off x="1666080" y="451800"/>
            <a:ext cx="581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 de Optimización Equival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on demanda elá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1" name=""/>
              <p:cNvSpPr txBox="1"/>
              <p:nvPr/>
            </p:nvSpPr>
            <p:spPr>
              <a:xfrm>
                <a:off x="457200" y="1447920"/>
                <a:ext cx="197496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2" name=""/>
              <p:cNvSpPr txBox="1"/>
              <p:nvPr/>
            </p:nvSpPr>
            <p:spPr>
              <a:xfrm>
                <a:off x="533520" y="2057400"/>
                <a:ext cx="126360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3" name=""/>
          <p:cNvSpPr/>
          <p:nvPr/>
        </p:nvSpPr>
        <p:spPr>
          <a:xfrm>
            <a:off x="2666880" y="167472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OE que reproduzca el estado de equilibrio en la red y además el equilibrio de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4" name=""/>
              <p:cNvSpPr txBox="1"/>
              <p:nvPr/>
            </p:nvSpPr>
            <p:spPr>
              <a:xfrm>
                <a:off x="762120" y="3200400"/>
                <a:ext cx="8161200" cy="34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  <m:r>
                                  <m:t xml:space="preserve">−</m:t>
                                </m:r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nary>
                                      <m:naryPr>
                                        <m:chr m:val="∫"/>
                                        <m:subHide m:val="1"/>
                                        <m:supHide m:val="1"/>
                                      </m:naryPr>
                                      <m:sub/>
                                      <m:sup/>
                                      <m:e>
                                        <m:sSubSup>
                                          <m:e>
                                            <m:r>
                                              <m:t xml:space="preserve">D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ij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p>
                                        </m:sSub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x</m:t>
                                        </m:r>
                                        <m:r>
                                          <m:t xml:space="preserve">)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</m:nary>
                                  </m:e>
                                </m:nary>
                              </m:e>
                            </m:nary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1666080" y="451800"/>
            <a:ext cx="581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 de Optimización Equival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on demanda elá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6" name=""/>
              <p:cNvSpPr txBox="1"/>
              <p:nvPr/>
            </p:nvSpPr>
            <p:spPr>
              <a:xfrm>
                <a:off x="533520" y="1828800"/>
                <a:ext cx="807696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(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p>
                        </m:sSup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7" name=""/>
              <p:cNvSpPr txBox="1"/>
              <p:nvPr/>
            </p:nvSpPr>
            <p:spPr>
              <a:xfrm>
                <a:off x="592200" y="3352680"/>
                <a:ext cx="1366920" cy="12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8" name=""/>
              <p:cNvSpPr txBox="1"/>
              <p:nvPr/>
            </p:nvSpPr>
            <p:spPr>
              <a:xfrm>
                <a:off x="1981080" y="3505320"/>
                <a:ext cx="184176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9" name=""/>
              <p:cNvSpPr txBox="1"/>
              <p:nvPr/>
            </p:nvSpPr>
            <p:spPr>
              <a:xfrm>
                <a:off x="3733920" y="3505320"/>
                <a:ext cx="98424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30" name=""/>
          <p:cNvSpPr/>
          <p:nvPr/>
        </p:nvSpPr>
        <p:spPr>
          <a:xfrm>
            <a:off x="4876920" y="3048120"/>
            <a:ext cx="533160" cy="1752480"/>
          </a:xfrm>
          <a:custGeom>
            <a:avLst/>
            <a:gdLst>
              <a:gd name="textAreaLeft" fmla="*/ 340560 w 533160"/>
              <a:gd name="textAreaRight" fmla="*/ 533520 w 53316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5421600" y="3093840"/>
            <a:ext cx="2098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= 0    si T</a:t>
            </a:r>
            <a:r>
              <a:rPr b="0" i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&gt;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356080" y="4084560"/>
            <a:ext cx="2140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0    si T</a:t>
            </a:r>
            <a:r>
              <a:rPr b="0" i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96240" y="4951800"/>
            <a:ext cx="50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i existe flujo en el par ij ento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4" name=""/>
              <p:cNvSpPr txBox="1"/>
              <p:nvPr/>
            </p:nvSpPr>
            <p:spPr>
              <a:xfrm>
                <a:off x="304920" y="5562720"/>
                <a:ext cx="281916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5" name=""/>
              <p:cNvSpPr txBox="1"/>
              <p:nvPr/>
            </p:nvSpPr>
            <p:spPr>
              <a:xfrm>
                <a:off x="3581280" y="5562720"/>
                <a:ext cx="1905120" cy="59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6" name=""/>
              <p:cNvSpPr txBox="1"/>
              <p:nvPr/>
            </p:nvSpPr>
            <p:spPr>
              <a:xfrm>
                <a:off x="6229440" y="5562720"/>
                <a:ext cx="1789200" cy="59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37" name=""/>
          <p:cNvSpPr/>
          <p:nvPr/>
        </p:nvSpPr>
        <p:spPr>
          <a:xfrm>
            <a:off x="4589280" y="624744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Costo del par i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H="1">
            <a:off x="6477120" y="6019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362320" y="25146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62320" y="571500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14400" y="220968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ancia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72200" y="579132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19520" y="2514600"/>
            <a:ext cx="3581280" cy="3200400"/>
          </a:xfrm>
          <a:custGeom>
            <a:avLst/>
            <a:gdLst/>
            <a:ahLst/>
            <a:rect l="l" t="t" r="r" b="b"/>
            <a:pathLst>
              <a:path w="2256" h="2016">
                <a:moveTo>
                  <a:pt x="0" y="2016"/>
                </a:moveTo>
                <a:cubicBezTo>
                  <a:pt x="532" y="1968"/>
                  <a:pt x="1064" y="1920"/>
                  <a:pt x="1440" y="1584"/>
                </a:cubicBezTo>
                <a:cubicBezTo>
                  <a:pt x="1816" y="1248"/>
                  <a:pt x="2036" y="624"/>
                  <a:pt x="225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62320" y="3048120"/>
            <a:ext cx="4952880" cy="2133360"/>
          </a:xfrm>
          <a:custGeom>
            <a:avLst/>
            <a:gdLst/>
            <a:ahLst/>
            <a:rect l="l" t="t" r="r" b="b"/>
            <a:pathLst>
              <a:path w="3120" h="1344">
                <a:moveTo>
                  <a:pt x="0" y="1344"/>
                </a:moveTo>
                <a:cubicBezTo>
                  <a:pt x="124" y="1024"/>
                  <a:pt x="248" y="704"/>
                  <a:pt x="768" y="480"/>
                </a:cubicBezTo>
                <a:cubicBezTo>
                  <a:pt x="1288" y="256"/>
                  <a:pt x="2204" y="128"/>
                  <a:pt x="312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467480" y="28195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h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553080" y="22096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h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6172200" y="32767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35053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elant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91120" y="3581280"/>
            <a:ext cx="0" cy="190512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14800" y="38098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spaci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14600" y="4800600"/>
            <a:ext cx="281952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95480" y="441972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g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594360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ndiente = velo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res características fundamentales del tráf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flujo (f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número medio de vehículos que pasan por un cierto punto fijo por unidad de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densidad (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número medio de vehículos presentes, en un cierto instante, en una sección de cam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elocidad (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puede ser medida de distintas for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: media espa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: media temp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cuación fundamental del tráf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-13356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f(veh/hr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=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s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(km/hr) ·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K (veh/km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j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47920" y="3581280"/>
            <a:ext cx="228600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2743200"/>
            <a:ext cx="4572000" cy="259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1142640" y="32004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47920" y="3048120"/>
            <a:ext cx="685800" cy="39888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47920" y="4648320"/>
            <a:ext cx="685800" cy="39888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3372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86200" y="4191120"/>
            <a:ext cx="762120" cy="398880"/>
          </a:xfrm>
          <a:prstGeom prst="rect">
            <a:avLst/>
          </a:prstGeom>
          <a:noFill/>
          <a:ln w="572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4648320" y="403812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05520" y="1828800"/>
            <a:ext cx="380988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= 2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nsidad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= 3veh/2km = 1,5 veh/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lujo: si me paro en un punto y observo por 1 hora veré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50 veces el vehículo ro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70 veces vehículo ve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60 veces vehículo az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5334120"/>
            <a:ext cx="86104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otal = 180 veh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s=(120+140+100)/3=120km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t=(100*50+140*70+120*60)/180=122km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715000" y="56386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=120*1,5=180(veh/h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8000"/>
          </a:bodyPr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lac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-6156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la velocidad decrece con la dens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típico: v(K)=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.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: velocidad de flujo lib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: densidad máxima (jam density, parking lot syndro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m</cp:lastModifiedBy>
  <dcterms:modified xsi:type="dcterms:W3CDTF">2005-10-28T15:31:16Z</dcterms:modified>
  <cp:revision>102</cp:revision>
  <dc:subject/>
  <dc:title>Sin título de diapositiva</dc:title>
</cp:coreProperties>
</file>