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392-93F3-4D2C-B541-53989497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A31-E030-4B10-B31A-89E93B6C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4EC-7EB3-44CF-8CD6-C55D9DF6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DC9-D4D5-4AA3-8BCE-F99191C6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A60-2297-4723-AE09-5F6BF9F4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5CAC-0F62-4F0F-B4B9-37930D08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E53-D095-4559-BCD7-BCAFA6BF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50B-E05B-430E-B331-46034165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7FE-1E7B-433F-815E-839EC076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73FF-F511-4A39-89E3-F29217B7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D204-0A5B-4D54-A858-5E52287B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56B-46CF-4772-876F-ABE17819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AAF0-7F78-4903-A462-6AFB16CAF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44197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asta aquí llegué el 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2971800"/>
            <a:ext cx="4191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4191120"/>
            <a:ext cx="99036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6095880" y="36576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1143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1143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90720" y="2209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886200" y="1905120"/>
                <a:ext cx="1447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doja de los buses de col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1828800"/>
            <a:ext cx="4496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ecide: pintar la mitad de los buses de color azul y la otra mitad de color 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3200400"/>
            <a:ext cx="7621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066680" y="4267080"/>
            <a:ext cx="144792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267080"/>
            <a:ext cx="129528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63868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57150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563868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2438280" y="4267080"/>
            <a:ext cx="76320" cy="1295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39680" y="4572000"/>
            <a:ext cx="203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zul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roj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(bus auto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9144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illiams (1977) --&gt;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grupar alternativas “parecidas” en 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38480" y="1828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990720" y="1828800"/>
            <a:ext cx="914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280" y="2590920"/>
            <a:ext cx="7621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3200400"/>
            <a:ext cx="914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80880" y="3048120"/>
            <a:ext cx="60984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419720"/>
            <a:ext cx="7621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4419720"/>
            <a:ext cx="9144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 ro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29718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factor de escala asociado al error del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nivel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2590920"/>
            <a:ext cx="2666880" cy="9903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6553080" y="16002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152280" y="3962520"/>
            <a:ext cx="1905120" cy="6094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00400" y="3962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943600" y="3657600"/>
                <a:ext cx="21337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2666880" y="5105520"/>
            <a:ext cx="609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utilidad representativa del 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048120" y="5715000"/>
                <a:ext cx="24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7924680" y="1676520"/>
            <a:ext cx="228600" cy="304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2438280"/>
            <a:ext cx="2133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p: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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39625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inf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429000" y="3352680"/>
                <a:ext cx="213372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l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04920" y="55627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ivel superior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ni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92560" y="5054760"/>
                <a:ext cx="2440080" cy="19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33520" y="914400"/>
                <a:ext cx="30477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β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∈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sSub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sup>
                                </m:sSup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715000" y="1752480"/>
                <a:ext cx="205740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143000"/>
            <a:ext cx="807696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términos de los erro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(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    (alternativas element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2514600"/>
            <a:ext cx="449604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+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914040" y="327672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3809880"/>
            <a:ext cx="129564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l nido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3880" y="3809880"/>
            <a:ext cx="190512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ociado a la alternativa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5105520"/>
            <a:ext cx="495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Anal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Correlación n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¿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</a:t>
            </a: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= 1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648320" y="4572000"/>
                <a:ext cx="14475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858000" y="4648320"/>
                <a:ext cx="14479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3886200" y="3352680"/>
            <a:ext cx="12193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2880" y="3429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3505320"/>
            <a:ext cx="14475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~ G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24280" y="586728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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Jerárqu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2120" y="914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 examen recuperativo 99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33520" y="18288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1828800"/>
            <a:ext cx="7617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3276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057040" y="3048120"/>
            <a:ext cx="609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6520" y="441972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44197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 rut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30481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447920" y="182880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34290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666880" y="2666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648320" y="4038480"/>
          <a:ext cx="9899640" cy="25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38480"/>
                    <a:ext cx="9899640" cy="25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4419720" y="2057400"/>
          <a:ext cx="10051920" cy="186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057400"/>
                    <a:ext cx="100519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5562720" y="1523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3200400"/>
                <a:ext cx="1924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886200"/>
            <a:ext cx="739116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1447920"/>
            <a:ext cx="480060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m</cp:lastModifiedBy>
  <dcterms:modified xsi:type="dcterms:W3CDTF">2005-09-02T15:29:01Z</dcterms:modified>
  <cp:revision>50</cp:revision>
  <dc:subject/>
  <dc:title>Sin título de diapositiva</dc:title>
</cp:coreProperties>
</file>