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E1C-157C-435B-B4AA-CC1F8505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FEB-3B6E-4C2E-AE41-1290523A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CEC-8B63-4B36-B773-276A8E46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09F-D767-46B6-B1AA-19CD9E65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F4E-CD4D-47C2-96E5-88E7F85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B64-3E40-471A-A347-45C155B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2DB-FEF7-465A-9717-BBECA746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DE4-E26E-4CA2-A5F3-4E3557D8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804-43F8-4081-B3B9-438A9DD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F62-BB85-420B-8FFA-52F65ECD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BF0-A554-4DDD-9E8A-FC53DEC1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76E-CF64-415C-AA57-C12F527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AFA7-7A22-4A27-9C38-FC0FB18DF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7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229600" y="533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0" idx="3"/>
            <a:endCxn id="65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3"/>
            <a:endCxn id="65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endCxn id="65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08-22T15:13:57Z</dcterms:modified>
  <cp:revision>19</cp:revision>
  <dc:subject/>
  <dc:title>Sin título de diapositiva</dc:title>
</cp:coreProperties>
</file>