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BEA-D1BD-4D7E-97E7-6D23E74F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DC3-FD0A-418C-9CDD-72BC696F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8FF-049F-423B-9028-EE4747A7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E60-5D3E-4022-950A-80E3D9DF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F75-A6B2-4A3C-B0E2-59EF56AD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03F-A843-4A80-B668-6264F354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75F-3512-4D28-8E54-31A1235E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6E4-1C5B-44A2-BED9-1997718E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422-2C2C-445D-B668-04CA3110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B1D-2D57-477C-A976-A7B58B9E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027-0FAF-4A21-A5A9-4B094A6B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D58-65A1-4B64-B77C-ECC5C5D9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92C0-4603-47F7-B00E-1948FDD2D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838080"/>
            <a:ext cx="769608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7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8229600" y="533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1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7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229600" y="152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57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0" idx="3"/>
            <a:endCxn id="652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61" idx="3"/>
            <a:endCxn id="650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63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59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endCxn id="654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791320" y="1371600"/>
          <a:ext cx="3058920" cy="20667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1320" y="137160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791320" y="3962520"/>
          <a:ext cx="3058920" cy="20667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3962520"/>
                    <a:ext cx="305892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m</cp:lastModifiedBy>
  <dcterms:modified xsi:type="dcterms:W3CDTF">2005-08-22T15:13:57Z</dcterms:modified>
  <cp:revision>19</cp:revision>
  <dc:subject/>
  <dc:title>Sin título de diapositiva</dc:title>
</cp:coreProperties>
</file>