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B9A-8A91-441D-A78B-31C7A226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CE4-000C-48CC-8849-1CA4A809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55B-9475-4CA0-8F81-8BDF7585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D31-CFFA-4E33-80E9-58AD28DB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A2C-8AD9-4C99-9362-E10F6608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EF8-A942-4954-AAFB-96F5F64D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F99-8E23-4B73-A981-00C9D287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117-B56A-48C9-A867-A04D976B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BA8-7C7E-45C9-AF26-0D1956B9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30D-4615-46CD-A535-23E510F0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1CE-A2D7-404A-981E-F6958426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427-9199-4A52-9403-D08C63F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356F-E15C-40A5-985F-9549266AC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838080"/>
            <a:ext cx="769608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7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8229600" y="533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7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57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0" idx="3"/>
            <a:endCxn id="652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61" idx="3"/>
            <a:endCxn id="650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63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7" name=""/>
          <p:cNvCxnSpPr>
            <a:stCxn id="659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endCxn id="654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791320" y="1371600"/>
          <a:ext cx="3058920" cy="20667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137160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791320" y="3962520"/>
          <a:ext cx="3058920" cy="20667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396252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m</cp:lastModifiedBy>
  <dcterms:modified xsi:type="dcterms:W3CDTF">2005-08-22T15:13:57Z</dcterms:modified>
  <cp:revision>19</cp:revision>
  <dc:subject/>
  <dc:title>Sin título de diapositiva</dc:title>
</cp:coreProperties>
</file>