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CD8-872E-4978-BCD9-6CB89F3C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DA9-B08F-4C71-A79B-B7A32E69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EC5-BF34-4753-B77D-3E7BD2EF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BEF-A107-45CB-9F27-CCA03907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9E87-699C-4BB9-92B5-EE9E127E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BBD-BF7C-4C03-9C13-3BD25503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685-A8D4-41AE-9E73-2461440C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E65-A64B-40EE-B71A-0796946D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AD3-624A-4710-AAF3-60D3C3C3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451-6FE2-4A95-AD53-55F9924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05D-76E9-4A34-95B8-67D648B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85C-318C-4949-B7BF-2FDB1D89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D704-F8E4-40C2-931B-40AD28D8D5B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m</cp:lastModifiedBy>
  <dcterms:modified xsi:type="dcterms:W3CDTF">2005-08-09T16:14:06Z</dcterms:modified>
  <cp:revision>19</cp:revision>
  <dc:subject/>
  <dc:title>Sin título de diapositiva</dc:title>
</cp:coreProperties>
</file>