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media/image29.jpeg" ContentType="image/jpeg"/>
  <Override PartName="/ppt/media/image28.jpeg" ContentType="image/jpeg"/>
  <Override PartName="/ppt/media/image25.wmf" ContentType="image/x-wmf"/>
  <Override PartName="/ppt/media/image15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26.wmf" ContentType="image/x-wmf"/>
  <Override PartName="/ppt/media/image1.wmf" ContentType="image/x-wmf"/>
  <Override PartName="/ppt/media/image24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13.jpeg" ContentType="image/jpeg"/>
  <Override PartName="/ppt/media/image30.jpeg" ContentType="image/jpeg"/>
  <Override PartName="/ppt/media/image36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41.png" ContentType="image/png"/>
  <Override PartName="/ppt/media/image42.jpeg" ContentType="image/jpeg"/>
  <Override PartName="/ppt/media/image43.jpeg" ContentType="image/jpeg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722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3C6C-0F45-42BF-B107-4989B6776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1FA8-35A9-4CCA-88E2-F6509DCC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073A-1480-46B2-A1E6-9A11DA585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7EA2-0EB1-4399-8FED-55B4F0301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B43F-80FA-444E-AB95-24ED624B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8FF2-A09B-4F5A-ADE5-B2DE863C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178C-11DF-4F2B-A478-C5231314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D968-C94E-4BD8-B46D-76F684B4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98680" y="101160"/>
            <a:ext cx="6222960" cy="46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041A-B9E2-4995-83B6-331F3376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F606-9A98-43C9-B054-D4117E43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D21A-9CFC-4357-9330-C9B6D5BE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1D23-3308-4180-9D92-FAC1880D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54C9-1F0F-4F0A-B7EA-8BFD9AE74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192320"/>
            <a:ext cx="7620120" cy="1440"/>
          </a:xfrm>
          <a:prstGeom prst="line">
            <a:avLst/>
          </a:prstGeom>
          <a:ln w="57240">
            <a:solidFill>
              <a:srgbClr val="e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108160"/>
            <a:ext cx="914400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CI43A Análisis de Sistemas de Transport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3680" y="4200480"/>
            <a:ext cx="826452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6680" y="1593720"/>
            <a:ext cx="6742080" cy="4853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30520" y="63360"/>
            <a:ext cx="602136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úmero de au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920" y="1511280"/>
            <a:ext cx="7018200" cy="4932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30520" y="63360"/>
            <a:ext cx="602136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utos por hog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01720" y="1255680"/>
            <a:ext cx="5251680" cy="5602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576600" y="2259000"/>
            <a:ext cx="790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N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2920" y="5530680"/>
            <a:ext cx="7779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61040" y="5211720"/>
            <a:ext cx="139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-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62120" y="4483080"/>
            <a:ext cx="1033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O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13520" y="3017880"/>
            <a:ext cx="936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14880" y="3936960"/>
            <a:ext cx="865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endCxn id="106" idx="1"/>
          </p:cNvCxnSpPr>
          <p:nvPr/>
        </p:nvCxnSpPr>
        <p:spPr>
          <a:xfrm>
            <a:off x="1569960" y="2395440"/>
            <a:ext cx="2007360" cy="7200"/>
          </a:xfrm>
          <a:prstGeom prst="straightConnector1">
            <a:avLst/>
          </a:prstGeom>
          <a:ln w="0">
            <a:noFill/>
          </a:ln>
        </p:spPr>
      </p:cxnSp>
      <p:sp>
        <p:nvSpPr>
          <p:cNvPr id="113" name=""/>
          <p:cNvSpPr/>
          <p:nvPr/>
        </p:nvSpPr>
        <p:spPr>
          <a:xfrm>
            <a:off x="1535040" y="88920"/>
            <a:ext cx="67532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Santiago en Seis Grandes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5600" y="1243080"/>
            <a:ext cx="5251320" cy="5602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41840" y="2208240"/>
            <a:ext cx="936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2040" y="5721480"/>
            <a:ext cx="827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92720" y="5160960"/>
            <a:ext cx="1295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UR-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59040" y="4305240"/>
            <a:ext cx="10080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79960" y="3170160"/>
            <a:ext cx="9367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78280" y="3936960"/>
            <a:ext cx="865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920" y="1989000"/>
            <a:ext cx="17017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1.4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9.4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: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.360.0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16" idx="1"/>
          </p:cNvCxnSpPr>
          <p:nvPr/>
        </p:nvCxnSpPr>
        <p:spPr>
          <a:xfrm flipV="1">
            <a:off x="1898640" y="2350440"/>
            <a:ext cx="1843920" cy="3373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24" name=""/>
          <p:cNvCxnSpPr>
            <a:stCxn id="122" idx="3"/>
            <a:endCxn id="116" idx="1"/>
          </p:cNvCxnSpPr>
          <p:nvPr/>
        </p:nvCxnSpPr>
        <p:spPr>
          <a:xfrm flipV="1">
            <a:off x="1898640" y="2350440"/>
            <a:ext cx="184392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6981840" y="166860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58.805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75.20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      2.444.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0" lang="es-ES_tradn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6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60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0960" y="3724200"/>
            <a:ext cx="183528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14.2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8.1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664.8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360" y="5191200"/>
            <a:ext cx="1720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34.5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345.3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730.2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11840" y="3355920"/>
            <a:ext cx="19051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.936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6.044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684.36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80240" y="521820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25.8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0.8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596.9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6" idx="3"/>
            <a:endCxn id="119" idx="1"/>
          </p:cNvCxnSpPr>
          <p:nvPr/>
        </p:nvCxnSpPr>
        <p:spPr>
          <a:xfrm>
            <a:off x="2046240" y="4422240"/>
            <a:ext cx="713520" cy="2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7" idx="3"/>
            <a:endCxn id="117" idx="1"/>
          </p:cNvCxnSpPr>
          <p:nvPr/>
        </p:nvCxnSpPr>
        <p:spPr>
          <a:xfrm flipV="1">
            <a:off x="1919160" y="5864040"/>
            <a:ext cx="1713600" cy="2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9" idx="1"/>
            <a:endCxn id="118" idx="2"/>
          </p:cNvCxnSpPr>
          <p:nvPr/>
        </p:nvCxnSpPr>
        <p:spPr>
          <a:xfrm flipH="1" flipV="1">
            <a:off x="5939640" y="5444640"/>
            <a:ext cx="8406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8" idx="1"/>
            <a:endCxn id="121" idx="3"/>
          </p:cNvCxnSpPr>
          <p:nvPr/>
        </p:nvCxnSpPr>
        <p:spPr>
          <a:xfrm flipH="1">
            <a:off x="4743000" y="4053960"/>
            <a:ext cx="1969200" cy="2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5" idx="1"/>
            <a:endCxn id="120" idx="0"/>
          </p:cNvCxnSpPr>
          <p:nvPr/>
        </p:nvCxnSpPr>
        <p:spPr>
          <a:xfrm flipH="1">
            <a:off x="5547960" y="2366640"/>
            <a:ext cx="1434240" cy="80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535040" y="88920"/>
            <a:ext cx="67532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Santiago en Seis Grandes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SUPHG97C" descr=""/>
          <p:cNvPicPr/>
          <p:nvPr/>
        </p:nvPicPr>
        <p:blipFill>
          <a:blip r:embed="rId1"/>
          <a:stretch/>
        </p:blipFill>
        <p:spPr>
          <a:xfrm>
            <a:off x="1057320" y="1476360"/>
            <a:ext cx="7027920" cy="50817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838160" y="88920"/>
            <a:ext cx="5869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Area Residenci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HOGICO97" descr=""/>
          <p:cNvPicPr/>
          <p:nvPr/>
        </p:nvPicPr>
        <p:blipFill>
          <a:blip r:embed="rId1"/>
          <a:stretch/>
        </p:blipFill>
        <p:spPr>
          <a:xfrm>
            <a:off x="1460520" y="1252440"/>
            <a:ext cx="6607080" cy="5241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554120" y="212760"/>
            <a:ext cx="683892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Distribución Espacial Ingre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rcRect l="15238" t="13622" r="4755" b="6571"/>
          <a:stretch/>
        </p:blipFill>
        <p:spPr>
          <a:xfrm>
            <a:off x="1092240" y="1324080"/>
            <a:ext cx="7558200" cy="53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1838160" y="88920"/>
            <a:ext cx="5869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Internet en los hoga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834240" y="5529240"/>
            <a:ext cx="1814400" cy="1361520"/>
            <a:chOff x="6834240" y="5529240"/>
            <a:chExt cx="1814400" cy="1361520"/>
          </a:xfrm>
        </p:grpSpPr>
        <p:sp>
          <p:nvSpPr>
            <p:cNvPr id="147" name=""/>
            <p:cNvSpPr/>
            <p:nvPr/>
          </p:nvSpPr>
          <p:spPr>
            <a:xfrm>
              <a:off x="6834240" y="5529240"/>
              <a:ext cx="1814400" cy="1199880"/>
            </a:xfrm>
            <a:prstGeom prst="cube">
              <a:avLst>
                <a:gd name="adj" fmla="val 440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81800" y="6027480"/>
              <a:ext cx="86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norm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51560" y="6370560"/>
              <a:ext cx="125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Banda anch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81800" y="5667120"/>
              <a:ext cx="107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50160" y="5999040"/>
              <a:ext cx="360360" cy="311040"/>
            </a:xfrm>
            <a:prstGeom prst="cube">
              <a:avLst>
                <a:gd name="adj" fmla="val 1049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50160" y="6367320"/>
              <a:ext cx="360360" cy="3110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50160" y="5638680"/>
              <a:ext cx="360360" cy="311040"/>
            </a:xfrm>
            <a:prstGeom prst="cube">
              <a:avLst>
                <a:gd name="adj" fmla="val 10495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SUPCM97C" descr=""/>
          <p:cNvPicPr/>
          <p:nvPr/>
        </p:nvPicPr>
        <p:blipFill>
          <a:blip r:embed="rId1"/>
          <a:stretch/>
        </p:blipFill>
        <p:spPr>
          <a:xfrm>
            <a:off x="1117440" y="1468440"/>
            <a:ext cx="6856560" cy="49719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838160" y="88920"/>
            <a:ext cx="68472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Area Comercial (minorist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2392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MATRI97C" descr=""/>
          <p:cNvPicPr/>
          <p:nvPr/>
        </p:nvPicPr>
        <p:blipFill>
          <a:blip r:embed="rId1"/>
          <a:stretch/>
        </p:blipFill>
        <p:spPr>
          <a:xfrm>
            <a:off x="1206360" y="1576440"/>
            <a:ext cx="6855120" cy="4983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838160" y="88920"/>
            <a:ext cx="5869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duc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SUPIN97C" descr=""/>
          <p:cNvPicPr/>
          <p:nvPr/>
        </p:nvPicPr>
        <p:blipFill>
          <a:blip r:embed="rId1"/>
          <a:stretch/>
        </p:blipFill>
        <p:spPr>
          <a:xfrm>
            <a:off x="1482840" y="1476360"/>
            <a:ext cx="6891120" cy="49831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838160" y="88920"/>
            <a:ext cx="5869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Area Indust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7240" y="101160"/>
            <a:ext cx="83595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ff"/>
                </a:solidFill>
                <a:latin typeface="Times New Roman"/>
              </a:rPr>
              <a:t>¿Qué pasa si no se interviene el sistema?: Círculo vicioso del transporte público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4040" y="1312920"/>
            <a:ext cx="301140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1120" y="208584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 terr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85560"/>
            <a:ext cx="77724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o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32400" y="1262160"/>
            <a:ext cx="312732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12747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o in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5680" y="205596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sa mot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6480" y="294480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perif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52400" y="3639960"/>
            <a:ext cx="33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cia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1800" y="455436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éficit en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9280" y="5324400"/>
            <a:ext cx="34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orridos 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04480" y="2944800"/>
            <a:ext cx="18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29320" y="367812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uarios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39320" y="4529160"/>
            <a:ext cx="18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rifas T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1840" y="6126120"/>
            <a:ext cx="34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gradación del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1040" y="186696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1040" y="249696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51040" y="333360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1040" y="4376880"/>
            <a:ext cx="0" cy="24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1040" y="496872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25480" y="576576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45320" y="1827360"/>
            <a:ext cx="0" cy="33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57920" y="247176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26360" y="234324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637480" y="2343240"/>
            <a:ext cx="0" cy="151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762680" y="3860640"/>
            <a:ext cx="87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591240" y="417024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73560" y="6383160"/>
            <a:ext cx="44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8766000" y="4026960"/>
            <a:ext cx="0" cy="23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7722720" y="4054320"/>
            <a:ext cx="10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35440" y="4800600"/>
            <a:ext cx="151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809880" y="4002120"/>
            <a:ext cx="171288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32440" y="3873600"/>
            <a:ext cx="135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106880" y="3218040"/>
            <a:ext cx="1479600" cy="47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887640" y="2419200"/>
            <a:ext cx="1570320" cy="73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23960" y="24019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m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98480" y="2207880"/>
            <a:ext cx="778824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ff"/>
                </a:solidFill>
                <a:latin typeface="Times New Roman"/>
              </a:rPr>
              <a:t>El Sistema de Transporte de Santiago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09720" y="266760"/>
            <a:ext cx="6400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rincipales Arcos  Urba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127240" y="1371600"/>
            <a:ext cx="5200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Sistema de Bu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220760"/>
            <a:ext cx="47052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380 lín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Amplia cobertura espacial y alta frecu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0,1 trasbordos/vi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8.000 buses propiedad priv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4.000 “compañía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Oferta no compet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No hay subsidio operac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Mantención de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Competencia “en la calle”  por los pasajeros: insegu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82 km vías exclusivas en punta mañ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0" t="0" r="4517" b="0"/>
          <a:stretch/>
        </p:blipFill>
        <p:spPr>
          <a:xfrm>
            <a:off x="4543560" y="1398600"/>
            <a:ext cx="460044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Sistema de Metr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759120" y="1243080"/>
            <a:ext cx="5251680" cy="5602320"/>
            <a:chOff x="3759120" y="1243080"/>
            <a:chExt cx="5251680" cy="560232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3759120" y="1243080"/>
              <a:ext cx="5251680" cy="560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0" name=""/>
            <p:cNvGrpSpPr/>
            <p:nvPr/>
          </p:nvGrpSpPr>
          <p:grpSpPr>
            <a:xfrm>
              <a:off x="5511960" y="3543480"/>
              <a:ext cx="1752480" cy="660240"/>
              <a:chOff x="5511960" y="3543480"/>
              <a:chExt cx="1752480" cy="660240"/>
            </a:xfrm>
          </p:grpSpPr>
          <p:sp>
            <p:nvSpPr>
              <p:cNvPr id="181" name=""/>
              <p:cNvSpPr/>
              <p:nvPr/>
            </p:nvSpPr>
            <p:spPr>
              <a:xfrm flipH="1">
                <a:off x="7023240" y="3543480"/>
                <a:ext cx="241200" cy="3780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6527880" y="3587760"/>
                <a:ext cx="488880" cy="34272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5657400" y="3924360"/>
                <a:ext cx="876600" cy="27936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 flipV="1">
                <a:off x="5530680" y="4165560"/>
                <a:ext cx="120600" cy="3816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 flipV="1">
                <a:off x="5511960" y="4019400"/>
                <a:ext cx="25200" cy="14616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6318360" y="3784320"/>
              <a:ext cx="215640" cy="1416240"/>
              <a:chOff x="6318360" y="3784320"/>
              <a:chExt cx="215640" cy="1416240"/>
            </a:xfrm>
          </p:grpSpPr>
          <p:sp>
            <p:nvSpPr>
              <p:cNvPr id="187" name=""/>
              <p:cNvSpPr/>
              <p:nvPr/>
            </p:nvSpPr>
            <p:spPr>
              <a:xfrm flipH="1" flipV="1">
                <a:off x="6514920" y="4267080"/>
                <a:ext cx="19080" cy="13968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6343560" y="4400640"/>
                <a:ext cx="184320" cy="7999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flipV="1">
                <a:off x="6438960" y="4222800"/>
                <a:ext cx="76320" cy="3816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flipV="1">
                <a:off x="6388200" y="4152960"/>
                <a:ext cx="38160" cy="763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flipV="1">
                <a:off x="6324120" y="3867120"/>
                <a:ext cx="57240" cy="2858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6318360" y="3790800"/>
                <a:ext cx="31680" cy="763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6356520" y="3784320"/>
                <a:ext cx="75960" cy="61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6337080" y="3854520"/>
              <a:ext cx="838440" cy="1162080"/>
              <a:chOff x="6337080" y="3854520"/>
              <a:chExt cx="838440" cy="1162080"/>
            </a:xfrm>
          </p:grpSpPr>
          <p:sp>
            <p:nvSpPr>
              <p:cNvPr id="195" name=""/>
              <p:cNvSpPr/>
              <p:nvPr/>
            </p:nvSpPr>
            <p:spPr>
              <a:xfrm flipH="1" flipV="1">
                <a:off x="6972480" y="4800600"/>
                <a:ext cx="203040" cy="21600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flipV="1">
                <a:off x="6622920" y="3860280"/>
                <a:ext cx="355680" cy="93348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6337080" y="3854520"/>
                <a:ext cx="285480" cy="1908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5067360" y="3543480"/>
              <a:ext cx="74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3300"/>
                  </a:solidFill>
                  <a:latin typeface="Times New Roman"/>
                </a:rPr>
                <a:t>L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12160" y="4775040"/>
              <a:ext cx="74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ff00"/>
                  </a:solidFill>
                  <a:latin typeface="Times New Roman"/>
                </a:rPr>
                <a:t>L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67280" y="5156280"/>
              <a:ext cx="7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ff66"/>
                  </a:solidFill>
                  <a:latin typeface="Times New Roman"/>
                </a:rPr>
                <a:t>L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06360" y="1486080"/>
            <a:ext cx="415620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3 lín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Longitud total: 38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Alta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Compañía esta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No hay subsidio operaci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Prec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1447920"/>
            <a:ext cx="801360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Transporte Público : Tarifa no integra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Bus: $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Metro: desde $310 hasta 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Taxi-Colectivo: ~600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Transporte Priv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Bencina: 500 $/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Estacionamiento en el centro: ~1800 $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00ff"/>
                </a:solidFill>
                <a:latin typeface="Times New Roman"/>
              </a:rPr>
              <a:t>Demanda de Transporte 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149960" y="4911840"/>
            <a:ext cx="1562400" cy="862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amin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bicicl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54400" y="1828800"/>
            <a:ext cx="3195720" cy="70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16.481.04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25480" y="88920"/>
            <a:ext cx="68216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iajes Totales  (día laboral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35240" y="1914480"/>
            <a:ext cx="28652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Tot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41680" y="3560760"/>
            <a:ext cx="2719440" cy="61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Comic Sans MS"/>
              </a:rPr>
              <a:t>10.147.247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25560" y="3646440"/>
            <a:ext cx="3535200" cy="45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Viajes motoriza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76600" y="5049720"/>
            <a:ext cx="2683080" cy="61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Comic Sans MS"/>
              </a:rPr>
              <a:t>6.333.796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0240" y="5138640"/>
            <a:ext cx="3830760" cy="45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Viajes no motorizado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22840" y="2722680"/>
            <a:ext cx="11160" cy="58716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02200" y="2722680"/>
            <a:ext cx="11160" cy="58716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75480" y="4292640"/>
            <a:ext cx="10800" cy="58716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500440" y="4587840"/>
            <a:ext cx="58716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402160" y="6346800"/>
            <a:ext cx="2719440" cy="432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13400" y="6354720"/>
            <a:ext cx="24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1.880.887 viaj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993600" y="6329520"/>
            <a:ext cx="2543040" cy="431640"/>
            <a:chOff x="993600" y="6329520"/>
            <a:chExt cx="2543040" cy="431640"/>
          </a:xfrm>
        </p:grpSpPr>
        <p:sp>
          <p:nvSpPr>
            <p:cNvPr id="220" name=""/>
            <p:cNvSpPr/>
            <p:nvPr/>
          </p:nvSpPr>
          <p:spPr>
            <a:xfrm>
              <a:off x="993600" y="6329520"/>
              <a:ext cx="2543040" cy="43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4880" y="6375600"/>
              <a:ext cx="24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omic Sans MS"/>
                </a:rPr>
                <a:t>16.481.043 viaj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626000" y="1849320"/>
            <a:ext cx="4479840" cy="44103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2840" y="1812960"/>
            <a:ext cx="4489560" cy="438624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960480" y="1395360"/>
            <a:ext cx="2543040" cy="431640"/>
            <a:chOff x="960480" y="1395360"/>
            <a:chExt cx="2543040" cy="431640"/>
          </a:xfrm>
        </p:grpSpPr>
        <p:sp>
          <p:nvSpPr>
            <p:cNvPr id="225" name=""/>
            <p:cNvSpPr/>
            <p:nvPr/>
          </p:nvSpPr>
          <p:spPr>
            <a:xfrm>
              <a:off x="960480" y="1395360"/>
              <a:ext cx="2543040" cy="43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31760" y="1466640"/>
              <a:ext cx="241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Dia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586320" y="1251000"/>
            <a:ext cx="1957320" cy="884160"/>
            <a:chOff x="3586320" y="1251000"/>
            <a:chExt cx="1957320" cy="884160"/>
          </a:xfrm>
        </p:grpSpPr>
        <p:sp>
          <p:nvSpPr>
            <p:cNvPr id="228" name=""/>
            <p:cNvSpPr/>
            <p:nvPr/>
          </p:nvSpPr>
          <p:spPr>
            <a:xfrm>
              <a:off x="3586320" y="1251000"/>
              <a:ext cx="1939680" cy="88416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94120" y="1576440"/>
              <a:ext cx="86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06720" y="1805040"/>
              <a:ext cx="8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94120" y="1368360"/>
              <a:ext cx="59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28880" y="162396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28880" y="183996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8880" y="140328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8400" y="1636560"/>
              <a:ext cx="189000" cy="16380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78400" y="1415880"/>
              <a:ext cx="189000" cy="163800"/>
            </a:xfrm>
            <a:prstGeom prst="cube">
              <a:avLst>
                <a:gd name="adj" fmla="val 10495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668840" y="1576440"/>
              <a:ext cx="861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omic Sans MS"/>
                </a:rPr>
                <a:t>taxi-tc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56240" y="1368360"/>
              <a:ext cx="852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omic Sans MS"/>
                </a:rPr>
                <a:t>Camin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78400" y="185256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681440" y="1792440"/>
              <a:ext cx="86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508720" y="1395360"/>
            <a:ext cx="2719080" cy="431640"/>
            <a:chOff x="5508720" y="1395360"/>
            <a:chExt cx="2719080" cy="431640"/>
          </a:xfrm>
        </p:grpSpPr>
        <p:sp>
          <p:nvSpPr>
            <p:cNvPr id="242" name=""/>
            <p:cNvSpPr/>
            <p:nvPr/>
          </p:nvSpPr>
          <p:spPr>
            <a:xfrm>
              <a:off x="5508720" y="1395360"/>
              <a:ext cx="271908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45160" y="1466640"/>
              <a:ext cx="247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Punta mañana: 7:30-8: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136520" y="88920"/>
            <a:ext cx="69836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artición Modal  (día laboral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0520" y="76320"/>
            <a:ext cx="82929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iajes por propósito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6502320" y="3608280"/>
            <a:ext cx="720360" cy="258840"/>
            <a:chOff x="6502320" y="3608280"/>
            <a:chExt cx="720360" cy="258840"/>
          </a:xfrm>
        </p:grpSpPr>
        <p:sp>
          <p:nvSpPr>
            <p:cNvPr id="248" name=""/>
            <p:cNvSpPr/>
            <p:nvPr/>
          </p:nvSpPr>
          <p:spPr>
            <a:xfrm>
              <a:off x="6502320" y="360828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02320" y="362088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7858080" y="4765680"/>
            <a:ext cx="1080720" cy="260280"/>
            <a:chOff x="7858080" y="4765680"/>
            <a:chExt cx="1080720" cy="260280"/>
          </a:xfrm>
        </p:grpSpPr>
        <p:sp>
          <p:nvSpPr>
            <p:cNvPr id="251" name=""/>
            <p:cNvSpPr/>
            <p:nvPr/>
          </p:nvSpPr>
          <p:spPr>
            <a:xfrm>
              <a:off x="7858080" y="476568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58080" y="477972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L 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967360" y="5340240"/>
            <a:ext cx="1223280" cy="258840"/>
            <a:chOff x="5967360" y="5340240"/>
            <a:chExt cx="1223280" cy="258840"/>
          </a:xfrm>
        </p:grpSpPr>
        <p:sp>
          <p:nvSpPr>
            <p:cNvPr id="254" name=""/>
            <p:cNvSpPr/>
            <p:nvPr/>
          </p:nvSpPr>
          <p:spPr>
            <a:xfrm>
              <a:off x="5967360" y="5340240"/>
              <a:ext cx="122328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67360" y="5352840"/>
              <a:ext cx="122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L 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60440" y="1311120"/>
            <a:ext cx="4765680" cy="3240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200560" y="2619360"/>
            <a:ext cx="3840120" cy="359892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6475320" y="5391000"/>
            <a:ext cx="720360" cy="258840"/>
            <a:chOff x="6475320" y="5391000"/>
            <a:chExt cx="720360" cy="258840"/>
          </a:xfrm>
        </p:grpSpPr>
        <p:sp>
          <p:nvSpPr>
            <p:cNvPr id="259" name=""/>
            <p:cNvSpPr/>
            <p:nvPr/>
          </p:nvSpPr>
          <p:spPr>
            <a:xfrm>
              <a:off x="6475320" y="539100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475320" y="540360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732640" y="3659040"/>
            <a:ext cx="1080720" cy="260280"/>
            <a:chOff x="5732640" y="3659040"/>
            <a:chExt cx="1080720" cy="260280"/>
          </a:xfrm>
        </p:grpSpPr>
        <p:sp>
          <p:nvSpPr>
            <p:cNvPr id="262" name=""/>
            <p:cNvSpPr/>
            <p:nvPr/>
          </p:nvSpPr>
          <p:spPr>
            <a:xfrm>
              <a:off x="5732640" y="365904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32640" y="367308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7365960" y="3832200"/>
            <a:ext cx="1223280" cy="258840"/>
            <a:chOff x="7365960" y="3832200"/>
            <a:chExt cx="1223280" cy="258840"/>
          </a:xfrm>
        </p:grpSpPr>
        <p:sp>
          <p:nvSpPr>
            <p:cNvPr id="265" name=""/>
            <p:cNvSpPr/>
            <p:nvPr/>
          </p:nvSpPr>
          <p:spPr>
            <a:xfrm>
              <a:off x="7365960" y="3832200"/>
              <a:ext cx="122328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365960" y="3844800"/>
              <a:ext cx="122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57200" y="1676520"/>
            <a:ext cx="8381880" cy="1752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88920" y="4003560"/>
          <a:ext cx="9016920" cy="285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4003560"/>
                    <a:ext cx="901692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98280" y="1270080"/>
          <a:ext cx="8994960" cy="2763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280" y="1270080"/>
                    <a:ext cx="8994960" cy="27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563400" y="0"/>
            <a:ext cx="85806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istograma de evolución de propósitos de viaje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7845480" y="1343160"/>
            <a:ext cx="1187280" cy="884160"/>
            <a:chOff x="7845480" y="1343160"/>
            <a:chExt cx="1187280" cy="884160"/>
          </a:xfrm>
        </p:grpSpPr>
        <p:sp>
          <p:nvSpPr>
            <p:cNvPr id="274" name=""/>
            <p:cNvSpPr/>
            <p:nvPr/>
          </p:nvSpPr>
          <p:spPr>
            <a:xfrm>
              <a:off x="7845480" y="1343160"/>
              <a:ext cx="1157040" cy="884160"/>
            </a:xfrm>
            <a:prstGeom prst="cube">
              <a:avLst>
                <a:gd name="adj" fmla="val 440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153280" y="166860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165880" y="189720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178840" y="146052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988040" y="171612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988040" y="193212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88040" y="149544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996840" y="4454640"/>
            <a:ext cx="1366920" cy="468360"/>
            <a:chOff x="996840" y="4454640"/>
            <a:chExt cx="1366920" cy="468360"/>
          </a:xfrm>
        </p:grpSpPr>
        <p:sp>
          <p:nvSpPr>
            <p:cNvPr id="282" name=""/>
            <p:cNvSpPr/>
            <p:nvPr/>
          </p:nvSpPr>
          <p:spPr>
            <a:xfrm>
              <a:off x="996840" y="4454640"/>
              <a:ext cx="1366920" cy="468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08080" y="4525920"/>
              <a:ext cx="12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EOD 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001880" y="1677960"/>
            <a:ext cx="1380960" cy="431640"/>
            <a:chOff x="1001880" y="1677960"/>
            <a:chExt cx="1380960" cy="431640"/>
          </a:xfrm>
        </p:grpSpPr>
        <p:sp>
          <p:nvSpPr>
            <p:cNvPr id="285" name=""/>
            <p:cNvSpPr/>
            <p:nvPr/>
          </p:nvSpPr>
          <p:spPr>
            <a:xfrm>
              <a:off x="1001880" y="1677960"/>
              <a:ext cx="138096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77840" y="1749240"/>
              <a:ext cx="126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EOD 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3120" y="101160"/>
            <a:ext cx="82677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ff"/>
                </a:solidFill>
                <a:latin typeface="Times New Roman"/>
              </a:rPr>
              <a:t>==&gt; necesidad de modelar para predecir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971960" y="1555920"/>
                <a:ext cx="2441520" cy="105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1003320" y="1866960"/>
            <a:ext cx="63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producto en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97000" y="3603600"/>
            <a:ext cx="67453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Agreg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(describir, modelar, predeci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emporal: </a:t>
            </a: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period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po de persona o bien: </a:t>
            </a: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seg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pacial:</a:t>
            </a: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zon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326280" y="5616720"/>
            <a:ext cx="2484360" cy="46008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44760" y="5607000"/>
            <a:ext cx="2484720" cy="4604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4000" y="5587920"/>
            <a:ext cx="2484360" cy="48600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1440" y="5724360"/>
            <a:ext cx="20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[ mayor a 1.599.999 $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343160" y="88920"/>
            <a:ext cx="650052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artición Modal  por ingreso del hogar ( día laboral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14880" y="573732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450.000 - 1.599.999 $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600960" y="5708520"/>
            <a:ext cx="21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menor a 450.000 $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600360" y="1479600"/>
            <a:ext cx="2008440" cy="884160"/>
            <a:chOff x="3600360" y="1479600"/>
            <a:chExt cx="2008440" cy="884160"/>
          </a:xfrm>
        </p:grpSpPr>
        <p:sp>
          <p:nvSpPr>
            <p:cNvPr id="295" name=""/>
            <p:cNvSpPr/>
            <p:nvPr/>
          </p:nvSpPr>
          <p:spPr>
            <a:xfrm>
              <a:off x="3600360" y="1479600"/>
              <a:ext cx="1940040" cy="88416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908520" y="180468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21120" y="203328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08520" y="159696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43280" y="185256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43280" y="206820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43280" y="163188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68760" y="186516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68760" y="164448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46600" y="1804680"/>
              <a:ext cx="86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759200" y="1596960"/>
              <a:ext cx="768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amin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4011480" y="6207120"/>
            <a:ext cx="1249200" cy="396720"/>
            <a:chOff x="4011480" y="6207120"/>
            <a:chExt cx="1249200" cy="396720"/>
          </a:xfrm>
        </p:grpSpPr>
        <p:sp>
          <p:nvSpPr>
            <p:cNvPr id="307" name=""/>
            <p:cNvSpPr/>
            <p:nvPr/>
          </p:nvSpPr>
          <p:spPr>
            <a:xfrm>
              <a:off x="4011480" y="6207120"/>
              <a:ext cx="1249200" cy="396720"/>
            </a:xfrm>
            <a:prstGeom prst="cube">
              <a:avLst>
                <a:gd name="adj" fmla="val 1470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35240" y="6322680"/>
              <a:ext cx="1131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$ Agosto 2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2451240"/>
            <a:ext cx="3059280" cy="30002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6084720" y="2519280"/>
            <a:ext cx="3059280" cy="29703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3032280" y="2460600"/>
            <a:ext cx="305892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91960" y="1523880"/>
            <a:ext cx="7197840" cy="50371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20760" y="88920"/>
            <a:ext cx="65340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Evolucion de generación de viajes motorizados por hog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0" y="1287360"/>
          <a:ext cx="9144000" cy="258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87360"/>
                    <a:ext cx="914400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0" y="3811680"/>
          <a:ext cx="9144000" cy="3046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11680"/>
                    <a:ext cx="9144000" cy="30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9" name=""/>
          <p:cNvGrpSpPr/>
          <p:nvPr/>
        </p:nvGrpSpPr>
        <p:grpSpPr>
          <a:xfrm>
            <a:off x="7858080" y="1406520"/>
            <a:ext cx="1187280" cy="884160"/>
            <a:chOff x="7858080" y="1406520"/>
            <a:chExt cx="1187280" cy="884160"/>
          </a:xfrm>
        </p:grpSpPr>
        <p:sp>
          <p:nvSpPr>
            <p:cNvPr id="320" name=""/>
            <p:cNvSpPr/>
            <p:nvPr/>
          </p:nvSpPr>
          <p:spPr>
            <a:xfrm>
              <a:off x="7858080" y="1406520"/>
              <a:ext cx="1157040" cy="884160"/>
            </a:xfrm>
            <a:prstGeom prst="cube">
              <a:avLst>
                <a:gd name="adj" fmla="val 440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165880" y="173196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STUD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178480" y="196056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191440" y="152388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Ot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000640" y="177948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000640" y="199548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000640" y="155880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996840" y="4302000"/>
            <a:ext cx="1366920" cy="468360"/>
            <a:chOff x="996840" y="4302000"/>
            <a:chExt cx="1366920" cy="468360"/>
          </a:xfrm>
        </p:grpSpPr>
        <p:sp>
          <p:nvSpPr>
            <p:cNvPr id="328" name=""/>
            <p:cNvSpPr/>
            <p:nvPr/>
          </p:nvSpPr>
          <p:spPr>
            <a:xfrm>
              <a:off x="996840" y="4302000"/>
              <a:ext cx="1366920" cy="468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08080" y="4373280"/>
              <a:ext cx="12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ODS 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1001880" y="1728720"/>
            <a:ext cx="1380960" cy="431640"/>
            <a:chOff x="1001880" y="1728720"/>
            <a:chExt cx="1380960" cy="431640"/>
          </a:xfrm>
        </p:grpSpPr>
        <p:sp>
          <p:nvSpPr>
            <p:cNvPr id="331" name=""/>
            <p:cNvSpPr/>
            <p:nvPr/>
          </p:nvSpPr>
          <p:spPr>
            <a:xfrm>
              <a:off x="1001880" y="1728720"/>
              <a:ext cx="138096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077840" y="1800000"/>
              <a:ext cx="126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ODS 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1133640" y="88920"/>
            <a:ext cx="80103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istograma  evolución propósito  viajes motorizados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41520" y="101520"/>
            <a:ext cx="822132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volución de la partición modal de viajes motorizados 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6372360" y="1370160"/>
            <a:ext cx="793080" cy="431640"/>
            <a:chOff x="6372360" y="1370160"/>
            <a:chExt cx="793080" cy="431640"/>
          </a:xfrm>
        </p:grpSpPr>
        <p:sp>
          <p:nvSpPr>
            <p:cNvPr id="337" name=""/>
            <p:cNvSpPr/>
            <p:nvPr/>
          </p:nvSpPr>
          <p:spPr>
            <a:xfrm>
              <a:off x="6372360" y="1370160"/>
              <a:ext cx="792000" cy="43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445080" y="1441440"/>
              <a:ext cx="72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836720" y="1370160"/>
            <a:ext cx="934920" cy="431640"/>
            <a:chOff x="1836720" y="1370160"/>
            <a:chExt cx="934920" cy="431640"/>
          </a:xfrm>
        </p:grpSpPr>
        <p:sp>
          <p:nvSpPr>
            <p:cNvPr id="340" name=""/>
            <p:cNvSpPr/>
            <p:nvPr/>
          </p:nvSpPr>
          <p:spPr>
            <a:xfrm>
              <a:off x="1836720" y="1370160"/>
              <a:ext cx="86364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979640" y="144144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4140360" y="1557360"/>
            <a:ext cx="936360" cy="287280"/>
          </a:xfrm>
          <a:prstGeom prst="rightArrow">
            <a:avLst>
              <a:gd name="adj1" fmla="val 50000"/>
              <a:gd name="adj2" fmla="val 81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4551480" y="1844640"/>
            <a:ext cx="4492440" cy="41846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63360" y="1855800"/>
            <a:ext cx="4486320" cy="4167000"/>
          </a:xfrm>
          <a:prstGeom prst="rect">
            <a:avLst/>
          </a:prstGeom>
          <a:ln w="0">
            <a:noFill/>
          </a:ln>
        </p:spPr>
      </p:pic>
      <p:grpSp>
        <p:nvGrpSpPr>
          <p:cNvPr id="345" name=""/>
          <p:cNvGrpSpPr/>
          <p:nvPr/>
        </p:nvGrpSpPr>
        <p:grpSpPr>
          <a:xfrm>
            <a:off x="3575160" y="5848200"/>
            <a:ext cx="2008080" cy="884520"/>
            <a:chOff x="3575160" y="5848200"/>
            <a:chExt cx="2008080" cy="884520"/>
          </a:xfrm>
        </p:grpSpPr>
        <p:sp>
          <p:nvSpPr>
            <p:cNvPr id="346" name=""/>
            <p:cNvSpPr/>
            <p:nvPr/>
          </p:nvSpPr>
          <p:spPr>
            <a:xfrm>
              <a:off x="3575160" y="5848200"/>
              <a:ext cx="1939680" cy="88452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882960" y="6173640"/>
              <a:ext cx="86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895560" y="640224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882960" y="596592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18080" y="62215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18080" y="6437160"/>
              <a:ext cx="188640" cy="16380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18080" y="60008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43560" y="62341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43560" y="60134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21400" y="617364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708440" y="5965920"/>
              <a:ext cx="76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axi-tx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838840" y="6097680"/>
            <a:ext cx="1798560" cy="576000"/>
            <a:chOff x="5838840" y="6097680"/>
            <a:chExt cx="1798560" cy="576000"/>
          </a:xfrm>
        </p:grpSpPr>
        <p:sp>
          <p:nvSpPr>
            <p:cNvPr id="358" name=""/>
            <p:cNvSpPr/>
            <p:nvPr/>
          </p:nvSpPr>
          <p:spPr>
            <a:xfrm>
              <a:off x="5838840" y="6097680"/>
              <a:ext cx="1798560" cy="576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10120" y="6168960"/>
              <a:ext cx="167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10.147.24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403280" y="6097680"/>
            <a:ext cx="1800360" cy="576000"/>
            <a:chOff x="1403280" y="6097680"/>
            <a:chExt cx="1800360" cy="576000"/>
          </a:xfrm>
        </p:grpSpPr>
        <p:sp>
          <p:nvSpPr>
            <p:cNvPr id="361" name=""/>
            <p:cNvSpPr/>
            <p:nvPr/>
          </p:nvSpPr>
          <p:spPr>
            <a:xfrm>
              <a:off x="1403280" y="6097680"/>
              <a:ext cx="1800360" cy="57600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49440" y="6205320"/>
              <a:ext cx="15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5.996.1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5303880" y="2449440"/>
            <a:ext cx="3840120" cy="36194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177840" y="1336680"/>
            <a:ext cx="5029200" cy="32878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52680" y="76320"/>
            <a:ext cx="60642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iajes Motorizados por propósito 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6578640" y="3481560"/>
            <a:ext cx="720360" cy="258840"/>
            <a:chOff x="6578640" y="3481560"/>
            <a:chExt cx="720360" cy="258840"/>
          </a:xfrm>
        </p:grpSpPr>
        <p:sp>
          <p:nvSpPr>
            <p:cNvPr id="368" name=""/>
            <p:cNvSpPr/>
            <p:nvPr/>
          </p:nvSpPr>
          <p:spPr>
            <a:xfrm>
              <a:off x="6578640" y="348156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578640" y="349416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858080" y="4626000"/>
            <a:ext cx="1080720" cy="260280"/>
            <a:chOff x="7858080" y="4626000"/>
            <a:chExt cx="1080720" cy="260280"/>
          </a:xfrm>
        </p:grpSpPr>
        <p:sp>
          <p:nvSpPr>
            <p:cNvPr id="371" name=""/>
            <p:cNvSpPr/>
            <p:nvPr/>
          </p:nvSpPr>
          <p:spPr>
            <a:xfrm>
              <a:off x="7858080" y="462600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858080" y="464004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066000" y="5218200"/>
            <a:ext cx="1222920" cy="258840"/>
            <a:chOff x="6066000" y="5218200"/>
            <a:chExt cx="1222920" cy="258840"/>
          </a:xfrm>
        </p:grpSpPr>
        <p:sp>
          <p:nvSpPr>
            <p:cNvPr id="374" name=""/>
            <p:cNvSpPr/>
            <p:nvPr/>
          </p:nvSpPr>
          <p:spPr>
            <a:xfrm>
              <a:off x="6066000" y="5218200"/>
              <a:ext cx="122292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66000" y="5230800"/>
              <a:ext cx="1220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157320" y="1305000"/>
            <a:ext cx="5000400" cy="32925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5148360" y="2370240"/>
            <a:ext cx="3995640" cy="3760560"/>
          </a:xfrm>
          <a:prstGeom prst="rect">
            <a:avLst/>
          </a:prstGeom>
          <a:ln w="0">
            <a:noFill/>
          </a:ln>
        </p:spPr>
      </p:pic>
      <p:grpSp>
        <p:nvGrpSpPr>
          <p:cNvPr id="379" name=""/>
          <p:cNvGrpSpPr/>
          <p:nvPr/>
        </p:nvGrpSpPr>
        <p:grpSpPr>
          <a:xfrm>
            <a:off x="5767560" y="3510000"/>
            <a:ext cx="720360" cy="258840"/>
            <a:chOff x="5767560" y="3510000"/>
            <a:chExt cx="720360" cy="258840"/>
          </a:xfrm>
        </p:grpSpPr>
        <p:sp>
          <p:nvSpPr>
            <p:cNvPr id="380" name=""/>
            <p:cNvSpPr/>
            <p:nvPr/>
          </p:nvSpPr>
          <p:spPr>
            <a:xfrm>
              <a:off x="5767560" y="351000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67560" y="352260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7515360" y="3513240"/>
            <a:ext cx="1080720" cy="260280"/>
            <a:chOff x="7515360" y="3513240"/>
            <a:chExt cx="1080720" cy="260280"/>
          </a:xfrm>
        </p:grpSpPr>
        <p:sp>
          <p:nvSpPr>
            <p:cNvPr id="383" name=""/>
            <p:cNvSpPr/>
            <p:nvPr/>
          </p:nvSpPr>
          <p:spPr>
            <a:xfrm>
              <a:off x="7515360" y="351324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15360" y="352728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307200" y="5173560"/>
            <a:ext cx="1223280" cy="258840"/>
            <a:chOff x="6307200" y="5173560"/>
            <a:chExt cx="1223280" cy="258840"/>
          </a:xfrm>
        </p:grpSpPr>
        <p:sp>
          <p:nvSpPr>
            <p:cNvPr id="386" name=""/>
            <p:cNvSpPr/>
            <p:nvPr/>
          </p:nvSpPr>
          <p:spPr>
            <a:xfrm>
              <a:off x="6307200" y="5173560"/>
              <a:ext cx="122328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07200" y="5186160"/>
              <a:ext cx="122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671400" y="76320"/>
            <a:ext cx="84726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iajes motorizados por propósito, punta mañana 7:30-8:30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65240" y="1893960"/>
            <a:ext cx="4317840" cy="399564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4643280" y="1928880"/>
            <a:ext cx="4318200" cy="398304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400040" y="101520"/>
            <a:ext cx="689796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Partición modal de viajes motorizados en día laboral punta mañana (7:30-8:30) ¿eli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372360" y="1370160"/>
            <a:ext cx="793080" cy="431640"/>
            <a:chOff x="6372360" y="1370160"/>
            <a:chExt cx="793080" cy="431640"/>
          </a:xfrm>
        </p:grpSpPr>
        <p:sp>
          <p:nvSpPr>
            <p:cNvPr id="394" name=""/>
            <p:cNvSpPr/>
            <p:nvPr/>
          </p:nvSpPr>
          <p:spPr>
            <a:xfrm>
              <a:off x="6372360" y="1370160"/>
              <a:ext cx="792000" cy="43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45080" y="1441440"/>
              <a:ext cx="72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1836720" y="1370160"/>
            <a:ext cx="934920" cy="431640"/>
            <a:chOff x="1836720" y="1370160"/>
            <a:chExt cx="934920" cy="431640"/>
          </a:xfrm>
        </p:grpSpPr>
        <p:sp>
          <p:nvSpPr>
            <p:cNvPr id="397" name=""/>
            <p:cNvSpPr/>
            <p:nvPr/>
          </p:nvSpPr>
          <p:spPr>
            <a:xfrm>
              <a:off x="1836720" y="1370160"/>
              <a:ext cx="86364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79640" y="144144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4140360" y="1557360"/>
            <a:ext cx="936360" cy="287280"/>
          </a:xfrm>
          <a:prstGeom prst="rightArrow">
            <a:avLst>
              <a:gd name="adj1" fmla="val 50000"/>
              <a:gd name="adj2" fmla="val 81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3575160" y="5848200"/>
            <a:ext cx="2008080" cy="884520"/>
            <a:chOff x="3575160" y="5848200"/>
            <a:chExt cx="2008080" cy="884520"/>
          </a:xfrm>
        </p:grpSpPr>
        <p:sp>
          <p:nvSpPr>
            <p:cNvPr id="401" name=""/>
            <p:cNvSpPr/>
            <p:nvPr/>
          </p:nvSpPr>
          <p:spPr>
            <a:xfrm>
              <a:off x="3575160" y="5848200"/>
              <a:ext cx="1939680" cy="88452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82960" y="6173640"/>
              <a:ext cx="86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95560" y="640224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882960" y="596592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718080" y="62215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718080" y="6437160"/>
              <a:ext cx="188640" cy="16380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18080" y="60008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43560" y="62341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543560" y="60134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21400" y="617364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708440" y="5965920"/>
              <a:ext cx="76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axi-tx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838840" y="6097680"/>
            <a:ext cx="1798560" cy="576000"/>
            <a:chOff x="5838840" y="6097680"/>
            <a:chExt cx="1798560" cy="576000"/>
          </a:xfrm>
        </p:grpSpPr>
        <p:sp>
          <p:nvSpPr>
            <p:cNvPr id="413" name=""/>
            <p:cNvSpPr/>
            <p:nvPr/>
          </p:nvSpPr>
          <p:spPr>
            <a:xfrm>
              <a:off x="5838840" y="6097680"/>
              <a:ext cx="1798560" cy="576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910120" y="6168960"/>
              <a:ext cx="167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1.366.77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1403280" y="6097680"/>
            <a:ext cx="1800360" cy="576000"/>
            <a:chOff x="1403280" y="6097680"/>
            <a:chExt cx="1800360" cy="576000"/>
          </a:xfrm>
        </p:grpSpPr>
        <p:sp>
          <p:nvSpPr>
            <p:cNvPr id="416" name=""/>
            <p:cNvSpPr/>
            <p:nvPr/>
          </p:nvSpPr>
          <p:spPr>
            <a:xfrm>
              <a:off x="1403280" y="6097680"/>
              <a:ext cx="1800360" cy="57600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49440" y="6205320"/>
              <a:ext cx="15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931.72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6326280" y="5603760"/>
            <a:ext cx="2484360" cy="4604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510000" y="5594400"/>
            <a:ext cx="2484360" cy="4604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12920" y="5575320"/>
            <a:ext cx="2484360" cy="4856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30360" y="5699160"/>
            <a:ext cx="202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[ &gt; 1.599.999 $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071720" y="88920"/>
            <a:ext cx="7480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artición Modal viajes motorizados (día laboral) por estrato de ingr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479760" y="571176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450.000 - 1.599.999 $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600960" y="5683320"/>
            <a:ext cx="21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&lt; 450.000 $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3637080" y="1449360"/>
            <a:ext cx="2007720" cy="884160"/>
            <a:chOff x="3637080" y="1449360"/>
            <a:chExt cx="2007720" cy="884160"/>
          </a:xfrm>
        </p:grpSpPr>
        <p:sp>
          <p:nvSpPr>
            <p:cNvPr id="426" name=""/>
            <p:cNvSpPr/>
            <p:nvPr/>
          </p:nvSpPr>
          <p:spPr>
            <a:xfrm>
              <a:off x="3637080" y="1449360"/>
              <a:ext cx="1939680" cy="88416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944880" y="1774440"/>
              <a:ext cx="86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957480" y="2003040"/>
              <a:ext cx="86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944880" y="1566720"/>
              <a:ext cx="59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779640" y="182232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779640" y="203796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779640" y="160164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05120" y="183492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05120" y="161424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82960" y="177444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95560" y="1566720"/>
              <a:ext cx="768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axi-tx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113360" y="6194520"/>
            <a:ext cx="1249200" cy="396720"/>
            <a:chOff x="4113360" y="6194520"/>
            <a:chExt cx="1249200" cy="396720"/>
          </a:xfrm>
        </p:grpSpPr>
        <p:sp>
          <p:nvSpPr>
            <p:cNvPr id="438" name=""/>
            <p:cNvSpPr/>
            <p:nvPr/>
          </p:nvSpPr>
          <p:spPr>
            <a:xfrm>
              <a:off x="4113360" y="6194520"/>
              <a:ext cx="1249200" cy="396720"/>
            </a:xfrm>
            <a:prstGeom prst="cube">
              <a:avLst>
                <a:gd name="adj" fmla="val 1470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137120" y="6310080"/>
              <a:ext cx="1131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$ Agosto 2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3033720" y="2506680"/>
            <a:ext cx="3048120" cy="27892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6093000" y="2541600"/>
            <a:ext cx="3051000" cy="281304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0" y="2508120"/>
            <a:ext cx="304812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ff"/>
                </a:solidFill>
                <a:latin typeface="Times New Roman"/>
              </a:rPr>
              <a:t>Flujos de Transporte 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64960" y="266760"/>
            <a:ext cx="88790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Times New Roman"/>
              </a:rPr>
              <a:t>Auto: Arcos urbanos más Congestion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631880" y="1238400"/>
          <a:ext cx="6116760" cy="55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1238400"/>
                    <a:ext cx="6116760" cy="55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20560" y="10116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ff"/>
                </a:solidFill>
                <a:latin typeface="Times New Roman"/>
              </a:rPr>
              <a:t>Mirando desde la perspectiva del usuario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28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cis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viajar o 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Gen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desde donde y hacia d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en qué mo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Partición 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por qué rut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Son separables esas decision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1212840" y="1523880"/>
            <a:ext cx="6718320" cy="46926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1552680" y="76320"/>
            <a:ext cx="70707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Transporte público: arcos con flujo &gt; 5 000 pax/h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184788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1081080" y="1676520"/>
            <a:ext cx="6981840" cy="464184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1552680" y="428760"/>
            <a:ext cx="70707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Transporte Público : arcos con flujo &gt; 10 000 pax/h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950160" cy="45576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1552680" y="76320"/>
            <a:ext cx="70707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Transporte Público : arcos con flujo &gt; 15 000 pax/h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685800" y="14029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o el 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44,1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5,1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ta mañ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44,7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6,3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ta t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50,7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9,0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era de pu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37,7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3,3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iempos de viaje promed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ff"/>
                </a:solidFill>
                <a:latin typeface="Times New Roman"/>
              </a:rPr>
              <a:t>Planes e Inversión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3809880" y="1290600"/>
            <a:ext cx="5181840" cy="472428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Autopistas Urban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0880" y="1447920"/>
            <a:ext cx="381024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150 km 2001-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US$ 2 000 mill inve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Red de Metr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1447920"/>
            <a:ext cx="288936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Hoy: 38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2006: 8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Inversión: MMUS$ 1.7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3727440" y="1312920"/>
            <a:ext cx="4479840" cy="5362560"/>
            <a:chOff x="3727440" y="1312920"/>
            <a:chExt cx="4479840" cy="5362560"/>
          </a:xfrm>
        </p:grpSpPr>
        <p:pic>
          <p:nvPicPr>
            <p:cNvPr id="475" name="" descr=""/>
            <p:cNvPicPr/>
            <p:nvPr/>
          </p:nvPicPr>
          <p:blipFill>
            <a:blip r:embed="rId1"/>
            <a:stretch/>
          </p:blipFill>
          <p:spPr>
            <a:xfrm>
              <a:off x="3727440" y="1338120"/>
              <a:ext cx="4479840" cy="533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7264440" y="3214800"/>
              <a:ext cx="566640" cy="311472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762440" y="2755800"/>
              <a:ext cx="746280" cy="37152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30960" y="5089680"/>
              <a:ext cx="336600" cy="66168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3600000">
              <a:off x="6181560" y="4398840"/>
              <a:ext cx="739800" cy="185112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754600" y="1312920"/>
              <a:ext cx="336600" cy="126216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7320" y="247320"/>
            <a:ext cx="8675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Transporte en Santiago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1. Descripción Socio-económ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2. Sistema de Transpor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 Demand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4. Flujos de Transpor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Ch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447920"/>
            <a:ext cx="777384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Población: 15.1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Ingreso per capita: US$ 4 260 (World Ban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Distribución del ingreso:  </a:t>
            </a:r>
            <a:r>
              <a:rPr b="0" lang="es-ES_tradnl" sz="2800" spc="-1" strike="noStrike">
                <a:solidFill>
                  <a:srgbClr val="4d4d4d"/>
                </a:solidFill>
                <a:latin typeface="Arial"/>
              </a:rPr>
              <a:t>V/I = 15,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832040" y="3889440"/>
          <a:ext cx="5933880" cy="213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2040" y="3889440"/>
                    <a:ext cx="5933880" cy="21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286000"/>
            <a:ext cx="91440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ff"/>
                </a:solidFill>
                <a:latin typeface="Times New Roman"/>
              </a:rPr>
              <a:t>Descripción Socio- Económica Espacial de Santiago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HOGTCO97" descr=""/>
          <p:cNvPicPr/>
          <p:nvPr/>
        </p:nvPicPr>
        <p:blipFill>
          <a:blip r:embed="rId1"/>
          <a:stretch/>
        </p:blipFill>
        <p:spPr>
          <a:xfrm>
            <a:off x="3560760" y="1590840"/>
            <a:ext cx="5583240" cy="4405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Santia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0280" y="1287360"/>
            <a:ext cx="407664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Población: 5.5 m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Area: 425 km</a:t>
            </a:r>
            <a:r>
              <a:rPr b="0" lang="es-MX" sz="2800" spc="-1" strike="noStrike" baseline="30000">
                <a:solidFill>
                  <a:srgbClr val="4d4d4d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Densidad: 13 000 h/km</a:t>
            </a:r>
            <a:r>
              <a:rPr b="0" lang="es-MX" sz="2800" spc="-1" strike="noStrike" baseline="30000">
                <a:solidFill>
                  <a:srgbClr val="4d4d4d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34 Municipa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47% del GDP chil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16000" y="1665360"/>
            <a:ext cx="6443640" cy="4694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30520" y="63360"/>
            <a:ext cx="602136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úmero de hoga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19:24:41Z</dcterms:created>
  <dc:creator>cvaleze</dc:creator>
  <dc:description/>
  <dc:language>en-US</dc:language>
  <cp:lastModifiedBy>Cristián Cortés</cp:lastModifiedBy>
  <cp:lastPrinted>2004-05-14T03:25:37Z</cp:lastPrinted>
  <dcterms:modified xsi:type="dcterms:W3CDTF">2005-08-02T21:01:21Z</dcterms:modified>
  <cp:revision>402</cp:revision>
  <dc:subject/>
  <dc:title>ENCUESTA ORIGEN DESTINO DEL GRAN SANTIAGO</dc:title>
</cp:coreProperties>
</file>