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29.jpeg" ContentType="image/jpeg"/>
  <Override PartName="/ppt/media/image28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1.wmf" ContentType="image/x-wmf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13.jpeg" ContentType="image/jpeg"/>
  <Override PartName="/ppt/media/image30.jpeg" ContentType="image/jpeg"/>
  <Override PartName="/ppt/media/image36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41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632-B33A-45FD-BDDF-D85A182A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BB1-E9CD-431A-B299-5551A834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509-3946-4368-B565-C110C2D0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55D-D2B9-48FE-BBDC-D348E347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F6B-BFDC-412E-8634-A4D1AEB8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EEC-0131-4C4E-AC3B-4E395049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1D2-70BA-4CE5-BDF9-E6F4E507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BAB-329D-4AAE-91E9-CA39DBB1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60C-CE89-4B28-AA2E-E71D1DE5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386-20E6-4416-9FBD-C7684A7D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544-3C48-4051-AC20-64038DD3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4AE-996F-4132-9BF8-AB179CB7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E28F-76B9-4DF5-A45B-38C5FFB7A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108160"/>
            <a:ext cx="91440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I43A Análisis de Sistemas de Transpor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3680" y="4200480"/>
            <a:ext cx="82645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6680" y="1593720"/>
            <a:ext cx="6742080" cy="485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úmero de au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7018200" cy="4932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ut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148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endCxn id="106" idx="1"/>
          </p:cNvCxnSpPr>
          <p:nvPr/>
        </p:nvCxnSpPr>
        <p:spPr>
          <a:xfrm>
            <a:off x="1569960" y="2395440"/>
            <a:ext cx="2007360" cy="7200"/>
          </a:xfrm>
          <a:prstGeom prst="straightConnector1">
            <a:avLst/>
          </a:prstGeom>
          <a:ln w="0">
            <a:noFill/>
          </a:ln>
        </p:spPr>
      </p:cxnSp>
      <p:sp>
        <p:nvSpPr>
          <p:cNvPr id="113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5600" y="1243080"/>
            <a:ext cx="5251320" cy="560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1840" y="220824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2040" y="5721480"/>
            <a:ext cx="8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5160960"/>
            <a:ext cx="129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59040" y="4305240"/>
            <a:ext cx="100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9960" y="3170160"/>
            <a:ext cx="93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782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16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4" name=""/>
          <p:cNvCxnSpPr>
            <a:stCxn id="122" idx="3"/>
            <a:endCxn id="116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981840" y="16686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0960" y="37242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0240" y="52182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3"/>
            <a:endCxn id="119" idx="1"/>
          </p:cNvCxnSpPr>
          <p:nvPr/>
        </p:nvCxnSpPr>
        <p:spPr>
          <a:xfrm>
            <a:off x="2046240" y="4422240"/>
            <a:ext cx="71352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7" idx="3"/>
            <a:endCxn id="117" idx="1"/>
          </p:cNvCxnSpPr>
          <p:nvPr/>
        </p:nvCxnSpPr>
        <p:spPr>
          <a:xfrm flipV="1">
            <a:off x="1919160" y="5864040"/>
            <a:ext cx="171360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8" idx="2"/>
          </p:cNvCxnSpPr>
          <p:nvPr/>
        </p:nvCxnSpPr>
        <p:spPr>
          <a:xfrm flipH="1" flipV="1">
            <a:off x="5939640" y="5444640"/>
            <a:ext cx="8406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1"/>
            <a:endCxn id="121" idx="3"/>
          </p:cNvCxnSpPr>
          <p:nvPr/>
        </p:nvCxnSpPr>
        <p:spPr>
          <a:xfrm flipH="1">
            <a:off x="4743000" y="4053960"/>
            <a:ext cx="196920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5" idx="1"/>
            <a:endCxn id="120" idx="0"/>
          </p:cNvCxnSpPr>
          <p:nvPr/>
        </p:nvCxnSpPr>
        <p:spPr>
          <a:xfrm flipH="1">
            <a:off x="5547960" y="236664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SUPHG97C" descr=""/>
          <p:cNvPicPr/>
          <p:nvPr/>
        </p:nvPicPr>
        <p:blipFill>
          <a:blip r:embed="rId1"/>
          <a:stretch/>
        </p:blipFill>
        <p:spPr>
          <a:xfrm>
            <a:off x="1057320" y="1476360"/>
            <a:ext cx="7027920" cy="5081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Residen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HOGICO97" descr=""/>
          <p:cNvPicPr/>
          <p:nvPr/>
        </p:nvPicPr>
        <p:blipFill>
          <a:blip r:embed="rId1"/>
          <a:stretch/>
        </p:blipFill>
        <p:spPr>
          <a:xfrm>
            <a:off x="1460520" y="1252440"/>
            <a:ext cx="6607080" cy="5241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54120" y="212760"/>
            <a:ext cx="68389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stribución Espacia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15238" t="13622" r="4755" b="6571"/>
          <a:stretch/>
        </p:blipFill>
        <p:spPr>
          <a:xfrm>
            <a:off x="1092240" y="1324080"/>
            <a:ext cx="7558200" cy="53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ternet en los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34240" y="5529240"/>
            <a:ext cx="1814400" cy="1361520"/>
            <a:chOff x="6834240" y="5529240"/>
            <a:chExt cx="1814400" cy="1361520"/>
          </a:xfrm>
        </p:grpSpPr>
        <p:sp>
          <p:nvSpPr>
            <p:cNvPr id="147" name=""/>
            <p:cNvSpPr/>
            <p:nvPr/>
          </p:nvSpPr>
          <p:spPr>
            <a:xfrm>
              <a:off x="6834240" y="5529240"/>
              <a:ext cx="1814400" cy="1199880"/>
            </a:xfrm>
            <a:prstGeom prst="cube">
              <a:avLst>
                <a:gd name="adj" fmla="val 440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81800" y="6027480"/>
              <a:ext cx="86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1560" y="6370560"/>
              <a:ext cx="12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Banda anch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81800" y="56671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50160" y="599904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50160" y="636732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0160" y="563868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SUPCM97C" descr=""/>
          <p:cNvPicPr/>
          <p:nvPr/>
        </p:nvPicPr>
        <p:blipFill>
          <a:blip r:embed="rId1"/>
          <a:stretch/>
        </p:blipFill>
        <p:spPr>
          <a:xfrm>
            <a:off x="1117440" y="1468440"/>
            <a:ext cx="6856560" cy="4971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38160" y="88920"/>
            <a:ext cx="6847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Comercial (minorist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239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ATRI97C" descr=""/>
          <p:cNvPicPr/>
          <p:nvPr/>
        </p:nvPicPr>
        <p:blipFill>
          <a:blip r:embed="rId1"/>
          <a:stretch/>
        </p:blipFill>
        <p:spPr>
          <a:xfrm>
            <a:off x="1206360" y="1576440"/>
            <a:ext cx="6855120" cy="4983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SUPIN97C" descr=""/>
          <p:cNvPicPr/>
          <p:nvPr/>
        </p:nvPicPr>
        <p:blipFill>
          <a:blip r:embed="rId1"/>
          <a:stretch/>
        </p:blipFill>
        <p:spPr>
          <a:xfrm>
            <a:off x="1482840" y="1476360"/>
            <a:ext cx="6891120" cy="4983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Indust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7240" y="101160"/>
            <a:ext cx="83595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¿Qué pasa si no se interviene el sistema?: Círculo vicioso del transporte públ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040" y="131292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20858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32400" y="126216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12747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5680" y="20559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6480" y="2944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2400" y="363996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1800" y="455436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9280" y="532440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04480" y="294480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29320" y="36781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39320" y="452916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1840" y="612612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1040" y="18669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1040" y="24969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1040" y="333360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1040" y="437688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1040" y="496872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25480" y="57657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45320" y="1827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57920" y="24717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26360" y="234324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7480" y="234324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762680" y="386064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591240" y="41702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73560" y="638316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766000" y="402696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722720" y="40543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35440" y="480060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809880" y="400212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32440" y="387360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106880" y="3218040"/>
            <a:ext cx="1479600" cy="47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87640" y="241920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3960" y="24019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8480" y="2207880"/>
            <a:ext cx="778824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ff"/>
                </a:solidFill>
                <a:latin typeface="Times New Roman"/>
              </a:rPr>
              <a:t>El Sistema de Transporte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09720" y="266760"/>
            <a:ext cx="6400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incipales Arcos  Urb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27240" y="1371600"/>
            <a:ext cx="5200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B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20760"/>
            <a:ext cx="47052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380 lí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Amplia cobertura espacial y alta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0,1 trasbordos/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.000 buses propiedad priv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4.000 “compañí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Oferta no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Mantención d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Competencia “en la calle”  por los pasajeros: inseg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2 km vías exclusivas en punta mañ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4517" b="0"/>
          <a:stretch/>
        </p:blipFill>
        <p:spPr>
          <a:xfrm>
            <a:off x="4543560" y="1398600"/>
            <a:ext cx="46004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59120" y="1243080"/>
            <a:ext cx="5251680" cy="5602320"/>
            <a:chOff x="3759120" y="1243080"/>
            <a:chExt cx="5251680" cy="560232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3759120" y="1243080"/>
              <a:ext cx="5251680" cy="560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5511960" y="3543480"/>
              <a:ext cx="1752480" cy="660240"/>
              <a:chOff x="5511960" y="3543480"/>
              <a:chExt cx="1752480" cy="66024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7023240" y="3543480"/>
                <a:ext cx="241200" cy="378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527880" y="3587760"/>
                <a:ext cx="488880" cy="342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657400" y="3924360"/>
                <a:ext cx="876600" cy="2793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5530680" y="4165560"/>
                <a:ext cx="120600" cy="38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5511960" y="4019400"/>
                <a:ext cx="25200" cy="146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318360" y="3784320"/>
              <a:ext cx="215640" cy="1416240"/>
              <a:chOff x="6318360" y="3784320"/>
              <a:chExt cx="215640" cy="1416240"/>
            </a:xfrm>
          </p:grpSpPr>
          <p:sp>
            <p:nvSpPr>
              <p:cNvPr id="187" name=""/>
              <p:cNvSpPr/>
              <p:nvPr/>
            </p:nvSpPr>
            <p:spPr>
              <a:xfrm flipH="1" flipV="1">
                <a:off x="6514920" y="4267080"/>
                <a:ext cx="19080" cy="139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343560" y="4400640"/>
                <a:ext cx="184320" cy="799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6438960" y="4222800"/>
                <a:ext cx="76320" cy="381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388200" y="4152960"/>
                <a:ext cx="3816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6324120" y="3867120"/>
                <a:ext cx="57240" cy="2858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318360" y="3790800"/>
                <a:ext cx="3168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6356520" y="3784320"/>
                <a:ext cx="75960" cy="6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337080" y="3854520"/>
              <a:ext cx="838440" cy="1162080"/>
              <a:chOff x="6337080" y="3854520"/>
              <a:chExt cx="838440" cy="1162080"/>
            </a:xfrm>
          </p:grpSpPr>
          <p:sp>
            <p:nvSpPr>
              <p:cNvPr id="195" name=""/>
              <p:cNvSpPr/>
              <p:nvPr/>
            </p:nvSpPr>
            <p:spPr>
              <a:xfrm flipH="1" flipV="1">
                <a:off x="6972480" y="4800600"/>
                <a:ext cx="203040" cy="21600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6622920" y="3860280"/>
                <a:ext cx="355680" cy="9334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337080" y="3854520"/>
                <a:ext cx="285480" cy="190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067360" y="354348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3300"/>
                  </a:solidFill>
                  <a:latin typeface="Times New Roman"/>
                </a:rPr>
                <a:t>L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12160" y="477504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ff00"/>
                  </a:solidFill>
                  <a:latin typeface="Times New Roman"/>
                </a:rPr>
                <a:t>L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7280" y="5156280"/>
              <a:ext cx="7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66"/>
                  </a:solidFill>
                  <a:latin typeface="Times New Roman"/>
                </a:rPr>
                <a:t>L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6360" y="1486080"/>
            <a:ext cx="41562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Longitud total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lta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Compañía est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Pre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447920"/>
            <a:ext cx="80136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úblico : Tarifa no integr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us: $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Metro: desde $310 hasta 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axi-Colectivo: ~600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encina: 500 $/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Estacionamiento en el centro: ~1800 $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ff"/>
                </a:solidFill>
                <a:latin typeface="Times New Roman"/>
              </a:rPr>
              <a:t>Demanda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149960" y="4911840"/>
            <a:ext cx="1562400" cy="862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ami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bicic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54400" y="1828800"/>
            <a:ext cx="319572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16.481.0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25480" y="88920"/>
            <a:ext cx="6821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Totales  (día laboral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5240" y="1914480"/>
            <a:ext cx="28652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o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41680" y="3560760"/>
            <a:ext cx="271944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10.147.24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5560" y="3646440"/>
            <a:ext cx="353520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motoriz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76600" y="5049720"/>
            <a:ext cx="268308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6.333.796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0240" y="5138640"/>
            <a:ext cx="383076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no motoriza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2284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0220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75480" y="4292640"/>
            <a:ext cx="1080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00440" y="4587840"/>
            <a:ext cx="587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402160" y="6346800"/>
            <a:ext cx="2719440" cy="432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13400" y="6354720"/>
            <a:ext cx="24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1.880.887 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93600" y="6329520"/>
            <a:ext cx="2543040" cy="431640"/>
            <a:chOff x="993600" y="6329520"/>
            <a:chExt cx="2543040" cy="431640"/>
          </a:xfrm>
        </p:grpSpPr>
        <p:sp>
          <p:nvSpPr>
            <p:cNvPr id="220" name=""/>
            <p:cNvSpPr/>
            <p:nvPr/>
          </p:nvSpPr>
          <p:spPr>
            <a:xfrm>
              <a:off x="993600" y="632952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4880" y="6375600"/>
              <a:ext cx="24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16.481.043 viaj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26000" y="1849320"/>
            <a:ext cx="4479840" cy="4410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2840" y="1812960"/>
            <a:ext cx="4489560" cy="438624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960480" y="1395360"/>
            <a:ext cx="2543040" cy="431640"/>
            <a:chOff x="960480" y="1395360"/>
            <a:chExt cx="2543040" cy="431640"/>
          </a:xfrm>
        </p:grpSpPr>
        <p:sp>
          <p:nvSpPr>
            <p:cNvPr id="225" name=""/>
            <p:cNvSpPr/>
            <p:nvPr/>
          </p:nvSpPr>
          <p:spPr>
            <a:xfrm>
              <a:off x="960480" y="139536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31760" y="1466640"/>
              <a:ext cx="24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586320" y="1251000"/>
            <a:ext cx="1957320" cy="884160"/>
            <a:chOff x="3586320" y="1251000"/>
            <a:chExt cx="1957320" cy="884160"/>
          </a:xfrm>
        </p:grpSpPr>
        <p:sp>
          <p:nvSpPr>
            <p:cNvPr id="228" name=""/>
            <p:cNvSpPr/>
            <p:nvPr/>
          </p:nvSpPr>
          <p:spPr>
            <a:xfrm>
              <a:off x="3586320" y="125100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4120" y="1576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06720" y="1805040"/>
              <a:ext cx="8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94120" y="136836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28880" y="1623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8880" y="1839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8880" y="14032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8400" y="163656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78400" y="141588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68840" y="1576440"/>
              <a:ext cx="86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taxi-t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6240" y="1368360"/>
              <a:ext cx="85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78400" y="18525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81440" y="1792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508720" y="1395360"/>
            <a:ext cx="2719080" cy="431640"/>
            <a:chOff x="5508720" y="1395360"/>
            <a:chExt cx="2719080" cy="431640"/>
          </a:xfrm>
        </p:grpSpPr>
        <p:sp>
          <p:nvSpPr>
            <p:cNvPr id="242" name=""/>
            <p:cNvSpPr/>
            <p:nvPr/>
          </p:nvSpPr>
          <p:spPr>
            <a:xfrm>
              <a:off x="5508720" y="1395360"/>
              <a:ext cx="271908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45160" y="1466640"/>
              <a:ext cx="247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unta mañana: 7:30-8: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136520" y="88920"/>
            <a:ext cx="6983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ión Modal  (día laboral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248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251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254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259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262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265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274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282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285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3120" y="101160"/>
            <a:ext cx="82677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==&gt; necesidad de modelar para predecir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971960" y="1555920"/>
                <a:ext cx="244152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003320" y="1866960"/>
            <a:ext cx="63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oducto en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97000" y="3603600"/>
            <a:ext cx="674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describir, modelar, predec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oral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eriod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po de persona o bien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seg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al: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zo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295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307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320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328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331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37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40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346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358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361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368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371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374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380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383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386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 ¿el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94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97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401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413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416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426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438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0560" y="1011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Mirando desde la perspectiva del usuari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esde donde y hacia d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n qué mo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artición 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r qué ru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Son separables esas decis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475" name="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320" y="247320"/>
            <a:ext cx="8675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Transporte en Santiag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. Descripción Socio-econó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2. Sistema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 Demand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4. Flujos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447920"/>
            <a:ext cx="77738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15.1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greso per capita: US$ 4 260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istribución del ingreso: 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V/I = 15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2040" y="3889440"/>
          <a:ext cx="5933880" cy="213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2040" y="3889440"/>
                    <a:ext cx="59338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Descripción Socio- Económica Espacial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HOGTCO97" descr=""/>
          <p:cNvPicPr/>
          <p:nvPr/>
        </p:nvPicPr>
        <p:blipFill>
          <a:blip r:embed="rId1"/>
          <a:stretch/>
        </p:blipFill>
        <p:spPr>
          <a:xfrm>
            <a:off x="3560760" y="1590840"/>
            <a:ext cx="5583240" cy="440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0280" y="1287360"/>
            <a:ext cx="4076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5.5 m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rea: 425 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ensidad: 13 000 h/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4 Municip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47% del GDP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6000" y="1665360"/>
            <a:ext cx="6443640" cy="46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úmero de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Cristián Cortés</cp:lastModifiedBy>
  <cp:lastPrinted>2004-05-14T03:25:37Z</cp:lastPrinted>
  <dcterms:modified xsi:type="dcterms:W3CDTF">2005-08-02T21:01:21Z</dcterms:modified>
  <cp:revision>402</cp:revision>
  <dc:subject/>
  <dc:title>ENCUESTA ORIGEN DESTINO DEL GRAN SANTIAGO</dc:title>
</cp:coreProperties>
</file>