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970-C5DD-43B9-9EEF-8760A7E4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8F3-594E-432D-B2CD-CBA16570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6C89-996D-4C00-821D-09D02C24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F3F-B710-477C-B352-AAD74B72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AEA-4F9D-4E83-B8A2-E9FA863C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1B0-04E0-4DE2-9E24-5434B97E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F27-A054-4AA3-A894-984E23CF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85A-1AF0-41E6-8E68-070C0591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AA2-255A-49CE-A2DA-E74FC8AC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A7D-F2E9-4C24-9B0A-EB641A5D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285-D473-4B85-9BE7-3B07EEA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596-3B3B-4CE2-A133-D297D100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296-5ABF-478A-8CAD-E0706E772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6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13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4" name=""/>
          <p:cNvCxnSpPr>
            <a:stCxn id="122" idx="3"/>
            <a:endCxn id="116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3"/>
            <a:endCxn id="119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3"/>
            <a:endCxn id="117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8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1"/>
            <a:endCxn id="121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1"/>
            <a:endCxn id="120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47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87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195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31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0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25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28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2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48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1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54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59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2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65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74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2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85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295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07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9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0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28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1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37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0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46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58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1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68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1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74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0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83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86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9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9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1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13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16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26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38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Cristián Cortés</cp:lastModifiedBy>
  <cp:lastPrinted>2004-05-14T03:25:37Z</cp:lastPrinted>
  <dcterms:modified xsi:type="dcterms:W3CDTF">2005-08-02T21:01:21Z</dcterms:modified>
  <cp:revision>402</cp:revision>
  <dc:subject/>
  <dc:title>ENCUESTA ORIGEN DESTINO DEL GRAN SANTIAGO</dc:title>
</cp:coreProperties>
</file>