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29.jpeg" ContentType="image/jpeg"/>
  <Override PartName="/ppt/media/image28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6.wmf" ContentType="image/x-wmf"/>
  <Override PartName="/ppt/media/image1.wmf" ContentType="image/x-wmf"/>
  <Override PartName="/ppt/media/image2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13.jpeg" ContentType="image/jpeg"/>
  <Override PartName="/ppt/media/image30.jpeg" ContentType="image/jpeg"/>
  <Override PartName="/ppt/media/image36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41.png" ContentType="image/png"/>
  <Override PartName="/ppt/media/image42.jpeg" ContentType="image/jpeg"/>
  <Override PartName="/ppt/media/image43.jpeg" ContentType="image/jpe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722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091-DC09-4B68-B31B-3A0DF751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651-E68C-4529-85DB-A49FDD21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CA5-1273-4073-BEBD-8097096E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565-D695-4E4E-9990-13C79587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EB7-8502-4592-9D62-DA5A9B74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2CE2-B4B6-44B8-8DBD-0E602634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3E4-B8CF-4CE9-A0DA-FACC6C9A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2B2-D969-4DD5-8EEF-5A8397CC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98680" y="101160"/>
            <a:ext cx="622296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6DE-0BD7-4445-94BB-CD8A491B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035-6DE9-490A-81CD-017A7651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D358-206D-40C9-97E0-52477AE6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E61-3E52-4EE3-A7B4-3ECE8997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32D3-4C22-4DD5-AE60-88707DEFC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192320"/>
            <a:ext cx="7620120" cy="1440"/>
          </a:xfrm>
          <a:prstGeom prst="line">
            <a:avLst/>
          </a:prstGeom>
          <a:ln w="5724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108160"/>
            <a:ext cx="914400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I43A Análisis de Sistemas de Transport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3680" y="4200480"/>
            <a:ext cx="826452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6680" y="1593720"/>
            <a:ext cx="6742080" cy="4853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úmero de au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7018200" cy="4932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ut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14880" y="393696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endCxn id="106" idx="1"/>
          </p:cNvCxnSpPr>
          <p:nvPr/>
        </p:nvCxnSpPr>
        <p:spPr>
          <a:xfrm>
            <a:off x="1569960" y="2395440"/>
            <a:ext cx="2007360" cy="7200"/>
          </a:xfrm>
          <a:prstGeom prst="straightConnector1">
            <a:avLst/>
          </a:prstGeom>
          <a:ln w="0">
            <a:noFill/>
          </a:ln>
        </p:spPr>
      </p:cxnSp>
      <p:sp>
        <p:nvSpPr>
          <p:cNvPr id="113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5600" y="1243080"/>
            <a:ext cx="5251320" cy="560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41840" y="220824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2040" y="5721480"/>
            <a:ext cx="827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92720" y="5160960"/>
            <a:ext cx="1295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59040" y="4305240"/>
            <a:ext cx="1008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9960" y="3170160"/>
            <a:ext cx="936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78280" y="393696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16" idx="1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4" name=""/>
          <p:cNvCxnSpPr>
            <a:stCxn id="122" idx="3"/>
            <a:endCxn id="116" idx="1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6981840" y="16686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0960" y="37242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0240" y="52182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6" idx="3"/>
            <a:endCxn id="119" idx="1"/>
          </p:cNvCxnSpPr>
          <p:nvPr/>
        </p:nvCxnSpPr>
        <p:spPr>
          <a:xfrm>
            <a:off x="2046240" y="4422240"/>
            <a:ext cx="71352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7" idx="3"/>
            <a:endCxn id="117" idx="1"/>
          </p:cNvCxnSpPr>
          <p:nvPr/>
        </p:nvCxnSpPr>
        <p:spPr>
          <a:xfrm flipV="1">
            <a:off x="1919160" y="5864040"/>
            <a:ext cx="171360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9" idx="1"/>
            <a:endCxn id="118" idx="2"/>
          </p:cNvCxnSpPr>
          <p:nvPr/>
        </p:nvCxnSpPr>
        <p:spPr>
          <a:xfrm flipH="1" flipV="1">
            <a:off x="5939640" y="5444640"/>
            <a:ext cx="8406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1"/>
            <a:endCxn id="121" idx="3"/>
          </p:cNvCxnSpPr>
          <p:nvPr/>
        </p:nvCxnSpPr>
        <p:spPr>
          <a:xfrm flipH="1">
            <a:off x="4743000" y="4053960"/>
            <a:ext cx="196920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5" idx="1"/>
            <a:endCxn id="120" idx="0"/>
          </p:cNvCxnSpPr>
          <p:nvPr/>
        </p:nvCxnSpPr>
        <p:spPr>
          <a:xfrm flipH="1">
            <a:off x="5547960" y="236664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SUPHG97C" descr=""/>
          <p:cNvPicPr/>
          <p:nvPr/>
        </p:nvPicPr>
        <p:blipFill>
          <a:blip r:embed="rId1"/>
          <a:stretch/>
        </p:blipFill>
        <p:spPr>
          <a:xfrm>
            <a:off x="1057320" y="1476360"/>
            <a:ext cx="7027920" cy="5081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Residen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HOGICO97" descr=""/>
          <p:cNvPicPr/>
          <p:nvPr/>
        </p:nvPicPr>
        <p:blipFill>
          <a:blip r:embed="rId1"/>
          <a:stretch/>
        </p:blipFill>
        <p:spPr>
          <a:xfrm>
            <a:off x="1460520" y="1252440"/>
            <a:ext cx="6607080" cy="5241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54120" y="212760"/>
            <a:ext cx="68389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stribución Espacia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15238" t="13622" r="4755" b="6571"/>
          <a:stretch/>
        </p:blipFill>
        <p:spPr>
          <a:xfrm>
            <a:off x="1092240" y="1324080"/>
            <a:ext cx="7558200" cy="53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nternet en los hog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34240" y="5529240"/>
            <a:ext cx="1814400" cy="1361520"/>
            <a:chOff x="6834240" y="5529240"/>
            <a:chExt cx="1814400" cy="1361520"/>
          </a:xfrm>
        </p:grpSpPr>
        <p:sp>
          <p:nvSpPr>
            <p:cNvPr id="147" name=""/>
            <p:cNvSpPr/>
            <p:nvPr/>
          </p:nvSpPr>
          <p:spPr>
            <a:xfrm>
              <a:off x="6834240" y="5529240"/>
              <a:ext cx="1814400" cy="1199880"/>
            </a:xfrm>
            <a:prstGeom prst="cube">
              <a:avLst>
                <a:gd name="adj" fmla="val 440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81800" y="6027480"/>
              <a:ext cx="86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1560" y="6370560"/>
              <a:ext cx="12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Banda anch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81800" y="5667120"/>
              <a:ext cx="10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50160" y="599904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50160" y="636732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50160" y="563868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SUPCM97C" descr=""/>
          <p:cNvPicPr/>
          <p:nvPr/>
        </p:nvPicPr>
        <p:blipFill>
          <a:blip r:embed="rId1"/>
          <a:stretch/>
        </p:blipFill>
        <p:spPr>
          <a:xfrm>
            <a:off x="1117440" y="1468440"/>
            <a:ext cx="6856560" cy="4971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838160" y="88920"/>
            <a:ext cx="6847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Comercial (minorist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239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ATRI97C" descr=""/>
          <p:cNvPicPr/>
          <p:nvPr/>
        </p:nvPicPr>
        <p:blipFill>
          <a:blip r:embed="rId1"/>
          <a:stretch/>
        </p:blipFill>
        <p:spPr>
          <a:xfrm>
            <a:off x="1206360" y="1576440"/>
            <a:ext cx="6855120" cy="4983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du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SUPIN97C" descr=""/>
          <p:cNvPicPr/>
          <p:nvPr/>
        </p:nvPicPr>
        <p:blipFill>
          <a:blip r:embed="rId1"/>
          <a:stretch/>
        </p:blipFill>
        <p:spPr>
          <a:xfrm>
            <a:off x="1482840" y="1476360"/>
            <a:ext cx="6891120" cy="4983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Indust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7240" y="101160"/>
            <a:ext cx="83595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¿Qué pasa si no se interviene el sistema?: Círculo vicioso del transporte públ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040" y="131292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208584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32400" y="126216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12747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5680" y="205596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6480" y="294480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2400" y="363996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1800" y="455436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9280" y="532440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04480" y="294480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29320" y="367812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39320" y="452916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1840" y="612612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1040" y="18669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1040" y="249696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1040" y="333360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1040" y="437688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1040" y="496872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25480" y="57657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45320" y="1827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57920" y="247176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26360" y="234324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37480" y="234324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762680" y="386064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591240" y="417024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73560" y="638316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766000" y="402696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722720" y="405432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35440" y="480060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809880" y="400212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32440" y="387360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106880" y="3218040"/>
            <a:ext cx="1479600" cy="47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887640" y="241920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23960" y="24019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8480" y="2207880"/>
            <a:ext cx="778824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ff"/>
                </a:solidFill>
                <a:latin typeface="Times New Roman"/>
              </a:rPr>
              <a:t>El Sistema de Transporte de Santiago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09720" y="266760"/>
            <a:ext cx="6400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incipales Arcos  Urb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127240" y="1371600"/>
            <a:ext cx="5200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istema de B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220760"/>
            <a:ext cx="47052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380 lí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Amplia cobertura espacial y alta 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0,1 trasbordos/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8.000 buses propiedad priv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4.000 “compañí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Oferta no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No hay subsidio operac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Mantención d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Competencia “en la calle”  por los pasajeros: inseg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82 km vías exclusivas en punta mañ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0" r="4517" b="0"/>
          <a:stretch/>
        </p:blipFill>
        <p:spPr>
          <a:xfrm>
            <a:off x="4543560" y="1398600"/>
            <a:ext cx="46004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istema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759120" y="1243080"/>
            <a:ext cx="5251680" cy="5602320"/>
            <a:chOff x="3759120" y="1243080"/>
            <a:chExt cx="5251680" cy="560232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3759120" y="1243080"/>
              <a:ext cx="5251680" cy="560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"/>
            <p:cNvGrpSpPr/>
            <p:nvPr/>
          </p:nvGrpSpPr>
          <p:grpSpPr>
            <a:xfrm>
              <a:off x="5511960" y="3543480"/>
              <a:ext cx="1752480" cy="660240"/>
              <a:chOff x="5511960" y="3543480"/>
              <a:chExt cx="1752480" cy="660240"/>
            </a:xfrm>
          </p:grpSpPr>
          <p:sp>
            <p:nvSpPr>
              <p:cNvPr id="181" name=""/>
              <p:cNvSpPr/>
              <p:nvPr/>
            </p:nvSpPr>
            <p:spPr>
              <a:xfrm flipH="1">
                <a:off x="7023240" y="3543480"/>
                <a:ext cx="241200" cy="378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6527880" y="3587760"/>
                <a:ext cx="488880" cy="342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657400" y="3924360"/>
                <a:ext cx="876600" cy="2793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flipV="1">
                <a:off x="5530680" y="4165560"/>
                <a:ext cx="120600" cy="381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5511960" y="4019400"/>
                <a:ext cx="25200" cy="1461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318360" y="3784320"/>
              <a:ext cx="215640" cy="1416240"/>
              <a:chOff x="6318360" y="3784320"/>
              <a:chExt cx="215640" cy="1416240"/>
            </a:xfrm>
          </p:grpSpPr>
          <p:sp>
            <p:nvSpPr>
              <p:cNvPr id="187" name=""/>
              <p:cNvSpPr/>
              <p:nvPr/>
            </p:nvSpPr>
            <p:spPr>
              <a:xfrm flipH="1" flipV="1">
                <a:off x="6514920" y="4267080"/>
                <a:ext cx="19080" cy="1396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343560" y="4400640"/>
                <a:ext cx="184320" cy="7999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6438960" y="4222800"/>
                <a:ext cx="76320" cy="381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6388200" y="4152960"/>
                <a:ext cx="38160" cy="76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6324120" y="3867120"/>
                <a:ext cx="57240" cy="2858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6318360" y="3790800"/>
                <a:ext cx="31680" cy="76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6356520" y="3784320"/>
                <a:ext cx="75960" cy="61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337080" y="3854520"/>
              <a:ext cx="838440" cy="1162080"/>
              <a:chOff x="6337080" y="3854520"/>
              <a:chExt cx="838440" cy="1162080"/>
            </a:xfrm>
          </p:grpSpPr>
          <p:sp>
            <p:nvSpPr>
              <p:cNvPr id="195" name=""/>
              <p:cNvSpPr/>
              <p:nvPr/>
            </p:nvSpPr>
            <p:spPr>
              <a:xfrm flipH="1" flipV="1">
                <a:off x="6972480" y="4800600"/>
                <a:ext cx="203040" cy="21600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6622920" y="3860280"/>
                <a:ext cx="355680" cy="9334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337080" y="3854520"/>
                <a:ext cx="285480" cy="190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067360" y="3543480"/>
              <a:ext cx="7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3300"/>
                  </a:solidFill>
                  <a:latin typeface="Times New Roman"/>
                </a:rPr>
                <a:t>L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12160" y="4775040"/>
              <a:ext cx="7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ff00"/>
                  </a:solidFill>
                  <a:latin typeface="Times New Roman"/>
                </a:rPr>
                <a:t>L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67280" y="5156280"/>
              <a:ext cx="7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66"/>
                  </a:solidFill>
                  <a:latin typeface="Times New Roman"/>
                </a:rPr>
                <a:t>L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06360" y="1486080"/>
            <a:ext cx="41562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3 lí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Longitud total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Alta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Compañía esta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No hay subsidio operac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Pre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1447920"/>
            <a:ext cx="80136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ransporte Público : Tarifa no integr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Bus: $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Metro: desde $310 hasta 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axi-Colectivo: ~600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ransporte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Bencina: 500 $/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Estacionamiento en el centro: ~1800 $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ff"/>
                </a:solidFill>
                <a:latin typeface="Times New Roman"/>
              </a:rPr>
              <a:t>Demanda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149960" y="4911840"/>
            <a:ext cx="1562400" cy="862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amin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bicic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54400" y="1828800"/>
            <a:ext cx="319572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16.481.04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25480" y="88920"/>
            <a:ext cx="6821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Totales  (día laboral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5240" y="1914480"/>
            <a:ext cx="28652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ot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41680" y="3560760"/>
            <a:ext cx="2719440" cy="61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Comic Sans MS"/>
              </a:rPr>
              <a:t>10.147.247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25560" y="3646440"/>
            <a:ext cx="353520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iajes motoriz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76600" y="5049720"/>
            <a:ext cx="2683080" cy="61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Comic Sans MS"/>
              </a:rPr>
              <a:t>6.333.796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0240" y="5138640"/>
            <a:ext cx="383076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iajes no motorizad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22840" y="2722680"/>
            <a:ext cx="1116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02200" y="2722680"/>
            <a:ext cx="1116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75480" y="4292640"/>
            <a:ext cx="1080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500440" y="4587840"/>
            <a:ext cx="58716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402160" y="6346800"/>
            <a:ext cx="2719440" cy="432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13400" y="6354720"/>
            <a:ext cx="24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1.880.887 vi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993600" y="6329520"/>
            <a:ext cx="2543040" cy="431640"/>
            <a:chOff x="993600" y="6329520"/>
            <a:chExt cx="2543040" cy="431640"/>
          </a:xfrm>
        </p:grpSpPr>
        <p:sp>
          <p:nvSpPr>
            <p:cNvPr id="220" name=""/>
            <p:cNvSpPr/>
            <p:nvPr/>
          </p:nvSpPr>
          <p:spPr>
            <a:xfrm>
              <a:off x="993600" y="6329520"/>
              <a:ext cx="254304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4880" y="6375600"/>
              <a:ext cx="24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omic Sans MS"/>
                </a:rPr>
                <a:t>16.481.043 viaj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26000" y="1849320"/>
            <a:ext cx="4479840" cy="4410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2840" y="1812960"/>
            <a:ext cx="4489560" cy="438624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960480" y="1395360"/>
            <a:ext cx="2543040" cy="431640"/>
            <a:chOff x="960480" y="1395360"/>
            <a:chExt cx="2543040" cy="431640"/>
          </a:xfrm>
        </p:grpSpPr>
        <p:sp>
          <p:nvSpPr>
            <p:cNvPr id="225" name=""/>
            <p:cNvSpPr/>
            <p:nvPr/>
          </p:nvSpPr>
          <p:spPr>
            <a:xfrm>
              <a:off x="960480" y="1395360"/>
              <a:ext cx="254304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31760" y="1466640"/>
              <a:ext cx="241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Di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586320" y="1251000"/>
            <a:ext cx="1957320" cy="884160"/>
            <a:chOff x="3586320" y="1251000"/>
            <a:chExt cx="1957320" cy="884160"/>
          </a:xfrm>
        </p:grpSpPr>
        <p:sp>
          <p:nvSpPr>
            <p:cNvPr id="228" name=""/>
            <p:cNvSpPr/>
            <p:nvPr/>
          </p:nvSpPr>
          <p:spPr>
            <a:xfrm>
              <a:off x="3586320" y="125100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4120" y="1576440"/>
              <a:ext cx="86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06720" y="1805040"/>
              <a:ext cx="8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94120" y="136836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28880" y="16239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28880" y="18399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8880" y="14032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8400" y="1636560"/>
              <a:ext cx="189000" cy="16380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78400" y="1415880"/>
              <a:ext cx="189000" cy="16380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68840" y="1576440"/>
              <a:ext cx="86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taxi-t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56240" y="1368360"/>
              <a:ext cx="85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78400" y="18525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81440" y="1792440"/>
              <a:ext cx="86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508720" y="1395360"/>
            <a:ext cx="2719080" cy="431640"/>
            <a:chOff x="5508720" y="1395360"/>
            <a:chExt cx="2719080" cy="431640"/>
          </a:xfrm>
        </p:grpSpPr>
        <p:sp>
          <p:nvSpPr>
            <p:cNvPr id="242" name=""/>
            <p:cNvSpPr/>
            <p:nvPr/>
          </p:nvSpPr>
          <p:spPr>
            <a:xfrm>
              <a:off x="5508720" y="1395360"/>
              <a:ext cx="271908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45160" y="1466640"/>
              <a:ext cx="247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Punta mañana: 7:30-8: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136520" y="88920"/>
            <a:ext cx="6983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rtición Modal  (día laboral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0520" y="76320"/>
            <a:ext cx="82929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por propósito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502320" y="3608280"/>
            <a:ext cx="720360" cy="258840"/>
            <a:chOff x="6502320" y="3608280"/>
            <a:chExt cx="720360" cy="258840"/>
          </a:xfrm>
        </p:grpSpPr>
        <p:sp>
          <p:nvSpPr>
            <p:cNvPr id="248" name=""/>
            <p:cNvSpPr/>
            <p:nvPr/>
          </p:nvSpPr>
          <p:spPr>
            <a:xfrm>
              <a:off x="6502320" y="360828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02320" y="362088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858080" y="4765680"/>
            <a:ext cx="1080720" cy="260280"/>
            <a:chOff x="7858080" y="4765680"/>
            <a:chExt cx="1080720" cy="260280"/>
          </a:xfrm>
        </p:grpSpPr>
        <p:sp>
          <p:nvSpPr>
            <p:cNvPr id="251" name=""/>
            <p:cNvSpPr/>
            <p:nvPr/>
          </p:nvSpPr>
          <p:spPr>
            <a:xfrm>
              <a:off x="7858080" y="476568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58080" y="477972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967360" y="5340240"/>
            <a:ext cx="1223280" cy="258840"/>
            <a:chOff x="5967360" y="5340240"/>
            <a:chExt cx="1223280" cy="258840"/>
          </a:xfrm>
        </p:grpSpPr>
        <p:sp>
          <p:nvSpPr>
            <p:cNvPr id="254" name=""/>
            <p:cNvSpPr/>
            <p:nvPr/>
          </p:nvSpPr>
          <p:spPr>
            <a:xfrm>
              <a:off x="5967360" y="534024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67360" y="535284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60440" y="1311120"/>
            <a:ext cx="4765680" cy="3240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200560" y="2619360"/>
            <a:ext cx="3840120" cy="359892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6475320" y="5391000"/>
            <a:ext cx="720360" cy="258840"/>
            <a:chOff x="6475320" y="5391000"/>
            <a:chExt cx="720360" cy="258840"/>
          </a:xfrm>
        </p:grpSpPr>
        <p:sp>
          <p:nvSpPr>
            <p:cNvPr id="259" name=""/>
            <p:cNvSpPr/>
            <p:nvPr/>
          </p:nvSpPr>
          <p:spPr>
            <a:xfrm>
              <a:off x="6475320" y="5391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75320" y="5403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732640" y="3659040"/>
            <a:ext cx="1080720" cy="260280"/>
            <a:chOff x="5732640" y="3659040"/>
            <a:chExt cx="1080720" cy="260280"/>
          </a:xfrm>
        </p:grpSpPr>
        <p:sp>
          <p:nvSpPr>
            <p:cNvPr id="262" name=""/>
            <p:cNvSpPr/>
            <p:nvPr/>
          </p:nvSpPr>
          <p:spPr>
            <a:xfrm>
              <a:off x="5732640" y="36590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32640" y="36730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365960" y="3832200"/>
            <a:ext cx="1223280" cy="258840"/>
            <a:chOff x="7365960" y="3832200"/>
            <a:chExt cx="1223280" cy="258840"/>
          </a:xfrm>
        </p:grpSpPr>
        <p:sp>
          <p:nvSpPr>
            <p:cNvPr id="265" name=""/>
            <p:cNvSpPr/>
            <p:nvPr/>
          </p:nvSpPr>
          <p:spPr>
            <a:xfrm>
              <a:off x="7365960" y="383220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65960" y="384480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1676520"/>
            <a:ext cx="838188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88920" y="4003560"/>
          <a:ext cx="9016920" cy="285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4003560"/>
                    <a:ext cx="901692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98280" y="1270080"/>
          <a:ext cx="8994960" cy="276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280" y="1270080"/>
                    <a:ext cx="899496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563400" y="0"/>
            <a:ext cx="8580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stograma de evolución de propósitos de viaje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845480" y="1343160"/>
            <a:ext cx="1187280" cy="884160"/>
            <a:chOff x="7845480" y="1343160"/>
            <a:chExt cx="1187280" cy="884160"/>
          </a:xfrm>
        </p:grpSpPr>
        <p:sp>
          <p:nvSpPr>
            <p:cNvPr id="274" name=""/>
            <p:cNvSpPr/>
            <p:nvPr/>
          </p:nvSpPr>
          <p:spPr>
            <a:xfrm>
              <a:off x="7845480" y="134316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53280" y="166860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65880" y="18972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178840" y="14605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88040" y="1716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88040" y="1932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88040" y="149544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996840" y="4454640"/>
            <a:ext cx="1366920" cy="468360"/>
            <a:chOff x="996840" y="4454640"/>
            <a:chExt cx="1366920" cy="468360"/>
          </a:xfrm>
        </p:grpSpPr>
        <p:sp>
          <p:nvSpPr>
            <p:cNvPr id="282" name=""/>
            <p:cNvSpPr/>
            <p:nvPr/>
          </p:nvSpPr>
          <p:spPr>
            <a:xfrm>
              <a:off x="996840" y="445464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08080" y="452592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001880" y="1677960"/>
            <a:ext cx="1380960" cy="431640"/>
            <a:chOff x="1001880" y="1677960"/>
            <a:chExt cx="1380960" cy="431640"/>
          </a:xfrm>
        </p:grpSpPr>
        <p:sp>
          <p:nvSpPr>
            <p:cNvPr id="285" name=""/>
            <p:cNvSpPr/>
            <p:nvPr/>
          </p:nvSpPr>
          <p:spPr>
            <a:xfrm>
              <a:off x="1001880" y="167796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77840" y="174924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3120" y="101160"/>
            <a:ext cx="82677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==&gt; necesidad de modelar para predecir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971960" y="1555920"/>
                <a:ext cx="2441520" cy="10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003320" y="1866960"/>
            <a:ext cx="63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producto en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97000" y="3603600"/>
            <a:ext cx="6745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Agreg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describir, modelar, predec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mporal: 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eriod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po de persona o bien: 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seg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pacial: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zon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326280" y="5616720"/>
            <a:ext cx="2484360" cy="46008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44760" y="5607000"/>
            <a:ext cx="248472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5587920"/>
            <a:ext cx="2484360" cy="48600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440" y="5724360"/>
            <a:ext cx="20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mayor a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43160" y="88920"/>
            <a:ext cx="65005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 por ingreso del hogar ( día laboral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4880" y="573732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00960" y="57085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menor a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00360" y="1479600"/>
            <a:ext cx="2008440" cy="884160"/>
            <a:chOff x="3600360" y="1479600"/>
            <a:chExt cx="2008440" cy="884160"/>
          </a:xfrm>
        </p:grpSpPr>
        <p:sp>
          <p:nvSpPr>
            <p:cNvPr id="295" name=""/>
            <p:cNvSpPr/>
            <p:nvPr/>
          </p:nvSpPr>
          <p:spPr>
            <a:xfrm>
              <a:off x="3600360" y="1479600"/>
              <a:ext cx="194004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08520" y="180468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21120" y="20332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8520" y="159696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43280" y="18525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43280" y="20682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43280" y="16318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68760" y="18651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68760" y="16444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46600" y="180468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59200" y="159696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011480" y="6207120"/>
            <a:ext cx="1249200" cy="396720"/>
            <a:chOff x="4011480" y="6207120"/>
            <a:chExt cx="1249200" cy="396720"/>
          </a:xfrm>
        </p:grpSpPr>
        <p:sp>
          <p:nvSpPr>
            <p:cNvPr id="307" name=""/>
            <p:cNvSpPr/>
            <p:nvPr/>
          </p:nvSpPr>
          <p:spPr>
            <a:xfrm>
              <a:off x="4011480" y="62071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35240" y="63226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2451240"/>
            <a:ext cx="3059280" cy="30002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2519280"/>
            <a:ext cx="3059280" cy="2970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032280" y="2460600"/>
            <a:ext cx="30589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91960" y="1523880"/>
            <a:ext cx="7197840" cy="50371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20760" y="88920"/>
            <a:ext cx="6534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Evolucion de generación de viajes motorizad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0" y="1287360"/>
          <a:ext cx="9144000" cy="25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87360"/>
                    <a:ext cx="91440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0" y="3811680"/>
          <a:ext cx="9144000" cy="304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11680"/>
                    <a:ext cx="914400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9" name=""/>
          <p:cNvGrpSpPr/>
          <p:nvPr/>
        </p:nvGrpSpPr>
        <p:grpSpPr>
          <a:xfrm>
            <a:off x="7858080" y="1406520"/>
            <a:ext cx="1187280" cy="884160"/>
            <a:chOff x="7858080" y="1406520"/>
            <a:chExt cx="1187280" cy="884160"/>
          </a:xfrm>
        </p:grpSpPr>
        <p:sp>
          <p:nvSpPr>
            <p:cNvPr id="320" name=""/>
            <p:cNvSpPr/>
            <p:nvPr/>
          </p:nvSpPr>
          <p:spPr>
            <a:xfrm>
              <a:off x="7858080" y="140652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65880" y="173196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STUD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78480" y="196056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191440" y="152388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00640" y="1779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00640" y="1995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00640" y="15588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996840" y="4302000"/>
            <a:ext cx="1366920" cy="468360"/>
            <a:chOff x="996840" y="4302000"/>
            <a:chExt cx="1366920" cy="468360"/>
          </a:xfrm>
        </p:grpSpPr>
        <p:sp>
          <p:nvSpPr>
            <p:cNvPr id="328" name=""/>
            <p:cNvSpPr/>
            <p:nvPr/>
          </p:nvSpPr>
          <p:spPr>
            <a:xfrm>
              <a:off x="996840" y="430200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08080" y="437328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001880" y="1728720"/>
            <a:ext cx="1380960" cy="431640"/>
            <a:chOff x="1001880" y="1728720"/>
            <a:chExt cx="1380960" cy="431640"/>
          </a:xfrm>
        </p:grpSpPr>
        <p:sp>
          <p:nvSpPr>
            <p:cNvPr id="331" name=""/>
            <p:cNvSpPr/>
            <p:nvPr/>
          </p:nvSpPr>
          <p:spPr>
            <a:xfrm>
              <a:off x="1001880" y="172872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77840" y="180000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133640" y="88920"/>
            <a:ext cx="8010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stograma  evolución propósito  viajes motorizados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41520" y="101520"/>
            <a:ext cx="82213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volución de la partición modal de viajes motorizados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337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340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51480" y="1844640"/>
            <a:ext cx="4492440" cy="4184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3360" y="1855800"/>
            <a:ext cx="4486320" cy="416700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346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358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0.147.2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361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5.996.1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303880" y="2449440"/>
            <a:ext cx="3840120" cy="3619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177840" y="1336680"/>
            <a:ext cx="5029200" cy="32878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52680" y="76320"/>
            <a:ext cx="6064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Motorizados por propósito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578640" y="3481560"/>
            <a:ext cx="720360" cy="258840"/>
            <a:chOff x="6578640" y="3481560"/>
            <a:chExt cx="720360" cy="258840"/>
          </a:xfrm>
        </p:grpSpPr>
        <p:sp>
          <p:nvSpPr>
            <p:cNvPr id="368" name=""/>
            <p:cNvSpPr/>
            <p:nvPr/>
          </p:nvSpPr>
          <p:spPr>
            <a:xfrm>
              <a:off x="6578640" y="348156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78640" y="349416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858080" y="4626000"/>
            <a:ext cx="1080720" cy="260280"/>
            <a:chOff x="7858080" y="4626000"/>
            <a:chExt cx="1080720" cy="260280"/>
          </a:xfrm>
        </p:grpSpPr>
        <p:sp>
          <p:nvSpPr>
            <p:cNvPr id="371" name=""/>
            <p:cNvSpPr/>
            <p:nvPr/>
          </p:nvSpPr>
          <p:spPr>
            <a:xfrm>
              <a:off x="7858080" y="462600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58080" y="464004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066000" y="5218200"/>
            <a:ext cx="1222920" cy="258840"/>
            <a:chOff x="6066000" y="5218200"/>
            <a:chExt cx="1222920" cy="258840"/>
          </a:xfrm>
        </p:grpSpPr>
        <p:sp>
          <p:nvSpPr>
            <p:cNvPr id="374" name=""/>
            <p:cNvSpPr/>
            <p:nvPr/>
          </p:nvSpPr>
          <p:spPr>
            <a:xfrm>
              <a:off x="6066000" y="5218200"/>
              <a:ext cx="122292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66000" y="5230800"/>
              <a:ext cx="122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57320" y="1305000"/>
            <a:ext cx="5000400" cy="32925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5148360" y="2370240"/>
            <a:ext cx="3995640" cy="376056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5767560" y="3510000"/>
            <a:ext cx="720360" cy="258840"/>
            <a:chOff x="5767560" y="3510000"/>
            <a:chExt cx="720360" cy="258840"/>
          </a:xfrm>
        </p:grpSpPr>
        <p:sp>
          <p:nvSpPr>
            <p:cNvPr id="380" name=""/>
            <p:cNvSpPr/>
            <p:nvPr/>
          </p:nvSpPr>
          <p:spPr>
            <a:xfrm>
              <a:off x="5767560" y="3510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67560" y="3522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7515360" y="3513240"/>
            <a:ext cx="1080720" cy="260280"/>
            <a:chOff x="7515360" y="3513240"/>
            <a:chExt cx="1080720" cy="260280"/>
          </a:xfrm>
        </p:grpSpPr>
        <p:sp>
          <p:nvSpPr>
            <p:cNvPr id="383" name=""/>
            <p:cNvSpPr/>
            <p:nvPr/>
          </p:nvSpPr>
          <p:spPr>
            <a:xfrm>
              <a:off x="7515360" y="35132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15360" y="35272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307200" y="5173560"/>
            <a:ext cx="1223280" cy="258840"/>
            <a:chOff x="6307200" y="5173560"/>
            <a:chExt cx="1223280" cy="258840"/>
          </a:xfrm>
        </p:grpSpPr>
        <p:sp>
          <p:nvSpPr>
            <p:cNvPr id="386" name=""/>
            <p:cNvSpPr/>
            <p:nvPr/>
          </p:nvSpPr>
          <p:spPr>
            <a:xfrm>
              <a:off x="6307200" y="517356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07200" y="518616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671400" y="76320"/>
            <a:ext cx="8472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motorizados por propósito, punta mañana 7:30-8:30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65240" y="1893960"/>
            <a:ext cx="4317840" cy="39956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643280" y="1928880"/>
            <a:ext cx="4318200" cy="39830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400040" y="101520"/>
            <a:ext cx="68979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Partición modal de viajes motorizados en día laboral punta mañana (7:30-8:30) ¿eli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394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397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401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413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.366.77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416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931.7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6326280" y="560376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10000" y="559440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2920" y="5575320"/>
            <a:ext cx="2484360" cy="4856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0360" y="5699160"/>
            <a:ext cx="20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&gt;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71720" y="88920"/>
            <a:ext cx="7480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viajes motorizados (día laboral) por estrato de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79760" y="571176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00960" y="56833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&lt;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637080" y="1449360"/>
            <a:ext cx="2007720" cy="884160"/>
            <a:chOff x="3637080" y="1449360"/>
            <a:chExt cx="2007720" cy="884160"/>
          </a:xfrm>
        </p:grpSpPr>
        <p:sp>
          <p:nvSpPr>
            <p:cNvPr id="426" name=""/>
            <p:cNvSpPr/>
            <p:nvPr/>
          </p:nvSpPr>
          <p:spPr>
            <a:xfrm>
              <a:off x="3637080" y="144936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944880" y="1774440"/>
              <a:ext cx="86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957480" y="200304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44880" y="1566720"/>
              <a:ext cx="59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79640" y="18223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79640" y="203796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79640" y="16016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05120" y="18349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05120" y="16142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82960" y="17744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95560" y="1566720"/>
              <a:ext cx="7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113360" y="6194520"/>
            <a:ext cx="1249200" cy="396720"/>
            <a:chOff x="4113360" y="6194520"/>
            <a:chExt cx="1249200" cy="396720"/>
          </a:xfrm>
        </p:grpSpPr>
        <p:sp>
          <p:nvSpPr>
            <p:cNvPr id="438" name=""/>
            <p:cNvSpPr/>
            <p:nvPr/>
          </p:nvSpPr>
          <p:spPr>
            <a:xfrm>
              <a:off x="4113360" y="61945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37120" y="63100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3033720" y="2506680"/>
            <a:ext cx="3048120" cy="27892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6093000" y="2541600"/>
            <a:ext cx="3051000" cy="28130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0" y="2508120"/>
            <a:ext cx="30481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Flujos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4960" y="266760"/>
            <a:ext cx="8879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Auto: Arcos urbanos más Congestion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631880" y="1238400"/>
          <a:ext cx="6116760" cy="55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1238400"/>
                    <a:ext cx="6116760" cy="55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0560" y="10116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Mirando desde la perspectiva del usuari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cis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Gen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esde donde y hacia d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n qué mo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artición 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r qué ru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Son separables esas decisio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212840" y="1523880"/>
            <a:ext cx="6718320" cy="46926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: arcos con flujo &gt; 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8478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081080" y="1676520"/>
            <a:ext cx="6981840" cy="46418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552680" y="42876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0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950160" cy="45576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 el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5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6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t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50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9,0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era de pu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37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3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iempos de viaje prome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Planes e Inversión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809880" y="1290600"/>
            <a:ext cx="5181840" cy="47242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Autopistas Urba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0880" y="1447920"/>
            <a:ext cx="38102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150 km 2001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US$ 2 000 mill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Red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1447920"/>
            <a:ext cx="288936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Hoy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2006: 8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versión: MMUS$ 1.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727440" y="1312920"/>
            <a:ext cx="4479840" cy="5362560"/>
            <a:chOff x="3727440" y="1312920"/>
            <a:chExt cx="4479840" cy="5362560"/>
          </a:xfrm>
        </p:grpSpPr>
        <p:pic>
          <p:nvPicPr>
            <p:cNvPr id="475" name="" descr=""/>
            <p:cNvPicPr/>
            <p:nvPr/>
          </p:nvPicPr>
          <p:blipFill>
            <a:blip r:embed="rId1"/>
            <a:stretch/>
          </p:blipFill>
          <p:spPr>
            <a:xfrm>
              <a:off x="3727440" y="1338120"/>
              <a:ext cx="4479840" cy="53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7264440" y="3214800"/>
              <a:ext cx="566640" cy="31147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62440" y="2755800"/>
              <a:ext cx="746280" cy="3715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30960" y="5089680"/>
              <a:ext cx="336600" cy="66168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3600000">
              <a:off x="6181560" y="4398840"/>
              <a:ext cx="739800" cy="18511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54600" y="1312920"/>
              <a:ext cx="336600" cy="126216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320" y="247320"/>
            <a:ext cx="8675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Transporte en Santiag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. Descripción Socio-económ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2. Sistema de 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 Demand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4. Flujos de 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447920"/>
            <a:ext cx="77738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Población: 15.1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greso per capita: US$ 4 260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Distribución del ingreso:  </a:t>
            </a:r>
            <a:r>
              <a:rPr b="0" lang="es-ES_tradnl" sz="2800" spc="-1" strike="noStrike">
                <a:solidFill>
                  <a:srgbClr val="4d4d4d"/>
                </a:solidFill>
                <a:latin typeface="Arial"/>
              </a:rPr>
              <a:t>V/I = 15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32040" y="3889440"/>
          <a:ext cx="5933880" cy="213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2040" y="3889440"/>
                    <a:ext cx="59338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Descripción Socio- Económica Espacial de Santiago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HOGTCO97" descr=""/>
          <p:cNvPicPr/>
          <p:nvPr/>
        </p:nvPicPr>
        <p:blipFill>
          <a:blip r:embed="rId1"/>
          <a:stretch/>
        </p:blipFill>
        <p:spPr>
          <a:xfrm>
            <a:off x="3560760" y="1590840"/>
            <a:ext cx="5583240" cy="4405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anti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0280" y="1287360"/>
            <a:ext cx="4076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Población: 5.5 m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Area: 425 km</a:t>
            </a:r>
            <a:r>
              <a:rPr b="0" lang="es-MX" sz="2800" spc="-1" strike="noStrike" baseline="30000">
                <a:solidFill>
                  <a:srgbClr val="4d4d4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Densidad: 13 000 h/km</a:t>
            </a:r>
            <a:r>
              <a:rPr b="0" lang="es-MX" sz="2800" spc="-1" strike="noStrike" baseline="30000">
                <a:solidFill>
                  <a:srgbClr val="4d4d4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34 Municip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47% del GDP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6000" y="1665360"/>
            <a:ext cx="6443640" cy="4694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úmero de hog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9:24:41Z</dcterms:created>
  <dc:creator>cvaleze</dc:creator>
  <dc:description/>
  <dc:language>en-US</dc:language>
  <cp:lastModifiedBy>Cristián Cortés</cp:lastModifiedBy>
  <cp:lastPrinted>2004-05-14T03:25:37Z</cp:lastPrinted>
  <dcterms:modified xsi:type="dcterms:W3CDTF">2005-08-02T21:01:21Z</dcterms:modified>
  <cp:revision>402</cp:revision>
  <dc:subject/>
  <dc:title>ENCUESTA ORIGEN DESTINO DEL GRAN SANTIAGO</dc:title>
</cp:coreProperties>
</file>