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5D3-8215-4A66-9E82-DB4F18B0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A6A-56DF-4371-81B4-4CB5DA3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4D1-AC40-45DD-87B2-84E781FA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F72-6C26-4EB6-BC3B-AA5596A6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2DD-A32C-4595-950D-165C8879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C6E-6827-4A1D-80FA-4D04A096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0122-37C3-4766-9D3C-E3CE322F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65E-564A-4571-9003-3EEC3F7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5D89-70EC-4B35-9DCA-A9383AEF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B7F8-6A10-4847-9F6F-D5368BB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538C-C518-44B1-8B76-9F516A4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951-36D2-489C-BF09-298A7DD8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942-5A31-4E15-BF3D-0B534EA0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34D4-DDA5-4382-A757-0006C9A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B4A-B640-4CDF-BC7C-6B8E0AF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A8DD-D7E8-4FC8-91BE-F008219B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D01E-284D-485E-8D4D-A5D6D89D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62A-A5E2-44D6-95F0-58840AE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57-1259-41EA-A519-771D4676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529-E7EA-4BD2-83D9-DBA2150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736-4608-4CAE-A9EB-74BE1899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D5C-1572-4D50-821B-AC21B83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B3F-07B1-40E0-A145-B0F4550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9DB-8CC1-46CC-9193-ADFEE8A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0831-C99B-42A6-BA4F-4DE9BDA0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69D-2BB2-4AE8-A8CA-3978139E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131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195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Marcela Munizaga</cp:lastModifiedBy>
  <dcterms:modified xsi:type="dcterms:W3CDTF">2004-08-14T01:41:42Z</dcterms:modified>
  <cp:revision>17</cp:revision>
  <dc:subject/>
  <dc:title>II. EQUILIBRIO GENERAL</dc:title>
</cp:coreProperties>
</file>