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9A7-C62E-469F-BCB9-4D1F9399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F30-DA0A-46E2-902D-A2E6B5AA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5B7-81EE-4321-A475-EBB96115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B9F-1493-4C4F-AA9A-E020E420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B1A3-E311-4B7A-9FF7-E01C50AF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A6AC-4221-4A31-A807-EA667E95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C5AA-FC31-41D3-ACA7-2C593BBC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6318-9E66-4B57-8A31-FC276B4F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5FC4-89F5-47BF-A76F-136F80BC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DF42-0964-4257-BFDC-94C6C04D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39A0-44B9-481A-A886-75FC90D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E8D-DA46-4A35-9B2E-B32631DD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1868-AA81-46E9-8748-250E0979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D9E8-86A8-42B8-81A1-5EF10935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C566-7BAC-4FA4-A21A-539941A4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405F-4582-4664-BCF7-4F8254FA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2CB3-7794-4024-B808-F5A559FF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B38-9EC1-4636-BD48-9511862D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8DB-2F12-4A67-A727-454E5E85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03D-86CE-4618-9310-8B9F8FAE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DDE-583F-4675-A91C-02452AFB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1EA-8CC7-434F-A5DA-8369B5E9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1EB-ACC2-4D5C-8707-8C9A1706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9CF-8D25-4BFE-AFCE-5AD3E4F2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BDDE-6364-4E75-9C6B-05EC394E1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3155-1857-4DF0-9692-543AADD63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os mercados mono-productores de un bien x, distantes entre sí e inicialmente desconectados. ¿Que ocurre si eventualmente se conectan por un medio de transpo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2209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23440" y="175248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71720" y="12952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9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617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o en el precio del combus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5257800"/>
            <a:ext cx="6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p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095880" y="4419720"/>
            <a:ext cx="18288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781680" y="1752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17184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1718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599840" y="2209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599840" y="1752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94640" y="16765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69000" y="166680"/>
            <a:ext cx="50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jemplo: Cambios en la ofert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560" y="175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68120" y="2286000"/>
            <a:ext cx="4870800" cy="3573360"/>
            <a:chOff x="1068120" y="2286000"/>
            <a:chExt cx="4870800" cy="3573360"/>
          </a:xfrm>
        </p:grpSpPr>
        <p:sp>
          <p:nvSpPr>
            <p:cNvPr id="131" name=""/>
            <p:cNvSpPr/>
            <p:nvPr/>
          </p:nvSpPr>
          <p:spPr>
            <a:xfrm>
              <a:off x="1401840" y="2430360"/>
              <a:ext cx="0" cy="29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1840" y="5415120"/>
              <a:ext cx="41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2880" y="2770200"/>
              <a:ext cx="2577960" cy="20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305080" y="2836440"/>
              <a:ext cx="2062080" cy="19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48600" y="2557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12320" y="4456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812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0000" y="533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248520" y="1895400"/>
            <a:ext cx="2895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transpor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 dispuesta a ofrecer la(s) empresa(s)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n dispuestos a adquirir los consumidores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ofer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01840" y="2430360"/>
            <a:ext cx="0" cy="298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1840" y="5415120"/>
            <a:ext cx="418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200400" y="2743200"/>
            <a:ext cx="2062080" cy="19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7680" y="1981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8120" y="22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533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447920" y="25909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600200" y="281916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429000"/>
            <a:ext cx="304776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5160" y="210816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560" y="228600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deman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0040" y="2479680"/>
            <a:ext cx="0" cy="29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0040" y="5464080"/>
            <a:ext cx="41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2743200"/>
            <a:ext cx="2577960" cy="20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3480" y="4572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233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78200" y="538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276720"/>
            <a:ext cx="9144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2760" y="480060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8040" y="487692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038480"/>
            <a:ext cx="335268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2057400"/>
            <a:ext cx="7920" cy="328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13040" y="533880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286000"/>
            <a:ext cx="1652760" cy="19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43792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20680" y="22860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25240" y="41148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5320" y="19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2520" y="52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638680" y="2209680"/>
            <a:ext cx="14400" cy="322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5410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3505320"/>
            <a:ext cx="15242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342864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51080" y="293364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2480" y="479592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2920" y="220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4120" y="5357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20040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64832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570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146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04280" y="29718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04280" y="44197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6520" y="5934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de M? a 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200400"/>
            <a:ext cx="0" cy="2133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1328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46483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9492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90120" y="593424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lujo 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M2 a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04280" y="1600200"/>
            <a:ext cx="7358760" cy="4326840"/>
            <a:chOff x="1304280" y="1600200"/>
            <a:chExt cx="7358760" cy="4326840"/>
          </a:xfrm>
        </p:grpSpPr>
        <p:sp>
          <p:nvSpPr>
            <p:cNvPr id="195" name=""/>
            <p:cNvSpPr/>
            <p:nvPr/>
          </p:nvSpPr>
          <p:spPr>
            <a:xfrm>
              <a:off x="1905120" y="2057400"/>
              <a:ext cx="7920" cy="32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13040" y="53388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4600" y="2286000"/>
              <a:ext cx="1652760" cy="19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438280" y="2437920"/>
              <a:ext cx="132264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18160" y="233676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65320" y="190512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5320" y="198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92520" y="526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638680" y="2209680"/>
              <a:ext cx="14400" cy="32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24640" y="54324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3505320"/>
              <a:ext cx="152388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400800" y="3428640"/>
              <a:ext cx="132228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48560" y="298440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89960" y="484668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82920" y="220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4120" y="535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5120" y="3200400"/>
              <a:ext cx="1371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3657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4572000"/>
              <a:ext cx="5029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905120" y="4114800"/>
              <a:ext cx="4495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1480" y="160020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14640" y="174312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04280" y="29718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04280" y="43434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65760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8920" y="3429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8920" y="38862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548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5760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38880" y="411480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52200" y="541008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5410080"/>
              <a:ext cx="46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48520" y="548640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0280" y="5486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13280" y="36720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34080" y="36576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11280" y="1542960"/>
            <a:ext cx="468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15960" y="36990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22400" y="1693800"/>
            <a:ext cx="1112760" cy="131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70200" y="17938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9920" y="146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17480" y="1566720"/>
            <a:ext cx="9720" cy="211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08480" y="36846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22680" y="2417760"/>
            <a:ext cx="102708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930480" y="236844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13160" y="36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11280" y="2293920"/>
            <a:ext cx="924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78000" y="259380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523880" y="317160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81600" y="2819520"/>
            <a:ext cx="51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523880" y="281952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85360" y="1243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74480" y="1260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3400" y="212076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3400" y="30211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11280" y="259380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8040" y="23623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8040" y="26668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7800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9244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281952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2819520"/>
            <a:ext cx="0" cy="85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27400" y="26035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76640" y="23860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1535040"/>
            <a:ext cx="504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4520" y="1461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6108480" y="288756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08000" y="211284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08000" y="30132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58120" y="24130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58120" y="2712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228600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095880" y="251424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2590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10400" y="38098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88480" y="220968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12160" y="28195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596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27432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97080" y="4791240"/>
            <a:ext cx="603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demanda en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4640" y="5562720"/>
            <a:ext cx="64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oferta en 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4360" y="1600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24360" y="19051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03360" y="184140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52960" y="16239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4440" y="1650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34440" y="1951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6720" y="60199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3809880"/>
            <a:ext cx="2819520" cy="914400"/>
          </a:xfrm>
          <a:prstGeom prst="wedgeRectCallout">
            <a:avLst>
              <a:gd name="adj1" fmla="val 84009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5560" y="40384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mand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07320" y="184140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56920" y="16239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4080" y="165096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903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librio  del  Mercado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25720" y="52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57:37Z</dcterms:created>
  <dc:creator>Mariela Salazar</dc:creator>
  <dc:description/>
  <dc:language>en-US</dc:language>
  <cp:lastModifiedBy>Marcela Munizaga</cp:lastModifiedBy>
  <dcterms:modified xsi:type="dcterms:W3CDTF">2004-08-14T01:41:42Z</dcterms:modified>
  <cp:revision>17</cp:revision>
  <dc:subject/>
  <dc:title>II. EQUILIBRIO GENERAL</dc:title>
</cp:coreProperties>
</file>