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9291638" cy="7005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FC4C-FD12-463D-A377-C774DE5B7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F1EC-049C-42E2-9B8D-B0497374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A6D3-B45F-40ED-BD6D-69830C7D6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56E7-AFD5-48BC-962B-31CD8C273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0577-1AC5-4228-93FC-0285E69C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0297-2BEC-4581-9101-A26304BD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0F4A-11A5-464F-9D92-752A98ED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6A5D-4540-4B91-B863-EC1C8EB5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32E4-2738-4E66-AE55-680BE983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E5DA-B770-4885-8277-2EA4FF07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C725-8B2C-472F-A47B-26B975C9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3491-0935-452E-97E8-D45276FD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78FA-A6EA-4CD5-B90C-CB5FDD01F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odotrans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305560" cy="4689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5257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848360" y="495252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Bangk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8380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La Ingenierí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encia mediante la cual las propiedades de la materia y las fuentes de energía son transformadas, para permitir el traslado de personas y mercancías de un lugar a otro de forma que le sea útil a la sociedad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 diferencia de los objetos de la física del movimiento, el objeto transportado tiene voluntad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no es intercamb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xisten los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usuarios</a:t>
            </a:r>
            <a:r>
              <a:rPr b="0" lang="es-ES_tradnl" sz="2800" spc="-1" strike="noStrike">
                <a:solidFill>
                  <a:srgbClr val="6600ff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l sistema de transporte (personas o carga) y los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peradore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que son los responsables del comportamiento de los elementos móv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mponente social: Impacto en la calidad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bus1" descr=""/>
          <p:cNvPicPr/>
          <p:nvPr/>
        </p:nvPicPr>
        <p:blipFill>
          <a:blip r:embed="rId1"/>
          <a:stretch/>
        </p:blipFill>
        <p:spPr>
          <a:xfrm>
            <a:off x="3733920" y="4952880"/>
            <a:ext cx="228600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isión tradicional de la Ingeniería de Transport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qui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isión moder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ociendo aspectos fundamentales d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e preocupa básicamente de las interrelaciones y del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nálisi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iseñ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l Sistema de Transporte en su conju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rge como profesión reconocida en los 7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bus2" descr=""/>
          <p:cNvPicPr/>
          <p:nvPr/>
        </p:nvPicPr>
        <p:blipFill>
          <a:blip r:embed="rId1"/>
          <a:stretch/>
        </p:blipFill>
        <p:spPr>
          <a:xfrm>
            <a:off x="5334120" y="1192320"/>
            <a:ext cx="2514600" cy="15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gran desafío de la Ingeniería de transporte es intervenir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licad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liberadamen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n la sociedad y su entorno, con el objeto d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usar su sistema de transporte en forma efectiv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coordinadamente con otras acciones públicas y privadas, a fin de alcanzar las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eta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 dich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ocieda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Alumnos: mencionar ejemplos de tales intervenciones y analizarlas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Comic Sans MS"/>
              </a:rPr>
              <a:t>El gran desafío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(Manheim, 197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04:04:44Z</dcterms:created>
  <dc:creator>Marcela Munizaga</dc:creator>
  <dc:description/>
  <dc:language>en-US</dc:language>
  <cp:lastModifiedBy>Alejandro Tirachini</cp:lastModifiedBy>
  <dcterms:modified xsi:type="dcterms:W3CDTF">2005-07-27T17:16:09Z</dcterms:modified>
  <cp:revision>23</cp:revision>
  <dc:subject/>
  <dc:title>Definiciones y conceptos básicos</dc:title>
</cp:coreProperties>
</file>