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249-81D6-447E-8DAC-C872F773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7BB-948A-4FC3-96C6-1118348C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ABBD-5AB3-43ED-905B-BA56C39D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C9A-E49C-4AA1-97ED-266DDE27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4473-C6B3-4BAE-BA01-6AB37783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733A-1673-4936-924E-1BB6B249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8FE-9579-4A38-8C66-178092DE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713-A7F1-4AA7-BE6A-C0AE6499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19D-0D11-4286-8F89-F24E3BC0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E6C-0432-4FB5-9336-06160B1F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B730-B6C7-46B9-B435-C1B15703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640-30BF-4F2A-AD6A-BDD0F95F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BCD-FD54-4DEE-8652-F8DAF7E91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48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3600" y="1447920"/>
          <a:ext cx="2514600" cy="17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514600" cy="17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60496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209680" y="914400"/>
          <a:ext cx="482616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14400"/>
                    <a:ext cx="482616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ormación de Bogotá con TransMilenio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Comic Sans MS"/>
              </a:rPr>
              <a:t>Una Imagen vale más que mil palabr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Jaka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jakarta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Cantidad de espacio necesaria para transportar el mismo número de personas en auto, bicicleta y bus. Munster, Alemania, Agosto de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autobus" descr=""/>
          <p:cNvPicPr/>
          <p:nvPr/>
        </p:nvPicPr>
        <p:blipFill>
          <a:blip r:embed="rId1"/>
          <a:stretch/>
        </p:blipFill>
        <p:spPr>
          <a:xfrm>
            <a:off x="152280" y="384120"/>
            <a:ext cx="883944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¿El futu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futuro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467480" cy="53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514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Comic Sans MS"/>
              </a:rPr>
              <a:t>Círculo Vicioso del Transporte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Comic Sans MS"/>
              </a:rPr>
              <a:t>Círculo Vicioso del Transporte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1600200"/>
            <a:ext cx="129528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160020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581280"/>
            <a:ext cx="12956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743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5812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50292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529416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495288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1720800"/>
            <a:ext cx="1006560" cy="6426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74160" y="1714680"/>
            <a:ext cx="12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 pa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que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7280" y="2857680"/>
            <a:ext cx="12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tos m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tr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7520" y="371952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frecu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25720" y="3643200"/>
            <a:ext cx="114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Reduc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an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71560" y="3643200"/>
            <a:ext cx="112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demoras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9000" y="507348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Aum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t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25400" y="5332320"/>
            <a:ext cx="152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recen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oper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468560" y="514368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Menos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or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78168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0292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124080" y="35809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4495680"/>
            <a:ext cx="0" cy="53352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934320" y="5486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124080" y="2514240"/>
            <a:ext cx="2286000" cy="60948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571640" y="5486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666880" y="3657600"/>
            <a:ext cx="6098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520" y="3962520"/>
            <a:ext cx="381240" cy="1676160"/>
          </a:xfrm>
          <a:prstGeom prst="line">
            <a:avLst/>
          </a:prstGeom>
          <a:ln cap="rnd" w="38160">
            <a:solidFill>
              <a:srgbClr val="cc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458640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27480" y="26668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Restricción a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96880" y="451008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ff"/>
                </a:solidFill>
                <a:latin typeface="Times New Roman"/>
              </a:rPr>
              <a:t>Prioridad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05720" y="251460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Alejandro Tirachini</cp:lastModifiedBy>
  <dcterms:modified xsi:type="dcterms:W3CDTF">2005-07-27T17:13:19Z</dcterms:modified>
  <cp:revision>20</cp:revision>
  <dc:subject/>
  <dc:title>Definiciones y conceptos básicos</dc:title>
</cp:coreProperties>
</file>