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7F7-274D-4BA3-AA1D-75D0DCA3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761-9055-4FFD-8710-C7587A2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68C-5D71-4D5C-89A1-B42E114A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CC5-1BA6-4737-8A0B-E43F3FA5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DB1-C21B-41D2-9EB4-6149794C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FE4-9F35-4F1B-BDA0-31730B14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298-FB44-425F-A6E0-1232D139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39D-B596-49C2-8DC9-A1341B85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006-AD5C-40F3-895E-BACF775E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D57-3381-40F7-9AA2-4526A3DE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4BC-FADA-410A-A0A9-FB75E0F8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E9D-57CF-43B3-884C-DAE5EF3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05F7-9D73-4EAC-9EB0-0CEEDBFA1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odotran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468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48360" y="495252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 Ingenierí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diferencia de los objetos de la física del movimiento, el objeto transportado tiene volunta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o es intercamb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xisten l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suarios</a:t>
            </a: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l sistema de transporte (personas o carga) y l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dore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que son los responsables del comportamiento de los elementos móv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onente social: Impacto en la calidad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us1" descr=""/>
          <p:cNvPicPr/>
          <p:nvPr/>
        </p:nvPicPr>
        <p:blipFill>
          <a:blip r:embed="rId1"/>
          <a:stretch/>
        </p:blipFill>
        <p:spPr>
          <a:xfrm>
            <a:off x="3733920" y="4952880"/>
            <a:ext cx="2286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us2" descr=""/>
          <p:cNvPicPr/>
          <p:nvPr/>
        </p:nvPicPr>
        <p:blipFill>
          <a:blip r:embed="rId1"/>
          <a:stretch/>
        </p:blipFill>
        <p:spPr>
          <a:xfrm>
            <a:off x="5334120" y="1192320"/>
            <a:ext cx="251460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Alejandro Tirachini</cp:lastModifiedBy>
  <dcterms:modified xsi:type="dcterms:W3CDTF">2005-07-27T17:16:09Z</dcterms:modified>
  <cp:revision>23</cp:revision>
  <dc:subject/>
  <dc:title>Definiciones y conceptos básicos</dc:title>
</cp:coreProperties>
</file>