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5488-8DC0-4B4C-8155-58ECA316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C728-D918-4CCE-9181-EEA4C71D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622-BCAB-4A83-8A8F-92C932AD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F81B-0C7E-4DF9-B7C3-BEF47D64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A7AB-50BA-4D3B-A4EA-DF249E27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8262-F566-41C3-BE25-0A576363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3324-2D4E-4B64-912D-CC802FDA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5366-D50F-4003-AA9A-92F9CDF5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97A6-8664-43B1-8E97-2FC7A774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775-C5B1-4DFA-B385-8963223C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A1D-2C67-4A04-BDEB-C4B81983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72EB-0A81-4011-A43F-19A30189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6EDE-FC9F-4AFC-AA5D-033868FCB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124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6483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46483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484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3600" y="1447920"/>
          <a:ext cx="2514600" cy="17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447920"/>
                    <a:ext cx="2514600" cy="17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60496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209680" y="914400"/>
          <a:ext cx="4826160" cy="52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14400"/>
                    <a:ext cx="4826160" cy="52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5943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ormación de Bogotá con TransMilenio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Comic Sans MS"/>
              </a:rPr>
              <a:t>Una Imagen vale más que mil palabra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447920" y="58672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Jaka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jakarta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Cantidad de espacio necesaria para transportar el mismo número de personas en auto, bicicleta y bus. Munster, Alemania, Agosto d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autobus" descr=""/>
          <p:cNvPicPr/>
          <p:nvPr/>
        </p:nvPicPr>
        <p:blipFill>
          <a:blip r:embed="rId1"/>
          <a:stretch/>
        </p:blipFill>
        <p:spPr>
          <a:xfrm>
            <a:off x="152280" y="384120"/>
            <a:ext cx="883944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¿El futu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futuro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467480" cy="53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733920" y="35812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1600200"/>
            <a:ext cx="129528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1600200"/>
            <a:ext cx="1295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3581280"/>
            <a:ext cx="1295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74320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35812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502920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529416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9528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1720800"/>
            <a:ext cx="100656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 Ingr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74160" y="1714680"/>
            <a:ext cx="12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 pa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que a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7280" y="2857680"/>
            <a:ext cx="12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utos m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tr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7520" y="3719520"/>
            <a:ext cx="116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frecu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25720" y="3643200"/>
            <a:ext cx="114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du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eman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71560" y="3643200"/>
            <a:ext cx="112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emoras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39000" y="50734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um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trif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25400" y="5332320"/>
            <a:ext cx="152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n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oper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8560" y="5143680"/>
            <a:ext cx="12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enos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or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2514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6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02920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124080" y="35809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246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934320" y="5486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124080" y="2514240"/>
            <a:ext cx="2286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4571640" y="54860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666880" y="3657600"/>
            <a:ext cx="6098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251460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Comic Sans MS"/>
              </a:rPr>
              <a:t>Círculo Vicioso del Transporte Pú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Comic Sans MS"/>
              </a:rPr>
              <a:t>Círculo Vicioso del Transporte Pú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35812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1600200"/>
            <a:ext cx="129528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1600200"/>
            <a:ext cx="1295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38880" y="3581280"/>
            <a:ext cx="1295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274320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35812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502920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529416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49528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1720800"/>
            <a:ext cx="100656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 Ingr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74160" y="1714680"/>
            <a:ext cx="12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 pa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que a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7280" y="2857680"/>
            <a:ext cx="12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utos m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tr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7520" y="3719520"/>
            <a:ext cx="116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frecu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25720" y="3643200"/>
            <a:ext cx="114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du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eman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71560" y="3643200"/>
            <a:ext cx="112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emoras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9000" y="50734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um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trif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25400" y="5332320"/>
            <a:ext cx="152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n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oper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68560" y="5143680"/>
            <a:ext cx="12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enos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or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2514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7816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02920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24080" y="35809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924680" y="4495680"/>
            <a:ext cx="0" cy="533520"/>
          </a:xfrm>
          <a:prstGeom prst="line">
            <a:avLst/>
          </a:prstGeom>
          <a:ln w="38160">
            <a:solidFill>
              <a:srgbClr val="cc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934320" y="5486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124080" y="2514240"/>
            <a:ext cx="2286000" cy="609480"/>
          </a:xfrm>
          <a:prstGeom prst="line">
            <a:avLst/>
          </a:prstGeom>
          <a:ln w="38160">
            <a:solidFill>
              <a:srgbClr val="cc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4571640" y="54860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666880" y="3657600"/>
            <a:ext cx="6098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952520" y="3962520"/>
            <a:ext cx="381240" cy="1676160"/>
          </a:xfrm>
          <a:prstGeom prst="line">
            <a:avLst/>
          </a:prstGeom>
          <a:ln cap="rnd" w="38160">
            <a:solidFill>
              <a:srgbClr val="cc0066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45864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ff"/>
                </a:solidFill>
                <a:latin typeface="Times New Roman"/>
              </a:rPr>
              <a:t>Subsid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27480" y="26668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ff"/>
                </a:solidFill>
                <a:latin typeface="Times New Roman"/>
              </a:rPr>
              <a:t>Restricción a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96880" y="451008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ff"/>
                </a:solidFill>
                <a:latin typeface="Times New Roman"/>
              </a:rPr>
              <a:t>Prioridad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251460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Alejandro Tirachini</cp:lastModifiedBy>
  <dcterms:modified xsi:type="dcterms:W3CDTF">2005-07-27T17:13:19Z</dcterms:modified>
  <cp:revision>20</cp:revision>
  <dc:subject/>
  <dc:title>Definiciones y conceptos básicos</dc:title>
</cp:coreProperties>
</file>