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BC3-EECA-486C-8D71-7F11BB19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A3C-ADAF-4A0D-B30C-D90E4A68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D96-A1ED-449C-B126-354238B5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1A5-1A85-4FE2-A608-D478A366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D1B2-E9F7-4100-9B45-BA03FFB4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700D-4704-4C12-A820-6D89CD2D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BBF6-F88E-49EC-BCFD-26E3F53E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1904-72C0-4E55-8EC9-FDD4B41B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5AC9-2AF5-4782-B12A-DB882037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DD05-881C-49EA-8696-2859DD2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6DDC-ECE8-4465-BAC1-3CA740F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A49-546E-4EA8-B305-3775BB49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8070-AFC6-459E-8464-6352CA7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7AAC-035B-45E8-919B-C971785C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394D-5609-4001-8675-92625892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631D-92C9-4A63-8418-920E23A1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F883-11E9-4254-A713-6E88ACC3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191-8B4C-4905-9C5D-2C03D3F1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CBF-1C60-4DEF-9A2E-10D11CBC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232-3457-4D41-A1F9-E8E9073E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9C0-2635-4487-A6EC-23D0C699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261-AFEC-43AB-8F5F-9CBED74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D6F-4E9F-4EDE-A7EB-38983A96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1EA-EFBA-4E6A-890E-092A437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EB28-3F70-4CD2-A4C2-AA9B3B150FFD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2F55-93FA-43BF-8F5F-91FBCB3C2ACA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v</cp:lastModifiedBy>
  <dcterms:modified xsi:type="dcterms:W3CDTF">2005-06-13T15:54:15Z</dcterms:modified>
  <cp:revision>25</cp:revision>
  <dc:subject/>
  <dc:title>TEMARIO DEL TRABAJO DE TÍTULO </dc:title>
</cp:coreProperties>
</file>