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E3E-0357-46A8-B9B9-B837CDA2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DFD-6C2D-4F22-9A80-05657652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B60-A4A4-4831-9439-D66E97C7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756-DB64-4BC2-8CB0-00A69E2C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C9CA-54E7-486A-9349-B4208BB3A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547B-5238-4A23-BF45-7EA79761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2287-A189-4222-A8A1-51959E08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0AE1-D84B-41E7-A804-1B52080A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0E91-08C9-4DF3-8ECB-3ADDE9D7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44C1-58AC-44B9-843F-D8E0CAB1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7F48-00E5-488E-8B76-2B59B6C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1B1-1F46-4DCD-AC92-D8F05ADF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C427-A37C-4FB0-81DC-E0597265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1BE1B-4725-446D-A091-9585D373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31EA-7F95-400B-8C5A-A9ED188F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8832-3430-47A2-820B-54C4FCC8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7AAE-F67E-4D68-BBC5-57162472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B9E1-9788-420E-952E-18D73623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060-BD9F-4AE6-8004-1019D8F4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A289-5249-44D7-A056-C6D9CC90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B09-7146-4057-80AC-EDF69E6C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0E9E-2CF0-4438-9495-C430E967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51AD-4B05-48DB-BCDE-678254AF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540-423C-41BC-BC81-08C72800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2A6D-A3BF-4C93-9022-1194A257075E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629E-BCC8-4983-ABF6-3AB729BE5276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v</cp:lastModifiedBy>
  <dcterms:modified xsi:type="dcterms:W3CDTF">2005-06-13T15:54:15Z</dcterms:modified>
  <cp:revision>25</cp:revision>
  <dc:subject/>
  <dc:title>TEMARIO DEL TRABAJO DE TÍTULO </dc:title>
</cp:coreProperties>
</file>