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ARPEGIO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7A58-B15F-45D4-AC80-FCA02A24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2F6E-1531-44BC-BFFA-35B7E4FE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C361-FF35-417F-B127-F5E238DC0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AB8C-FA70-4664-89F7-3E215C88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03A4-AA32-4BDB-8665-CA86E154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B71F-A0C2-48E5-A217-EEADEB31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B02C-DABF-4CF9-B7C4-FA1D442E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1C76-D075-4F38-ABB1-2AD01868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18A2-46D9-4188-BF67-C8AC25FD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0E23-77A5-4E7E-9714-9E85CB13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C76A-20C8-459B-BB30-7170CF96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4C14-37CC-4E9B-B54A-240C149C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883C-D649-457A-94C7-0419CAEA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0D2D-E6A1-4D31-83FC-5405CC73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3E9D-55E9-4F82-B6B2-60793377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529A-4161-4CA7-A7FB-A1249C25A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8F49-C0E7-41C5-8B96-181B39A7B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064C-5654-49AE-AA54-70D9B66A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56BA-BEFC-43A0-A3A5-F69E374C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ABF9-FDDF-44B1-9BB2-0D47A46C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EB41-4F52-44C5-ADE4-BD0C6DD8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35B7-9A85-4556-913B-0577C319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158F-7945-4F52-9CBD-AF10C833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B155-65A8-41F9-94F1-018B845E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C70A-083F-4232-9FDA-355078C9F5B2}" type="slidenum"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4F67-E3C9-4FB4-9430-B5868965BEB8}" type="slidenum"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audio" Target="../media/ARPEGIO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8763120" cy="4572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Verdana"/>
              </a:rPr>
              <a:t>CAPÍTULO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8380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Verdana"/>
              </a:rPr>
              <a:t>ESTUDIO DE CRECIDA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Verdana"/>
              </a:rPr>
              <a:t>PROPAGACIÓN DE CRECID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800000" y="1485000"/>
            <a:ext cx="588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i cauce largo y las v son importan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458200" y="1676520"/>
            <a:ext cx="457200" cy="1447560"/>
          </a:xfrm>
          <a:custGeom>
            <a:avLst/>
            <a:gdLst>
              <a:gd name="textAreaLeft" fmla="*/ 61200 w 457200"/>
              <a:gd name="textAreaRight" fmla="*/ 396000 w 457200"/>
              <a:gd name="textAreaTop" fmla="*/ 253080 h 1447560"/>
              <a:gd name="textAreaBottom" fmla="*/ 10494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4480" y="2388600"/>
            <a:ext cx="6069600" cy="1015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xiste inclinación de la superficie lib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y de la línea de energí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819520"/>
            <a:ext cx="685800" cy="1523880"/>
          </a:xfrm>
          <a:custGeom>
            <a:avLst/>
            <a:gdLst>
              <a:gd name="textAreaLeft" fmla="*/ 91800 w 685800"/>
              <a:gd name="textAreaRight" fmla="*/ 594000 w 68580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71000" y="3804480"/>
            <a:ext cx="5709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S depende del caudal del tramo (I,Q) 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la relación no es lineal ni ú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94880" y="5095800"/>
            <a:ext cx="6292080" cy="1572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l almacenamiento S es el que incide e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la transformación del hidrogra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(traslación y deformació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5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295280" y="3352680"/>
            <a:ext cx="3200400" cy="914400"/>
          </a:xfrm>
          <a:prstGeom prst="line">
            <a:avLst/>
          </a:prstGeom>
          <a:ln cap="sq"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3276720"/>
            <a:ext cx="3352680" cy="99036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71600" y="2286000"/>
            <a:ext cx="3581280" cy="990720"/>
          </a:xfrm>
          <a:prstGeom prst="line">
            <a:avLst/>
          </a:prstGeom>
          <a:ln cap="sq"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1905120"/>
            <a:ext cx="0" cy="26668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2133720"/>
            <a:ext cx="0" cy="2819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666880"/>
            <a:ext cx="83808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581280"/>
            <a:ext cx="9144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87040" y="2132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10640" y="319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867280" y="1371600"/>
                <a:ext cx="226080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±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8001000" y="1447920"/>
            <a:ext cx="457200" cy="3124080"/>
          </a:xfrm>
          <a:custGeom>
            <a:avLst/>
            <a:gdLst>
              <a:gd name="textAreaLeft" fmla="*/ 61200 w 457200"/>
              <a:gd name="textAreaRight" fmla="*/ 396000 w 457200"/>
              <a:gd name="textAreaTop" fmla="*/ 546480 h 3124080"/>
              <a:gd name="textAreaBottom" fmla="*/ 22651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47480" y="3341160"/>
            <a:ext cx="234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lmacenamient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n el tram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33520" y="5257800"/>
                <a:ext cx="64008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S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4724280" y="5029200"/>
            <a:ext cx="3429000" cy="609480"/>
          </a:xfrm>
          <a:custGeom>
            <a:avLst/>
            <a:gdLst>
              <a:gd name="textAreaLeft" fmla="*/ 600120 w 3429000"/>
              <a:gd name="textAreaRight" fmla="*/ 2486160 w 34290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62560" y="5557320"/>
            <a:ext cx="1570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iempo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rastre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133360" y="921600"/>
            <a:ext cx="47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S por Método Topográfic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7400" y="1588320"/>
            <a:ext cx="690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l tramo en estudio se divide en subtramo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e requiere perfiles transvers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82560" y="3798720"/>
            <a:ext cx="3262320" cy="1876680"/>
            <a:chOff x="682560" y="3798720"/>
            <a:chExt cx="3262320" cy="1876680"/>
          </a:xfrm>
        </p:grpSpPr>
        <p:grpSp>
          <p:nvGrpSpPr>
            <p:cNvPr id="199" name=""/>
            <p:cNvGrpSpPr/>
            <p:nvPr/>
          </p:nvGrpSpPr>
          <p:grpSpPr>
            <a:xfrm>
              <a:off x="682560" y="3798720"/>
              <a:ext cx="3262320" cy="1876680"/>
              <a:chOff x="682560" y="3798720"/>
              <a:chExt cx="3262320" cy="1876680"/>
            </a:xfrm>
          </p:grpSpPr>
          <p:sp>
            <p:nvSpPr>
              <p:cNvPr id="200" name=""/>
              <p:cNvSpPr/>
              <p:nvPr/>
            </p:nvSpPr>
            <p:spPr>
              <a:xfrm>
                <a:off x="682560" y="3798720"/>
                <a:ext cx="1582920" cy="951120"/>
              </a:xfrm>
              <a:custGeom>
                <a:avLst/>
                <a:gdLst/>
                <a:ahLst/>
                <a:rect l="l" t="t" r="r" b="b"/>
                <a:pathLst>
                  <a:path w="997" h="599">
                    <a:moveTo>
                      <a:pt x="0" y="104"/>
                    </a:moveTo>
                    <a:cubicBezTo>
                      <a:pt x="37" y="116"/>
                      <a:pt x="75" y="126"/>
                      <a:pt x="113" y="137"/>
                    </a:cubicBezTo>
                    <a:cubicBezTo>
                      <a:pt x="133" y="156"/>
                      <a:pt x="138" y="177"/>
                      <a:pt x="154" y="201"/>
                    </a:cubicBezTo>
                    <a:cubicBezTo>
                      <a:pt x="160" y="281"/>
                      <a:pt x="146" y="307"/>
                      <a:pt x="194" y="355"/>
                    </a:cubicBezTo>
                    <a:cubicBezTo>
                      <a:pt x="203" y="383"/>
                      <a:pt x="252" y="450"/>
                      <a:pt x="275" y="469"/>
                    </a:cubicBezTo>
                    <a:cubicBezTo>
                      <a:pt x="282" y="475"/>
                      <a:pt x="292" y="474"/>
                      <a:pt x="300" y="477"/>
                    </a:cubicBezTo>
                    <a:cubicBezTo>
                      <a:pt x="355" y="515"/>
                      <a:pt x="330" y="504"/>
                      <a:pt x="373" y="518"/>
                    </a:cubicBezTo>
                    <a:cubicBezTo>
                      <a:pt x="403" y="548"/>
                      <a:pt x="410" y="560"/>
                      <a:pt x="462" y="574"/>
                    </a:cubicBezTo>
                    <a:cubicBezTo>
                      <a:pt x="484" y="580"/>
                      <a:pt x="505" y="585"/>
                      <a:pt x="527" y="591"/>
                    </a:cubicBezTo>
                    <a:cubicBezTo>
                      <a:pt x="538" y="594"/>
                      <a:pt x="559" y="599"/>
                      <a:pt x="559" y="599"/>
                    </a:cubicBezTo>
                    <a:cubicBezTo>
                      <a:pt x="601" y="588"/>
                      <a:pt x="643" y="580"/>
                      <a:pt x="681" y="558"/>
                    </a:cubicBezTo>
                    <a:cubicBezTo>
                      <a:pt x="698" y="548"/>
                      <a:pt x="714" y="537"/>
                      <a:pt x="730" y="526"/>
                    </a:cubicBezTo>
                    <a:cubicBezTo>
                      <a:pt x="738" y="521"/>
                      <a:pt x="754" y="510"/>
                      <a:pt x="754" y="510"/>
                    </a:cubicBezTo>
                    <a:cubicBezTo>
                      <a:pt x="806" y="428"/>
                      <a:pt x="805" y="325"/>
                      <a:pt x="835" y="234"/>
                    </a:cubicBezTo>
                    <a:cubicBezTo>
                      <a:pt x="841" y="94"/>
                      <a:pt x="795" y="62"/>
                      <a:pt x="892" y="31"/>
                    </a:cubicBezTo>
                    <a:cubicBezTo>
                      <a:pt x="938" y="0"/>
                      <a:pt x="906" y="15"/>
                      <a:pt x="997" y="15"/>
                    </a:cubicBezTo>
                  </a:path>
                </a:pathLst>
              </a:custGeom>
              <a:noFill/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362320" y="4724280"/>
                <a:ext cx="1582560" cy="951120"/>
              </a:xfrm>
              <a:custGeom>
                <a:avLst/>
                <a:gdLst/>
                <a:ahLst/>
                <a:rect l="l" t="t" r="r" b="b"/>
                <a:pathLst>
                  <a:path w="997" h="599">
                    <a:moveTo>
                      <a:pt x="0" y="104"/>
                    </a:moveTo>
                    <a:cubicBezTo>
                      <a:pt x="37" y="116"/>
                      <a:pt x="75" y="126"/>
                      <a:pt x="113" y="137"/>
                    </a:cubicBezTo>
                    <a:cubicBezTo>
                      <a:pt x="133" y="156"/>
                      <a:pt x="138" y="177"/>
                      <a:pt x="154" y="201"/>
                    </a:cubicBezTo>
                    <a:cubicBezTo>
                      <a:pt x="160" y="281"/>
                      <a:pt x="146" y="307"/>
                      <a:pt x="194" y="355"/>
                    </a:cubicBezTo>
                    <a:cubicBezTo>
                      <a:pt x="203" y="383"/>
                      <a:pt x="252" y="450"/>
                      <a:pt x="275" y="469"/>
                    </a:cubicBezTo>
                    <a:cubicBezTo>
                      <a:pt x="282" y="475"/>
                      <a:pt x="292" y="474"/>
                      <a:pt x="300" y="477"/>
                    </a:cubicBezTo>
                    <a:cubicBezTo>
                      <a:pt x="355" y="515"/>
                      <a:pt x="330" y="504"/>
                      <a:pt x="373" y="518"/>
                    </a:cubicBezTo>
                    <a:cubicBezTo>
                      <a:pt x="403" y="548"/>
                      <a:pt x="410" y="560"/>
                      <a:pt x="462" y="574"/>
                    </a:cubicBezTo>
                    <a:cubicBezTo>
                      <a:pt x="484" y="580"/>
                      <a:pt x="505" y="585"/>
                      <a:pt x="527" y="591"/>
                    </a:cubicBezTo>
                    <a:cubicBezTo>
                      <a:pt x="538" y="594"/>
                      <a:pt x="559" y="599"/>
                      <a:pt x="559" y="599"/>
                    </a:cubicBezTo>
                    <a:cubicBezTo>
                      <a:pt x="601" y="588"/>
                      <a:pt x="643" y="580"/>
                      <a:pt x="681" y="558"/>
                    </a:cubicBezTo>
                    <a:cubicBezTo>
                      <a:pt x="698" y="548"/>
                      <a:pt x="714" y="537"/>
                      <a:pt x="730" y="526"/>
                    </a:cubicBezTo>
                    <a:cubicBezTo>
                      <a:pt x="738" y="521"/>
                      <a:pt x="754" y="510"/>
                      <a:pt x="754" y="510"/>
                    </a:cubicBezTo>
                    <a:cubicBezTo>
                      <a:pt x="806" y="428"/>
                      <a:pt x="805" y="325"/>
                      <a:pt x="835" y="234"/>
                    </a:cubicBezTo>
                    <a:cubicBezTo>
                      <a:pt x="841" y="94"/>
                      <a:pt x="795" y="62"/>
                      <a:pt x="892" y="31"/>
                    </a:cubicBezTo>
                    <a:cubicBezTo>
                      <a:pt x="938" y="0"/>
                      <a:pt x="906" y="15"/>
                      <a:pt x="997" y="15"/>
                    </a:cubicBezTo>
                  </a:path>
                </a:pathLst>
              </a:custGeom>
              <a:noFill/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38080" y="4038480"/>
                <a:ext cx="1752840" cy="9144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981080" y="3962520"/>
                <a:ext cx="1752840" cy="9144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19320" y="4648320"/>
                <a:ext cx="1752480" cy="9144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914400" y="4114800"/>
              <a:ext cx="2743200" cy="1143000"/>
            </a:xfrm>
            <a:custGeom>
              <a:avLst/>
              <a:gdLst/>
              <a:ahLst/>
              <a:rect l="l" t="t" r="r" b="b"/>
              <a:pathLst>
                <a:path w="1728" h="720">
                  <a:moveTo>
                    <a:pt x="672" y="0"/>
                  </a:moveTo>
                  <a:lnTo>
                    <a:pt x="0" y="96"/>
                  </a:lnTo>
                  <a:lnTo>
                    <a:pt x="1104" y="720"/>
                  </a:lnTo>
                  <a:lnTo>
                    <a:pt x="1728" y="624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ccecff">
                <a:alpha val="50000"/>
              </a:srgbClr>
            </a:solidFill>
            <a:ln cap="sq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863440" y="3123000"/>
            <a:ext cx="54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ara distintas alturas se determina </a:t>
            </a: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5760" y="3961440"/>
            <a:ext cx="53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L corto nivel se estima horizon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54400" y="5785920"/>
            <a:ext cx="555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L largo se adopta inclinación igu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a pendiente de fondo o se estima E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952280" y="635760"/>
            <a:ext cx="527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Copperplate Gothic Bold"/>
              </a:rPr>
              <a:t>S por análisis d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Copperplate Gothic Bold"/>
              </a:rPr>
              <a:t>Hidrogramas de Crecid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06640" y="2329560"/>
            <a:ext cx="18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Hipóte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20640" y="2558160"/>
            <a:ext cx="495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No hay aporte intermed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610480" y="2819520"/>
            <a:ext cx="533520" cy="1218960"/>
          </a:xfrm>
          <a:custGeom>
            <a:avLst/>
            <a:gdLst>
              <a:gd name="textAreaLeft" fmla="*/ 71280 w 533520"/>
              <a:gd name="textAreaRight" fmla="*/ 462240 w 53352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97520" y="3733200"/>
            <a:ext cx="4156920" cy="52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Copperplate Gothic Bold"/>
              </a:rPr>
              <a:t>Volumen Q=Volumen 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00000" y="4799880"/>
            <a:ext cx="44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Se elige </a:t>
            </a:r>
            <a:r>
              <a:rPr b="1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t y se obtiene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095880" y="4624560"/>
                <a:ext cx="152424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≡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906840" y="6207480"/>
            <a:ext cx="75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e usan varias crecidas y se obtiene función S(Q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447920" y="787320"/>
            <a:ext cx="6794280" cy="2095560"/>
          </a:xfrm>
          <a:custGeom>
            <a:avLst/>
            <a:gdLst/>
            <a:ahLst/>
            <a:rect l="l" t="t" r="r" b="b"/>
            <a:pathLst>
              <a:path w="4280" h="1320">
                <a:moveTo>
                  <a:pt x="0" y="1320"/>
                </a:moveTo>
                <a:cubicBezTo>
                  <a:pt x="160" y="1320"/>
                  <a:pt x="320" y="1320"/>
                  <a:pt x="480" y="1272"/>
                </a:cubicBezTo>
                <a:cubicBezTo>
                  <a:pt x="640" y="1224"/>
                  <a:pt x="792" y="1176"/>
                  <a:pt x="960" y="1032"/>
                </a:cubicBezTo>
                <a:cubicBezTo>
                  <a:pt x="1128" y="888"/>
                  <a:pt x="1336" y="576"/>
                  <a:pt x="1488" y="408"/>
                </a:cubicBezTo>
                <a:cubicBezTo>
                  <a:pt x="1640" y="240"/>
                  <a:pt x="1752" y="48"/>
                  <a:pt x="1872" y="24"/>
                </a:cubicBezTo>
                <a:cubicBezTo>
                  <a:pt x="1992" y="0"/>
                  <a:pt x="2080" y="144"/>
                  <a:pt x="2208" y="264"/>
                </a:cubicBezTo>
                <a:cubicBezTo>
                  <a:pt x="2336" y="384"/>
                  <a:pt x="2464" y="616"/>
                  <a:pt x="2640" y="744"/>
                </a:cubicBezTo>
                <a:cubicBezTo>
                  <a:pt x="2816" y="872"/>
                  <a:pt x="3016" y="960"/>
                  <a:pt x="3264" y="1032"/>
                </a:cubicBezTo>
                <a:cubicBezTo>
                  <a:pt x="3512" y="1104"/>
                  <a:pt x="3976" y="1152"/>
                  <a:pt x="4128" y="1176"/>
                </a:cubicBezTo>
                <a:cubicBezTo>
                  <a:pt x="4280" y="1200"/>
                  <a:pt x="4228" y="1188"/>
                  <a:pt x="4176" y="1176"/>
                </a:cubicBezTo>
              </a:path>
            </a:pathLst>
          </a:custGeom>
          <a:noFill/>
          <a:ln cap="sq"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1459080"/>
            <a:ext cx="6984720" cy="1423800"/>
          </a:xfrm>
          <a:custGeom>
            <a:avLst/>
            <a:gdLst/>
            <a:ahLst/>
            <a:rect l="l" t="t" r="r" b="b"/>
            <a:pathLst>
              <a:path w="4400" h="897">
                <a:moveTo>
                  <a:pt x="0" y="897"/>
                </a:moveTo>
                <a:cubicBezTo>
                  <a:pt x="106" y="887"/>
                  <a:pt x="427" y="880"/>
                  <a:pt x="637" y="839"/>
                </a:cubicBezTo>
                <a:cubicBezTo>
                  <a:pt x="847" y="798"/>
                  <a:pt x="1097" y="728"/>
                  <a:pt x="1262" y="652"/>
                </a:cubicBezTo>
                <a:cubicBezTo>
                  <a:pt x="1427" y="576"/>
                  <a:pt x="1472" y="489"/>
                  <a:pt x="1627" y="385"/>
                </a:cubicBezTo>
                <a:cubicBezTo>
                  <a:pt x="1782" y="281"/>
                  <a:pt x="1975" y="56"/>
                  <a:pt x="2194" y="28"/>
                </a:cubicBezTo>
                <a:cubicBezTo>
                  <a:pt x="2413" y="0"/>
                  <a:pt x="2745" y="159"/>
                  <a:pt x="2940" y="214"/>
                </a:cubicBezTo>
                <a:cubicBezTo>
                  <a:pt x="3135" y="269"/>
                  <a:pt x="3221" y="310"/>
                  <a:pt x="3362" y="360"/>
                </a:cubicBezTo>
                <a:cubicBezTo>
                  <a:pt x="3503" y="410"/>
                  <a:pt x="3611" y="463"/>
                  <a:pt x="3784" y="514"/>
                </a:cubicBezTo>
                <a:cubicBezTo>
                  <a:pt x="3957" y="565"/>
                  <a:pt x="4272" y="636"/>
                  <a:pt x="4400" y="668"/>
                </a:cubicBezTo>
              </a:path>
            </a:pathLst>
          </a:custGeom>
          <a:noFill/>
          <a:ln cap="sq" w="381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2480" y="762120"/>
            <a:ext cx="3429000" cy="2120760"/>
          </a:xfrm>
          <a:custGeom>
            <a:avLst/>
            <a:gdLst/>
            <a:ahLst/>
            <a:rect l="l" t="t" r="r" b="b"/>
            <a:pathLst>
              <a:path w="2160" h="1336">
                <a:moveTo>
                  <a:pt x="0" y="1336"/>
                </a:moveTo>
                <a:cubicBezTo>
                  <a:pt x="101" y="1328"/>
                  <a:pt x="405" y="1325"/>
                  <a:pt x="606" y="1286"/>
                </a:cubicBezTo>
                <a:cubicBezTo>
                  <a:pt x="807" y="1247"/>
                  <a:pt x="1043" y="1179"/>
                  <a:pt x="1206" y="1099"/>
                </a:cubicBezTo>
                <a:cubicBezTo>
                  <a:pt x="1369" y="1019"/>
                  <a:pt x="1457" y="904"/>
                  <a:pt x="1584" y="808"/>
                </a:cubicBezTo>
                <a:cubicBezTo>
                  <a:pt x="1711" y="712"/>
                  <a:pt x="1872" y="584"/>
                  <a:pt x="1968" y="520"/>
                </a:cubicBezTo>
                <a:cubicBezTo>
                  <a:pt x="2064" y="456"/>
                  <a:pt x="2160" y="472"/>
                  <a:pt x="2160" y="424"/>
                </a:cubicBezTo>
                <a:cubicBezTo>
                  <a:pt x="2160" y="376"/>
                  <a:pt x="2032" y="296"/>
                  <a:pt x="1968" y="232"/>
                </a:cubicBezTo>
                <a:cubicBezTo>
                  <a:pt x="1904" y="168"/>
                  <a:pt x="1832" y="72"/>
                  <a:pt x="1776" y="40"/>
                </a:cubicBezTo>
                <a:cubicBezTo>
                  <a:pt x="1720" y="8"/>
                  <a:pt x="1696" y="0"/>
                  <a:pt x="1632" y="40"/>
                </a:cubicBezTo>
                <a:cubicBezTo>
                  <a:pt x="1568" y="80"/>
                  <a:pt x="1480" y="184"/>
                  <a:pt x="1392" y="280"/>
                </a:cubicBezTo>
                <a:cubicBezTo>
                  <a:pt x="1304" y="376"/>
                  <a:pt x="1203" y="489"/>
                  <a:pt x="1104" y="616"/>
                </a:cubicBezTo>
                <a:cubicBezTo>
                  <a:pt x="1005" y="743"/>
                  <a:pt x="918" y="937"/>
                  <a:pt x="800" y="1043"/>
                </a:cubicBezTo>
                <a:cubicBezTo>
                  <a:pt x="682" y="1149"/>
                  <a:pt x="520" y="1204"/>
                  <a:pt x="395" y="1253"/>
                </a:cubicBezTo>
                <a:cubicBezTo>
                  <a:pt x="270" y="1302"/>
                  <a:pt x="120" y="1319"/>
                  <a:pt x="48" y="1336"/>
                </a:cubicBezTo>
              </a:path>
            </a:pathLst>
          </a:custGeom>
          <a:solidFill>
            <a:srgbClr val="ccec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2643120" y="1746720"/>
            <a:ext cx="1324080" cy="2527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2720" y="1330920"/>
            <a:ext cx="27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70400" y="7693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1219320"/>
            <a:ext cx="15264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145000" y="19044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99ff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8000640" y="2209680"/>
            <a:ext cx="152280" cy="76320"/>
          </a:xfrm>
          <a:prstGeom prst="line">
            <a:avLst/>
          </a:prstGeom>
          <a:ln cap="sq" w="1260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68880" y="1504800"/>
            <a:ext cx="3517920" cy="1162080"/>
          </a:xfrm>
          <a:custGeom>
            <a:avLst/>
            <a:gdLst/>
            <a:ahLst/>
            <a:rect l="l" t="t" r="r" b="b"/>
            <a:pathLst>
              <a:path w="2216" h="732">
                <a:moveTo>
                  <a:pt x="1880" y="732"/>
                </a:moveTo>
                <a:cubicBezTo>
                  <a:pt x="1796" y="716"/>
                  <a:pt x="1712" y="700"/>
                  <a:pt x="1592" y="684"/>
                </a:cubicBezTo>
                <a:cubicBezTo>
                  <a:pt x="1472" y="668"/>
                  <a:pt x="1320" y="668"/>
                  <a:pt x="1160" y="636"/>
                </a:cubicBezTo>
                <a:cubicBezTo>
                  <a:pt x="1000" y="604"/>
                  <a:pt x="784" y="556"/>
                  <a:pt x="632" y="492"/>
                </a:cubicBezTo>
                <a:cubicBezTo>
                  <a:pt x="480" y="428"/>
                  <a:pt x="344" y="324"/>
                  <a:pt x="248" y="252"/>
                </a:cubicBezTo>
                <a:cubicBezTo>
                  <a:pt x="152" y="180"/>
                  <a:pt x="96" y="100"/>
                  <a:pt x="56" y="60"/>
                </a:cubicBezTo>
                <a:cubicBezTo>
                  <a:pt x="16" y="20"/>
                  <a:pt x="0" y="20"/>
                  <a:pt x="8" y="12"/>
                </a:cubicBezTo>
                <a:cubicBezTo>
                  <a:pt x="16" y="4"/>
                  <a:pt x="72" y="12"/>
                  <a:pt x="104" y="12"/>
                </a:cubicBezTo>
                <a:cubicBezTo>
                  <a:pt x="136" y="12"/>
                  <a:pt x="144" y="0"/>
                  <a:pt x="200" y="12"/>
                </a:cubicBezTo>
                <a:cubicBezTo>
                  <a:pt x="256" y="24"/>
                  <a:pt x="314" y="39"/>
                  <a:pt x="442" y="82"/>
                </a:cubicBezTo>
                <a:cubicBezTo>
                  <a:pt x="570" y="125"/>
                  <a:pt x="764" y="195"/>
                  <a:pt x="969" y="268"/>
                </a:cubicBezTo>
                <a:cubicBezTo>
                  <a:pt x="1174" y="341"/>
                  <a:pt x="1466" y="458"/>
                  <a:pt x="1674" y="519"/>
                </a:cubicBezTo>
                <a:cubicBezTo>
                  <a:pt x="1882" y="580"/>
                  <a:pt x="2103" y="612"/>
                  <a:pt x="2216" y="636"/>
                </a:cubicBez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12240" y="114192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Vaci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858000" y="1523880"/>
            <a:ext cx="457200" cy="7621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523880" y="3124080"/>
            <a:ext cx="7086600" cy="1371600"/>
            <a:chOff x="1523880" y="3124080"/>
            <a:chExt cx="7086600" cy="1371600"/>
          </a:xfrm>
        </p:grpSpPr>
        <p:sp>
          <p:nvSpPr>
            <p:cNvPr id="230" name=""/>
            <p:cNvSpPr/>
            <p:nvPr/>
          </p:nvSpPr>
          <p:spPr>
            <a:xfrm flipV="1">
              <a:off x="1523880" y="3124080"/>
              <a:ext cx="0" cy="13716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23880" y="4495680"/>
              <a:ext cx="70866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523880" y="5105160"/>
            <a:ext cx="7162920" cy="1447920"/>
            <a:chOff x="1523880" y="5105160"/>
            <a:chExt cx="7162920" cy="1447920"/>
          </a:xfrm>
        </p:grpSpPr>
        <p:sp>
          <p:nvSpPr>
            <p:cNvPr id="233" name=""/>
            <p:cNvSpPr/>
            <p:nvPr/>
          </p:nvSpPr>
          <p:spPr>
            <a:xfrm flipV="1">
              <a:off x="1523880" y="5105160"/>
              <a:ext cx="0" cy="144756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23880" y="6553080"/>
              <a:ext cx="71629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5181480" y="1523880"/>
            <a:ext cx="0" cy="5105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3187800"/>
            <a:ext cx="7086600" cy="1866960"/>
          </a:xfrm>
          <a:custGeom>
            <a:avLst/>
            <a:gdLst/>
            <a:ahLst/>
            <a:rect l="l" t="t" r="r" b="b"/>
            <a:pathLst>
              <a:path w="4464" h="1176">
                <a:moveTo>
                  <a:pt x="0" y="824"/>
                </a:moveTo>
                <a:cubicBezTo>
                  <a:pt x="80" y="808"/>
                  <a:pt x="160" y="792"/>
                  <a:pt x="240" y="776"/>
                </a:cubicBezTo>
                <a:cubicBezTo>
                  <a:pt x="320" y="760"/>
                  <a:pt x="400" y="760"/>
                  <a:pt x="480" y="728"/>
                </a:cubicBezTo>
                <a:cubicBezTo>
                  <a:pt x="560" y="696"/>
                  <a:pt x="616" y="648"/>
                  <a:pt x="720" y="584"/>
                </a:cubicBezTo>
                <a:cubicBezTo>
                  <a:pt x="824" y="520"/>
                  <a:pt x="984" y="424"/>
                  <a:pt x="1104" y="344"/>
                </a:cubicBezTo>
                <a:cubicBezTo>
                  <a:pt x="1224" y="264"/>
                  <a:pt x="1336" y="160"/>
                  <a:pt x="1440" y="104"/>
                </a:cubicBezTo>
                <a:cubicBezTo>
                  <a:pt x="1544" y="48"/>
                  <a:pt x="1648" y="0"/>
                  <a:pt x="1728" y="8"/>
                </a:cubicBezTo>
                <a:cubicBezTo>
                  <a:pt x="1808" y="16"/>
                  <a:pt x="1856" y="48"/>
                  <a:pt x="1920" y="152"/>
                </a:cubicBezTo>
                <a:cubicBezTo>
                  <a:pt x="1984" y="256"/>
                  <a:pt x="2056" y="512"/>
                  <a:pt x="2112" y="632"/>
                </a:cubicBezTo>
                <a:cubicBezTo>
                  <a:pt x="2168" y="752"/>
                  <a:pt x="2168" y="800"/>
                  <a:pt x="2256" y="872"/>
                </a:cubicBezTo>
                <a:cubicBezTo>
                  <a:pt x="2344" y="944"/>
                  <a:pt x="2488" y="1016"/>
                  <a:pt x="2640" y="1064"/>
                </a:cubicBezTo>
                <a:cubicBezTo>
                  <a:pt x="2792" y="1112"/>
                  <a:pt x="2968" y="1144"/>
                  <a:pt x="3168" y="1160"/>
                </a:cubicBezTo>
                <a:cubicBezTo>
                  <a:pt x="3368" y="1176"/>
                  <a:pt x="3672" y="1176"/>
                  <a:pt x="3840" y="1160"/>
                </a:cubicBezTo>
                <a:cubicBezTo>
                  <a:pt x="4008" y="1144"/>
                  <a:pt x="4088" y="1096"/>
                  <a:pt x="4176" y="1064"/>
                </a:cubicBezTo>
                <a:cubicBezTo>
                  <a:pt x="4264" y="1032"/>
                  <a:pt x="4320" y="992"/>
                  <a:pt x="4368" y="968"/>
                </a:cubicBezTo>
                <a:cubicBezTo>
                  <a:pt x="4416" y="944"/>
                  <a:pt x="4440" y="932"/>
                  <a:pt x="4464" y="920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207040"/>
            <a:ext cx="7010280" cy="1346040"/>
          </a:xfrm>
          <a:custGeom>
            <a:avLst/>
            <a:gdLst/>
            <a:ahLst/>
            <a:rect l="l" t="t" r="r" b="b"/>
            <a:pathLst>
              <a:path w="4416" h="848">
                <a:moveTo>
                  <a:pt x="0" y="848"/>
                </a:moveTo>
                <a:cubicBezTo>
                  <a:pt x="52" y="828"/>
                  <a:pt x="104" y="808"/>
                  <a:pt x="288" y="752"/>
                </a:cubicBezTo>
                <a:cubicBezTo>
                  <a:pt x="472" y="696"/>
                  <a:pt x="856" y="600"/>
                  <a:pt x="1104" y="512"/>
                </a:cubicBezTo>
                <a:cubicBezTo>
                  <a:pt x="1352" y="424"/>
                  <a:pt x="1600" y="304"/>
                  <a:pt x="1776" y="224"/>
                </a:cubicBezTo>
                <a:cubicBezTo>
                  <a:pt x="1952" y="144"/>
                  <a:pt x="2080" y="64"/>
                  <a:pt x="2160" y="32"/>
                </a:cubicBezTo>
                <a:cubicBezTo>
                  <a:pt x="2240" y="0"/>
                  <a:pt x="2208" y="8"/>
                  <a:pt x="2256" y="32"/>
                </a:cubicBezTo>
                <a:cubicBezTo>
                  <a:pt x="2304" y="56"/>
                  <a:pt x="2336" y="120"/>
                  <a:pt x="2448" y="176"/>
                </a:cubicBezTo>
                <a:cubicBezTo>
                  <a:pt x="2560" y="232"/>
                  <a:pt x="2744" y="312"/>
                  <a:pt x="2928" y="368"/>
                </a:cubicBezTo>
                <a:cubicBezTo>
                  <a:pt x="3112" y="424"/>
                  <a:pt x="3360" y="464"/>
                  <a:pt x="3552" y="512"/>
                </a:cubicBezTo>
                <a:cubicBezTo>
                  <a:pt x="3744" y="560"/>
                  <a:pt x="3936" y="616"/>
                  <a:pt x="4080" y="656"/>
                </a:cubicBezTo>
                <a:cubicBezTo>
                  <a:pt x="4224" y="696"/>
                  <a:pt x="4360" y="736"/>
                  <a:pt x="4416" y="752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1280" y="316800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/</a:t>
            </a: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52480" y="3649680"/>
            <a:ext cx="1711440" cy="846000"/>
          </a:xfrm>
          <a:custGeom>
            <a:avLst/>
            <a:gdLst/>
            <a:ahLst/>
            <a:rect l="l" t="t" r="r" b="b"/>
            <a:pathLst>
              <a:path w="1078" h="533">
                <a:moveTo>
                  <a:pt x="0" y="533"/>
                </a:moveTo>
                <a:cubicBezTo>
                  <a:pt x="44" y="513"/>
                  <a:pt x="85" y="499"/>
                  <a:pt x="144" y="485"/>
                </a:cubicBezTo>
                <a:cubicBezTo>
                  <a:pt x="203" y="471"/>
                  <a:pt x="295" y="464"/>
                  <a:pt x="356" y="449"/>
                </a:cubicBezTo>
                <a:cubicBezTo>
                  <a:pt x="417" y="434"/>
                  <a:pt x="433" y="435"/>
                  <a:pt x="510" y="393"/>
                </a:cubicBezTo>
                <a:cubicBezTo>
                  <a:pt x="587" y="351"/>
                  <a:pt x="740" y="242"/>
                  <a:pt x="816" y="197"/>
                </a:cubicBezTo>
                <a:cubicBezTo>
                  <a:pt x="892" y="152"/>
                  <a:pt x="923" y="147"/>
                  <a:pt x="964" y="125"/>
                </a:cubicBezTo>
                <a:cubicBezTo>
                  <a:pt x="1005" y="103"/>
                  <a:pt x="1044" y="0"/>
                  <a:pt x="1061" y="68"/>
                </a:cubicBezTo>
                <a:cubicBezTo>
                  <a:pt x="1078" y="136"/>
                  <a:pt x="1067" y="435"/>
                  <a:pt x="1069" y="531"/>
                </a:cubicBezTo>
              </a:path>
            </a:pathLst>
          </a:custGeom>
          <a:solidFill>
            <a:srgbClr val="6699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676520" y="3200400"/>
                <a:ext cx="14475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S</m:t>
                        </m:r>
                        <m:r>
                          <m:t xml:space="preserve">≡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ΔS</m:t>
                                </m:r>
                              </m:num>
                              <m:den>
                                <m:r>
                                  <m:t xml:space="preserve">Δt</m:t>
                                </m:r>
                              </m:den>
                            </m:f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2362320" y="3809880"/>
            <a:ext cx="609480" cy="457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4571280"/>
            <a:ext cx="5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(-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29000" y="4495680"/>
            <a:ext cx="0" cy="20574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41600" y="64843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07640" y="6027120"/>
            <a:ext cx="5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6095880"/>
            <a:ext cx="228600" cy="381240"/>
          </a:xfrm>
          <a:custGeom>
            <a:avLst/>
            <a:gdLst>
              <a:gd name="textAreaLeft" fmla="*/ 0 w 228600"/>
              <a:gd name="textAreaRight" fmla="*/ 82440 w 22860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42040" y="48762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5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676520" y="3809880"/>
            <a:ext cx="1600200" cy="609840"/>
          </a:xfrm>
          <a:custGeom>
            <a:avLst/>
            <a:gdLst/>
            <a:ahLst/>
            <a:rect l="l" t="t" r="r" b="b"/>
            <a:pathLst>
              <a:path w="1008" h="384">
                <a:moveTo>
                  <a:pt x="39" y="365"/>
                </a:moveTo>
                <a:lnTo>
                  <a:pt x="1008" y="0"/>
                </a:lnTo>
                <a:lnTo>
                  <a:pt x="1008" y="240"/>
                </a:lnTo>
                <a:lnTo>
                  <a:pt x="0" y="384"/>
                </a:lnTo>
                <a:lnTo>
                  <a:pt x="48" y="384"/>
                </a:lnTo>
              </a:path>
            </a:pathLst>
          </a:custGeom>
          <a:solidFill>
            <a:srgbClr val="6699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24280" y="3505320"/>
            <a:ext cx="1600200" cy="304560"/>
          </a:xfrm>
          <a:custGeom>
            <a:avLst/>
            <a:gdLst/>
            <a:ahLst/>
            <a:rect l="l" t="t" r="r" b="b"/>
            <a:pathLst>
              <a:path w="1008" h="192">
                <a:moveTo>
                  <a:pt x="0" y="96"/>
                </a:moveTo>
                <a:lnTo>
                  <a:pt x="1008" y="0"/>
                </a:lnTo>
                <a:lnTo>
                  <a:pt x="1008" y="192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7760" y="1294200"/>
            <a:ext cx="65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Existen 2 componentes del  almacen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371600" y="5181480"/>
            <a:ext cx="5943600" cy="533520"/>
          </a:xfrm>
          <a:prstGeom prst="line">
            <a:avLst/>
          </a:prstGeom>
          <a:ln cap="sq"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219320" y="3581280"/>
            <a:ext cx="2743200" cy="9907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3581280"/>
            <a:ext cx="3352680" cy="3812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324480" y="3276360"/>
            <a:ext cx="0" cy="19810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724280" y="2819520"/>
            <a:ext cx="0" cy="25905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276720" y="2743200"/>
            <a:ext cx="0" cy="2819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1752480" y="2819160"/>
            <a:ext cx="0" cy="28954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752480" y="4190760"/>
            <a:ext cx="16002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276720" y="3580920"/>
            <a:ext cx="1447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724280" y="3504960"/>
            <a:ext cx="1600200" cy="1522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324480" y="3733560"/>
            <a:ext cx="1067040" cy="759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10360" y="6171120"/>
            <a:ext cx="41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 de pris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4190760" y="5181480"/>
            <a:ext cx="228600" cy="9144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5257800" y="5105160"/>
            <a:ext cx="228600" cy="99036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36520" y="2246760"/>
            <a:ext cx="38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 de cuñ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29840" y="348912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Copperplate Gothic Bold"/>
              </a:rPr>
              <a:t>(-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88120" y="396216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Copperplate Gothic Bold"/>
              </a:rPr>
              <a:t>(+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181480" y="2666880"/>
            <a:ext cx="381240" cy="9907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6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500"/>
                            </p:stCondLst>
                            <p:childTnLst>
                              <p:par>
                                <p:cTn id="69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500"/>
                            </p:stCondLst>
                            <p:childTnLst>
                              <p:par>
                                <p:cTn id="70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3000"/>
                            </p:stCondLst>
                            <p:childTnLst>
                              <p:par>
                                <p:cTn id="7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3500"/>
                            </p:stCondLst>
                            <p:childTnLst>
                              <p:par>
                                <p:cTn id="7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4500"/>
                            </p:stCondLst>
                            <p:childTnLst>
                              <p:par>
                                <p:cTn id="72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000"/>
                            </p:stCondLst>
                            <p:childTnLst>
                              <p:par>
                                <p:cTn id="73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500"/>
                            </p:stCondLst>
                            <p:childTnLst>
                              <p:par>
                                <p:cTn id="73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627560" y="1053000"/>
            <a:ext cx="644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 es buen índice del almacenamient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de prisma pero no del de cuñ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11320" y="3034080"/>
            <a:ext cx="7072200" cy="2128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i tasa de variación de Q es pequeñ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 de cuña puede despreciar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y S=f(Q)  (Embalse en que superficie lib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s horizont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548800" y="1447200"/>
            <a:ext cx="14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S=f(I,Q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62160" y="2175840"/>
            <a:ext cx="41158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=a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n                                 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 =a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 =b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 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                S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 =b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057400" y="3657600"/>
                <a:ext cx="18288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5334120" y="3657600"/>
                <a:ext cx="18763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3450600" y="5227560"/>
            <a:ext cx="2273040" cy="579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Copperplate Gothic Bold"/>
              </a:rPr>
              <a:t>S=xS</a:t>
            </a:r>
            <a:r>
              <a:rPr b="0" lang="es-ES_tradnl" sz="2800" spc="-1" strike="noStrike" baseline="-25000">
                <a:solidFill>
                  <a:srgbClr val="000066"/>
                </a:solidFill>
                <a:latin typeface="Copperplate Gothic Bold"/>
              </a:rPr>
              <a:t>I</a:t>
            </a:r>
            <a:r>
              <a:rPr b="0" lang="es-ES_tradnl" sz="2800" spc="-1" strike="noStrike">
                <a:solidFill>
                  <a:srgbClr val="000066"/>
                </a:solidFill>
                <a:latin typeface="Copperplate Gothic Bold"/>
              </a:rPr>
              <a:t>+(1-x)S</a:t>
            </a:r>
            <a:r>
              <a:rPr b="0" lang="es-ES_tradnl" sz="2800" spc="-1" strike="noStrike" baseline="-25000">
                <a:solidFill>
                  <a:srgbClr val="000066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373200" y="1643760"/>
            <a:ext cx="3327480" cy="5205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=K[xI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/n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+(1-x)Q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/n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52680" y="2590920"/>
            <a:ext cx="3733920" cy="17524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4267080" y="2792520"/>
                <a:ext cx="17528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 flipV="1">
            <a:off x="1219320" y="3429000"/>
            <a:ext cx="0" cy="32004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6629400"/>
            <a:ext cx="624816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447920" y="4800240"/>
            <a:ext cx="3504960" cy="1523880"/>
          </a:xfrm>
          <a:prstGeom prst="line">
            <a:avLst/>
          </a:prstGeom>
          <a:ln w="28440">
            <a:solidFill>
              <a:srgbClr val="cce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4635360"/>
            <a:ext cx="3594240" cy="1765440"/>
          </a:xfrm>
          <a:custGeom>
            <a:avLst/>
            <a:gdLst/>
            <a:ahLst/>
            <a:rect l="l" t="t" r="r" b="b"/>
            <a:pathLst>
              <a:path w="2264" h="1112">
                <a:moveTo>
                  <a:pt x="96" y="1112"/>
                </a:moveTo>
                <a:cubicBezTo>
                  <a:pt x="176" y="1000"/>
                  <a:pt x="256" y="888"/>
                  <a:pt x="384" y="776"/>
                </a:cubicBezTo>
                <a:cubicBezTo>
                  <a:pt x="512" y="664"/>
                  <a:pt x="672" y="552"/>
                  <a:pt x="864" y="440"/>
                </a:cubicBezTo>
                <a:cubicBezTo>
                  <a:pt x="1056" y="328"/>
                  <a:pt x="1360" y="176"/>
                  <a:pt x="1536" y="104"/>
                </a:cubicBezTo>
                <a:cubicBezTo>
                  <a:pt x="1712" y="32"/>
                  <a:pt x="1808" y="16"/>
                  <a:pt x="1920" y="8"/>
                </a:cubicBezTo>
                <a:cubicBezTo>
                  <a:pt x="2032" y="0"/>
                  <a:pt x="2160" y="16"/>
                  <a:pt x="2208" y="56"/>
                </a:cubicBezTo>
                <a:cubicBezTo>
                  <a:pt x="2256" y="96"/>
                  <a:pt x="2264" y="152"/>
                  <a:pt x="2208" y="248"/>
                </a:cubicBezTo>
                <a:cubicBezTo>
                  <a:pt x="2152" y="344"/>
                  <a:pt x="2048" y="512"/>
                  <a:pt x="1872" y="632"/>
                </a:cubicBezTo>
                <a:cubicBezTo>
                  <a:pt x="1696" y="752"/>
                  <a:pt x="1416" y="896"/>
                  <a:pt x="1152" y="968"/>
                </a:cubicBezTo>
                <a:cubicBezTo>
                  <a:pt x="888" y="1040"/>
                  <a:pt x="480" y="1056"/>
                  <a:pt x="288" y="1064"/>
                </a:cubicBezTo>
                <a:cubicBezTo>
                  <a:pt x="96" y="1072"/>
                  <a:pt x="48" y="1044"/>
                  <a:pt x="0" y="1016"/>
                </a:cubicBezTo>
              </a:path>
            </a:pathLst>
          </a:custGeom>
          <a:noFill/>
          <a:ln cap="sq"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6760" y="33966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38520" y="610308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2743200" y="5028840"/>
            <a:ext cx="533520" cy="3049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3657600" y="5791320"/>
            <a:ext cx="380880" cy="22860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01320" y="548532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Régimen Perman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4191120" y="5181480"/>
            <a:ext cx="457200" cy="457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000"/>
                            </p:stCondLst>
                            <p:childTnLst>
                              <p:par>
                                <p:cTn id="81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500"/>
                            </p:stCondLst>
                            <p:childTnLst>
                              <p:par>
                                <p:cTn id="85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614680" y="1529640"/>
            <a:ext cx="361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portes Intermed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01800" y="291060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portes control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646000" y="3816720"/>
            <a:ext cx="5223960" cy="2266560"/>
            <a:chOff x="2646000" y="3816720"/>
            <a:chExt cx="5223960" cy="2266560"/>
          </a:xfrm>
        </p:grpSpPr>
        <p:sp>
          <p:nvSpPr>
            <p:cNvPr id="292" name=""/>
            <p:cNvSpPr/>
            <p:nvPr/>
          </p:nvSpPr>
          <p:spPr>
            <a:xfrm rot="20677800">
              <a:off x="2590920" y="4952880"/>
              <a:ext cx="5333760" cy="304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384800">
              <a:off x="6476760" y="3809880"/>
              <a:ext cx="15228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409800">
              <a:off x="2971440" y="5714640"/>
              <a:ext cx="2361600" cy="228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 rot="20444400">
            <a:off x="8076960" y="3962160"/>
            <a:ext cx="53316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20500800">
            <a:off x="5842080" y="449892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20751600">
            <a:off x="3657600" y="5105160"/>
            <a:ext cx="457200" cy="688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20890800">
            <a:off x="1905120" y="5638320"/>
            <a:ext cx="685800" cy="609840"/>
          </a:xfrm>
          <a:prstGeom prst="leftArrow">
            <a:avLst>
              <a:gd name="adj1" fmla="val 50000"/>
              <a:gd name="adj2" fmla="val 28114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Q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7661600">
            <a:off x="6553080" y="3047760"/>
            <a:ext cx="838440" cy="533160"/>
          </a:xfrm>
          <a:prstGeom prst="leftArrow">
            <a:avLst>
              <a:gd name="adj1" fmla="val 50000"/>
              <a:gd name="adj2" fmla="val 39315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559800">
            <a:off x="5486040" y="5714640"/>
            <a:ext cx="68580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T’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0280" y="365688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’=T’+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6840" y="617148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=Q’-T’’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9800" y="4876200"/>
            <a:ext cx="17182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RA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56386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4191120"/>
            <a:ext cx="83844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0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00"/>
                            </p:stCondLst>
                            <p:childTnLst>
                              <p:par>
                                <p:cTn id="906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500"/>
                            </p:stCondLst>
                            <p:childTnLst>
                              <p:par>
                                <p:cTn id="9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1500"/>
                            </p:stCondLst>
                            <p:childTnLst>
                              <p:par>
                                <p:cTn id="9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2000"/>
                            </p:stCondLst>
                            <p:childTnLst>
                              <p:par>
                                <p:cTn id="9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70280" y="1371600"/>
            <a:ext cx="8808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Permite reproducir el hidrograma de una crecida en divers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puntos de un río en base  a predicción  de variación del movimiento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y cambio de forma de la onda de crecida a medida que ésta s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propaga hacia aguas  abaj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7400" y="3505320"/>
            <a:ext cx="40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Cómo afecta un embals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3000" y="4343400"/>
            <a:ext cx="88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ecidir ubicación, capacidad y diseño de obras de contr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4800" y="5105520"/>
            <a:ext cx="47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iseño de obras de protec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4840" y="5638680"/>
            <a:ext cx="843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Medidas de control de inundaciones por pronóstico 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corto plaz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234080" y="106596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portes no control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341080" y="1911600"/>
            <a:ext cx="5223960" cy="2266200"/>
            <a:chOff x="2341080" y="1911600"/>
            <a:chExt cx="5223960" cy="2266200"/>
          </a:xfrm>
        </p:grpSpPr>
        <p:sp>
          <p:nvSpPr>
            <p:cNvPr id="308" name=""/>
            <p:cNvSpPr/>
            <p:nvPr/>
          </p:nvSpPr>
          <p:spPr>
            <a:xfrm rot="20677800">
              <a:off x="2286000" y="3047760"/>
              <a:ext cx="5334120" cy="3045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384800">
              <a:off x="6171840" y="1904760"/>
              <a:ext cx="152640" cy="9140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409800">
              <a:off x="2667240" y="3809520"/>
              <a:ext cx="2361960" cy="2282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 rot="20444400">
            <a:off x="7772040" y="2057400"/>
            <a:ext cx="53352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20500800">
            <a:off x="5537160" y="2593440"/>
            <a:ext cx="609480" cy="6098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20751600">
            <a:off x="3352320" y="3200040"/>
            <a:ext cx="457200" cy="6890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20890800">
            <a:off x="1600200" y="3733560"/>
            <a:ext cx="685800" cy="609480"/>
          </a:xfrm>
          <a:prstGeom prst="leftArrow">
            <a:avLst>
              <a:gd name="adj1" fmla="val 50000"/>
              <a:gd name="adj2" fmla="val 28131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Q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7661600">
            <a:off x="6248520" y="1143000"/>
            <a:ext cx="838080" cy="533520"/>
          </a:xfrm>
          <a:prstGeom prst="lef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559800">
            <a:off x="5181120" y="3809520"/>
            <a:ext cx="68580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T’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15840" y="4727520"/>
            <a:ext cx="7137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T’ o T’’ pueden obtenerse con HU o HU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ocida la diferencia de Q e I s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obtiene HED del Tributario (Vol=Pef Area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2000"/>
                            </p:stCondLst>
                            <p:childTnLst>
                              <p:par>
                                <p:cTn id="97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3500"/>
                            </p:stCondLst>
                            <p:childTnLst>
                              <p:par>
                                <p:cTn id="98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9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2341080" y="1759320"/>
            <a:ext cx="5224320" cy="2266560"/>
            <a:chOff x="2341080" y="1759320"/>
            <a:chExt cx="5224320" cy="2266560"/>
          </a:xfrm>
        </p:grpSpPr>
        <p:sp>
          <p:nvSpPr>
            <p:cNvPr id="319" name=""/>
            <p:cNvSpPr/>
            <p:nvPr/>
          </p:nvSpPr>
          <p:spPr>
            <a:xfrm rot="20677800">
              <a:off x="2286000" y="2895480"/>
              <a:ext cx="5334120" cy="304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384800">
              <a:off x="6172200" y="1752480"/>
              <a:ext cx="15264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409800">
              <a:off x="2666880" y="3657240"/>
              <a:ext cx="2361960" cy="228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 rot="20444400">
            <a:off x="7772040" y="1905120"/>
            <a:ext cx="53352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20500800">
            <a:off x="5537160" y="244152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20751600">
            <a:off x="3352680" y="3047760"/>
            <a:ext cx="457200" cy="688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17661600">
            <a:off x="6248160" y="990000"/>
            <a:ext cx="838440" cy="533520"/>
          </a:xfrm>
          <a:prstGeom prst="leftArrow">
            <a:avLst>
              <a:gd name="adj1" fmla="val 50000"/>
              <a:gd name="adj2" fmla="val 39288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09680" y="4342680"/>
            <a:ext cx="67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 Q conocido se hace rastreo invers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280" y="4495680"/>
            <a:ext cx="381240" cy="1067040"/>
          </a:xfrm>
          <a:custGeom>
            <a:avLst/>
            <a:gdLst>
              <a:gd name="textAreaLeft" fmla="*/ 51120 w 381240"/>
              <a:gd name="textAreaRight" fmla="*/ 330120 w 38124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81880" y="5187240"/>
            <a:ext cx="515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’-I define el HET del tributari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924680" y="5486400"/>
            <a:ext cx="304920" cy="762120"/>
          </a:xfrm>
          <a:custGeom>
            <a:avLst/>
            <a:gdLst>
              <a:gd name="textAreaLeft" fmla="*/ 40680 w 304920"/>
              <a:gd name="textAreaRight" fmla="*/ 264240 w 30492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14360" y="6065280"/>
            <a:ext cx="480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ocida Pef se obtiene H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88160" y="1205280"/>
            <a:ext cx="39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K,x se estiman c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fórmulas aproximad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0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500"/>
                            </p:stCondLst>
                            <p:childTnLst>
                              <p:par>
                                <p:cTn id="10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00"/>
                            </p:stCondLst>
                            <p:childTnLst>
                              <p:par>
                                <p:cTn id="10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600200" y="1371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MUSKINGUM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438280" y="2514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S=K[xI + (1-x)Q]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" y="4038480"/>
            <a:ext cx="777240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ecuación de rastreo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Q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+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= d</a:t>
            </a:r>
            <a:r>
              <a:rPr b="0" lang="en-US" sz="24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I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 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+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 + d</a:t>
            </a:r>
            <a:r>
              <a:rPr b="0" lang="en-US" sz="24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I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 + d</a:t>
            </a:r>
            <a:r>
              <a:rPr b="0" lang="en-US" sz="24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Q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9479600">
            <a:off x="5638680" y="2743200"/>
            <a:ext cx="2362320" cy="609480"/>
          </a:xfrm>
          <a:prstGeom prst="rect">
            <a:avLst/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9408800">
            <a:off x="8077320" y="182880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9408800">
            <a:off x="5181480" y="380988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381880" y="1295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28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609480" y="5753160"/>
                <a:ext cx="365760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5919840" y="5861160"/>
                <a:ext cx="282096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0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1219320" y="1676520"/>
                <a:ext cx="30225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5029200" y="1752480"/>
                <a:ext cx="308772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3048120" y="3962520"/>
                <a:ext cx="30556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1772280" y="5791320"/>
            <a:ext cx="18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+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2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+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3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=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78960" y="5715000"/>
            <a:ext cx="92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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0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3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067760" y="1143000"/>
            <a:ext cx="7282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Para determinar k y x se puede usar regre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múltiple y verificar que minimiza el loop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enominador vs 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numerador para estimar 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838080" y="3505320"/>
            <a:ext cx="0" cy="266688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8080" y="6172200"/>
            <a:ext cx="274320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43000" y="4267080"/>
            <a:ext cx="1371600" cy="1752840"/>
          </a:xfrm>
          <a:custGeom>
            <a:avLst/>
            <a:gdLst/>
            <a:ahLst/>
            <a:rect l="l" t="t" r="r" b="b"/>
            <a:pathLst>
              <a:path w="864" h="1104">
                <a:moveTo>
                  <a:pt x="0" y="1056"/>
                </a:moveTo>
                <a:lnTo>
                  <a:pt x="144" y="960"/>
                </a:lnTo>
                <a:lnTo>
                  <a:pt x="432" y="768"/>
                </a:lnTo>
                <a:lnTo>
                  <a:pt x="624" y="576"/>
                </a:lnTo>
                <a:lnTo>
                  <a:pt x="816" y="336"/>
                </a:lnTo>
                <a:lnTo>
                  <a:pt x="864" y="96"/>
                </a:lnTo>
                <a:lnTo>
                  <a:pt x="864" y="0"/>
                </a:lnTo>
                <a:lnTo>
                  <a:pt x="624" y="0"/>
                </a:lnTo>
                <a:lnTo>
                  <a:pt x="384" y="336"/>
                </a:lnTo>
                <a:lnTo>
                  <a:pt x="288" y="528"/>
                </a:lnTo>
                <a:lnTo>
                  <a:pt x="192" y="816"/>
                </a:lnTo>
                <a:lnTo>
                  <a:pt x="96" y="1008"/>
                </a:lnTo>
                <a:lnTo>
                  <a:pt x="96" y="1104"/>
                </a:ln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429000" y="2895480"/>
                <a:ext cx="5486400" cy="14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Δ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Δ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Δt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Δ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Δ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273240" y="3048120"/>
            <a:ext cx="10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00960" y="6324480"/>
            <a:ext cx="13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den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12880" y="4419720"/>
            <a:ext cx="1349640" cy="1616040"/>
          </a:xfrm>
          <a:custGeom>
            <a:avLst/>
            <a:gdLst/>
            <a:ahLst/>
            <a:rect l="l" t="t" r="r" b="b"/>
            <a:pathLst>
              <a:path w="850" h="1018">
                <a:moveTo>
                  <a:pt x="0" y="1018"/>
                </a:moveTo>
                <a:cubicBezTo>
                  <a:pt x="29" y="999"/>
                  <a:pt x="19" y="1010"/>
                  <a:pt x="33" y="986"/>
                </a:cubicBezTo>
                <a:lnTo>
                  <a:pt x="226" y="864"/>
                </a:lnTo>
                <a:lnTo>
                  <a:pt x="466" y="624"/>
                </a:lnTo>
                <a:lnTo>
                  <a:pt x="802" y="192"/>
                </a:lnTo>
                <a:lnTo>
                  <a:pt x="850" y="0"/>
                </a:lnTo>
                <a:lnTo>
                  <a:pt x="802" y="0"/>
                </a:lnTo>
                <a:lnTo>
                  <a:pt x="754" y="144"/>
                </a:lnTo>
                <a:lnTo>
                  <a:pt x="658" y="336"/>
                </a:lnTo>
                <a:lnTo>
                  <a:pt x="562" y="480"/>
                </a:lnTo>
                <a:lnTo>
                  <a:pt x="418" y="720"/>
                </a:lnTo>
                <a:lnTo>
                  <a:pt x="322" y="768"/>
                </a:lnTo>
                <a:lnTo>
                  <a:pt x="226" y="912"/>
                </a:lnTo>
                <a:lnTo>
                  <a:pt x="130" y="960"/>
                </a:lnTo>
              </a:path>
            </a:pathLst>
          </a:custGeom>
          <a:noFill/>
          <a:ln cap="sq" w="1260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077560" y="36576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x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906360" y="50292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Tahoma"/>
              </a:rPr>
              <a:t>x</a:t>
            </a:r>
            <a:r>
              <a:rPr b="1" lang="es-ES_tradnl" sz="2400" spc="-1" strike="noStrike" baseline="-25000">
                <a:solidFill>
                  <a:srgbClr val="6699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0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457200" y="914400"/>
            <a:ext cx="66294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L/K   velocidad de la onda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880" y="1676520"/>
            <a:ext cx="25146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Si 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&gt;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t/(2 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)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2971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subdividir el tramo en n par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3133800">
            <a:off x="2382480" y="1974600"/>
            <a:ext cx="1143000" cy="762120"/>
          </a:xfrm>
          <a:prstGeom prst="rightArrow">
            <a:avLst>
              <a:gd name="adj1" fmla="val 50000"/>
              <a:gd name="adj2" fmla="val 37494"/>
            </a:avLst>
          </a:prstGeom>
          <a:solidFill>
            <a:srgbClr val="ffff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95280" y="3657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2K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 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4343400"/>
            <a:ext cx="8077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No puede aplicarse a lechos de gran pendiente pues no se consideran efectos de energí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K, 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características del tramo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86400" y="5305320"/>
            <a:ext cx="3657600" cy="15570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Tiempo de viaje de la onda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K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tiempo de subida de I(t) para que 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=c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0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500"/>
                            </p:stCondLst>
                            <p:childTnLst>
                              <p:par>
                                <p:cTn id="1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"/>
                            </p:stCondLst>
                            <p:childTnLst>
                              <p:par>
                                <p:cTn id="125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57200" y="1676520"/>
            <a:ext cx="8229600" cy="37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OTROS MÉTO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K=L/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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½ v/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  <a:ea typeface="Tahoma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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/v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1,67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1,44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1,3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Cauce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  <a:ea typeface="Tahoma"/>
              </a:rPr>
              <a:t>     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rectangular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  <a:ea typeface="Tahoma"/>
              </a:rPr>
              <a:t>      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parabólico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triangul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ancho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  <a:ea typeface="Tahoma"/>
              </a:rPr>
              <a:t>        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anch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228600" y="5181480"/>
                <a:ext cx="294156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3886200" y="510552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K tiempo entre C.G. de los hidrogramas de entrada y salida del tramo 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tiempo entre Q máxi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0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500"/>
                            </p:stCondLst>
                            <p:childTnLst>
                              <p:par>
                                <p:cTn id="12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1143000" y="1143000"/>
                <a:ext cx="64008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S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1295280" y="2819520"/>
                <a:ext cx="669924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≡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 flipV="1">
            <a:off x="609480" y="3733920"/>
            <a:ext cx="0" cy="2743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6477120"/>
            <a:ext cx="548640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6369120" y="5799240"/>
                <a:ext cx="946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113760" y="34362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219320" y="4572000"/>
            <a:ext cx="1904760" cy="1447920"/>
          </a:xfrm>
          <a:prstGeom prst="line">
            <a:avLst/>
          </a:prstGeom>
          <a:ln cap="sq"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1447920" y="4648320"/>
            <a:ext cx="3352680" cy="1371600"/>
          </a:xfrm>
          <a:prstGeom prst="line">
            <a:avLst/>
          </a:prstGeom>
          <a:ln cap="sq"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676520" y="5257800"/>
            <a:ext cx="3657600" cy="914400"/>
          </a:xfrm>
          <a:prstGeom prst="line">
            <a:avLst/>
          </a:prstGeom>
          <a:ln cap="sq"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400040" y="456300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cc99"/>
                </a:solidFill>
                <a:latin typeface="Copperplate Gothic Bold"/>
              </a:rPr>
              <a:t>I=1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63920" y="440280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Copperplate Gothic Bold"/>
              </a:rPr>
              <a:t>I=25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97280" y="470772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99ff"/>
                </a:solidFill>
                <a:latin typeface="Copperplate Gothic Bold"/>
              </a:rPr>
              <a:t>I=5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05120" y="4876920"/>
            <a:ext cx="228600" cy="228600"/>
          </a:xfrm>
          <a:prstGeom prst="line">
            <a:avLst/>
          </a:prstGeom>
          <a:ln cap="sq" w="1260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33920" y="4724280"/>
            <a:ext cx="152280" cy="228600"/>
          </a:xfrm>
          <a:prstGeom prst="line">
            <a:avLst/>
          </a:prstGeom>
          <a:ln cap="sq" w="1260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5257440" y="4952880"/>
            <a:ext cx="228600" cy="304920"/>
          </a:xfrm>
          <a:prstGeom prst="line">
            <a:avLst/>
          </a:prstGeom>
          <a:ln cap="sq" w="1260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3048120" y="5333760"/>
            <a:ext cx="0" cy="114300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9480" y="5334120"/>
            <a:ext cx="2438640" cy="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480" y="484668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8458200" y="3962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3809880" y="5638320"/>
            <a:ext cx="0" cy="83844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609480" y="5638680"/>
            <a:ext cx="3200400" cy="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2480" y="537984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685800"/>
            <a:ext cx="1981080" cy="53352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Goodri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500"/>
                            </p:stCondLst>
                            <p:childTnLst>
                              <p:par>
                                <p:cTn id="1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5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7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8500"/>
                            </p:stCondLst>
                            <p:childTnLst>
                              <p:par>
                                <p:cTn id="135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9500"/>
                            </p:stCondLst>
                            <p:childTnLst>
                              <p:par>
                                <p:cTn id="136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500"/>
                            </p:stCondLst>
                            <p:childTnLst>
                              <p:par>
                                <p:cTn id="139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500"/>
                            </p:stCondLst>
                            <p:childTnLst>
                              <p:par>
                                <p:cTn id="141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438280" y="1219320"/>
            <a:ext cx="1752840" cy="990360"/>
          </a:xfrm>
          <a:prstGeom prst="flowChartAlternateProcess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,I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1600200"/>
            <a:ext cx="1066680" cy="685800"/>
          </a:xfrm>
          <a:prstGeom prst="rightArrow">
            <a:avLst>
              <a:gd name="adj1" fmla="val 50000"/>
              <a:gd name="adj2" fmla="val 38885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438880" y="1523880"/>
                <a:ext cx="104292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93" name=""/>
          <p:cNvGrpSpPr/>
          <p:nvPr/>
        </p:nvGrpSpPr>
        <p:grpSpPr>
          <a:xfrm>
            <a:off x="457200" y="2819520"/>
            <a:ext cx="2819160" cy="1523880"/>
            <a:chOff x="457200" y="2819520"/>
            <a:chExt cx="2819160" cy="1523880"/>
          </a:xfrm>
        </p:grpSpPr>
        <p:sp>
          <p:nvSpPr>
            <p:cNvPr id="394" name=""/>
            <p:cNvSpPr/>
            <p:nvPr/>
          </p:nvSpPr>
          <p:spPr>
            <a:xfrm>
              <a:off x="457200" y="2819520"/>
              <a:ext cx="2819160" cy="1523880"/>
            </a:xfrm>
            <a:prstGeom prst="hexagon">
              <a:avLst>
                <a:gd name="adj" fmla="val 46250"/>
                <a:gd name="vf" fmla="val 115470"/>
              </a:avLst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            </a:t>
              </a: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-2q</a:t>
              </a:r>
              <a:r>
                <a:rPr b="0" lang="es-ES_tradnl" sz="2800" spc="-1" strike="noStrike" baseline="-25000">
                  <a:solidFill>
                    <a:srgbClr val="ff0000"/>
                  </a:solidFill>
                  <a:latin typeface="Copperplate Gothic Bold"/>
                </a:rPr>
                <a:t>1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914400" y="3200400"/>
                  <a:ext cx="1042920" cy="75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Δt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6" name=""/>
          <p:cNvSpPr/>
          <p:nvPr/>
        </p:nvSpPr>
        <p:spPr>
          <a:xfrm rot="9089400">
            <a:off x="4647600" y="5486040"/>
            <a:ext cx="10666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572000" y="2743200"/>
                <a:ext cx="430992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6629400" y="4343400"/>
            <a:ext cx="6858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791320" y="5105520"/>
                <a:ext cx="210816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</m:oMath>
                </a14:m>
              </a:p>
            </p:txBody>
          </p:sp>
        </mc:Choice>
        <mc:Fallback/>
      </mc:AlternateContent>
      <p:sp>
        <p:nvSpPr>
          <p:cNvPr id="400" name="">
            <a:hlinkClick r:id="" action="ppaction://hlinkshowjump?jump=previousslide"/>
          </p:cNvPr>
          <p:cNvSpPr/>
          <p:nvPr/>
        </p:nvSpPr>
        <p:spPr>
          <a:xfrm>
            <a:off x="990720" y="5105520"/>
            <a:ext cx="2590560" cy="1143000"/>
          </a:xfrm>
          <a:prstGeom prst="flowChartPunchedTap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Conocido I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4537200">
            <a:off x="2933280" y="3695400"/>
            <a:ext cx="1143000" cy="15238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200400" y="6095880"/>
            <a:ext cx="1523880" cy="762120"/>
            <a:chOff x="3200400" y="6095880"/>
            <a:chExt cx="1523880" cy="762120"/>
          </a:xfrm>
        </p:grpSpPr>
        <p:sp>
          <p:nvSpPr>
            <p:cNvPr id="403" name=""/>
            <p:cNvSpPr/>
            <p:nvPr/>
          </p:nvSpPr>
          <p:spPr>
            <a:xfrm>
              <a:off x="3200400" y="6095880"/>
              <a:ext cx="1523880" cy="762120"/>
            </a:xfrm>
            <a:prstGeom prst="irregularSeal2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23760" y="6141960"/>
              <a:ext cx="57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Q</a:t>
              </a:r>
              <a:r>
                <a:rPr b="0" lang="es-ES_tradnl" sz="2800" spc="-1" strike="noStrike" baseline="-25000">
                  <a:solidFill>
                    <a:srgbClr val="ff0000"/>
                  </a:solidFill>
                  <a:latin typeface="Copperplate Gothic Bold"/>
                </a:rPr>
                <a:t>2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0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500"/>
                            </p:stCondLst>
                            <p:childTnLst>
                              <p:par>
                                <p:cTn id="1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500"/>
                            </p:stCondLst>
                            <p:childTnLst>
                              <p:par>
                                <p:cTn id="148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 flipV="1">
            <a:off x="2819520" y="4495680"/>
            <a:ext cx="1218960" cy="91440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8600" y="762120"/>
            <a:ext cx="1905120" cy="68580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Wils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37120" y="1072440"/>
            <a:ext cx="25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sidera x=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029200" y="2209680"/>
                <a:ext cx="175248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133720" y="2286000"/>
                <a:ext cx="16635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 rot="2076600">
            <a:off x="2819520" y="1294920"/>
            <a:ext cx="1218960" cy="9144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ccff"/>
              </a:gs>
              <a:gs pos="50000">
                <a:srgbClr val="5e5e75"/>
              </a:gs>
              <a:gs pos="100000">
                <a:srgbClr val="ccccff"/>
              </a:gs>
            </a:gsLst>
            <a:lin ang="81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371600" y="3429000"/>
            <a:ext cx="0" cy="32004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371600" y="6629400"/>
            <a:ext cx="403848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057400" y="4419720"/>
            <a:ext cx="1371600" cy="10666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cubicBezTo>
                  <a:pt x="80" y="908"/>
                  <a:pt x="160" y="904"/>
                  <a:pt x="240" y="864"/>
                </a:cubicBezTo>
                <a:cubicBezTo>
                  <a:pt x="320" y="824"/>
                  <a:pt x="392" y="760"/>
                  <a:pt x="480" y="672"/>
                </a:cubicBezTo>
                <a:cubicBezTo>
                  <a:pt x="568" y="584"/>
                  <a:pt x="672" y="448"/>
                  <a:pt x="768" y="336"/>
                </a:cubicBezTo>
                <a:cubicBezTo>
                  <a:pt x="864" y="224"/>
                  <a:pt x="1008" y="56"/>
                  <a:pt x="1056" y="0"/>
                </a:cubicBezTo>
              </a:path>
            </a:pathLst>
          </a:custGeom>
          <a:noFill/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86000" y="541008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819520" y="502920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352680" y="4419720"/>
            <a:ext cx="7632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0" y="5486400"/>
            <a:ext cx="0" cy="11430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5105520"/>
            <a:ext cx="0" cy="15238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352680" y="4572000"/>
            <a:ext cx="0" cy="20574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86000" y="5410080"/>
            <a:ext cx="533520" cy="101880"/>
          </a:xfrm>
          <a:custGeom>
            <a:avLst/>
            <a:gdLst/>
            <a:ahLst/>
            <a:rect l="l" t="t" r="r" b="b"/>
            <a:pathLst>
              <a:path w="432" h="112">
                <a:moveTo>
                  <a:pt x="0" y="96"/>
                </a:moveTo>
                <a:cubicBezTo>
                  <a:pt x="36" y="104"/>
                  <a:pt x="72" y="112"/>
                  <a:pt x="144" y="96"/>
                </a:cubicBezTo>
                <a:cubicBezTo>
                  <a:pt x="216" y="80"/>
                  <a:pt x="384" y="16"/>
                  <a:pt x="432" y="0"/>
                </a:cubicBezTo>
              </a:path>
            </a:pathLst>
          </a:custGeom>
          <a:noFill/>
          <a:ln cap="sq" w="381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352680" y="4495680"/>
            <a:ext cx="685800" cy="0"/>
          </a:xfrm>
          <a:prstGeom prst="line">
            <a:avLst/>
          </a:prstGeom>
          <a:ln cap="sq"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27800" y="4770360"/>
            <a:ext cx="42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88600" y="4465440"/>
            <a:ext cx="41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845800" y="3779640"/>
            <a:ext cx="41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86200" y="2514600"/>
            <a:ext cx="914400" cy="838080"/>
          </a:xfrm>
          <a:prstGeom prst="rightArrow">
            <a:avLst>
              <a:gd name="adj1" fmla="val 50000"/>
              <a:gd name="adj2" fmla="val 27277"/>
            </a:avLst>
          </a:prstGeom>
          <a:blipFill rotWithShape="0">
            <a:blip r:embed="rId1"/>
            <a:srcRect/>
            <a:stretch/>
          </a:blip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19520" y="5334120"/>
            <a:ext cx="75960" cy="759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21440" y="5608440"/>
            <a:ext cx="58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844360" y="545616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52680" y="49528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47800" y="492264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91560" y="427428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29000" y="3809880"/>
            <a:ext cx="380880" cy="609840"/>
          </a:xfrm>
          <a:custGeom>
            <a:avLst/>
            <a:gdLst/>
            <a:ahLst/>
            <a:rect l="l" t="t" r="r" b="b"/>
            <a:pathLst>
              <a:path w="240" h="384">
                <a:moveTo>
                  <a:pt x="0" y="384"/>
                </a:moveTo>
                <a:cubicBezTo>
                  <a:pt x="12" y="376"/>
                  <a:pt x="24" y="368"/>
                  <a:pt x="48" y="336"/>
                </a:cubicBezTo>
                <a:cubicBezTo>
                  <a:pt x="72" y="304"/>
                  <a:pt x="120" y="232"/>
                  <a:pt x="144" y="192"/>
                </a:cubicBezTo>
                <a:cubicBezTo>
                  <a:pt x="168" y="152"/>
                  <a:pt x="176" y="128"/>
                  <a:pt x="192" y="96"/>
                </a:cubicBezTo>
                <a:cubicBezTo>
                  <a:pt x="208" y="64"/>
                  <a:pt x="224" y="32"/>
                  <a:pt x="240" y="0"/>
                </a:cubicBezTo>
              </a:path>
            </a:pathLst>
          </a:custGeom>
          <a:noFill/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09880" y="3809880"/>
            <a:ext cx="685800" cy="0"/>
          </a:xfrm>
          <a:prstGeom prst="line">
            <a:avLst/>
          </a:prstGeom>
          <a:ln cap="sq"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756680" y="335196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3429000" y="3809520"/>
            <a:ext cx="1066680" cy="114300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733920" y="380988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09880" y="3809880"/>
            <a:ext cx="0" cy="2819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09880" y="44956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37720" y="32076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143680" y="6171480"/>
            <a:ext cx="3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85720" y="3804120"/>
            <a:ext cx="178092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También K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uede s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f(Q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11480" y="396180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3962520" y="3809520"/>
            <a:ext cx="838080" cy="3049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3962520" y="4191120"/>
            <a:ext cx="83808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394320" y="4946040"/>
            <a:ext cx="23068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Si se conoc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I,Q se inviert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rocedi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ara conocer 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8" dur="indefinite" restart="never" nodeType="tmRoot">
          <p:childTnLst>
            <p:seq>
              <p:cTn id="1499" dur="indefinite" nodeType="mainSeq">
                <p:childTnLst>
                  <p:par>
                    <p:cTn id="1500" fill="hold">
                      <p:stCondLst>
                        <p:cond delay="0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500"/>
                            </p:stCondLst>
                            <p:childTnLst>
                              <p:par>
                                <p:cTn id="153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500"/>
                            </p:stCondLst>
                            <p:childTnLst>
                              <p:par>
                                <p:cTn id="158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4500"/>
                            </p:stCondLst>
                            <p:childTnLst>
                              <p:par>
                                <p:cTn id="16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5500"/>
                            </p:stCondLst>
                            <p:childTnLst>
                              <p:par>
                                <p:cTn id="16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fill="hold">
                            <p:stCondLst>
                              <p:cond delay="500"/>
                            </p:stCondLst>
                            <p:childTnLst>
                              <p:par>
                                <p:cTn id="16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500"/>
                            </p:stCondLst>
                            <p:childTnLst>
                              <p:par>
                                <p:cTn id="17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0" fill="hold">
                            <p:stCondLst>
                              <p:cond delay="500"/>
                            </p:stCondLst>
                            <p:childTnLst>
                              <p:par>
                                <p:cTn id="176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18520" y="1143000"/>
            <a:ext cx="86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Requisito: conocer Q  en 1 o mas secciones aguas arrib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0240" y="1981080"/>
            <a:ext cx="82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Rastreo en embalses y cauces naturales o artificial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11280" y="2819520"/>
            <a:ext cx="625536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ahoma"/>
              </a:rPr>
              <a:t>Rastreo Hidráulic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66"/>
                </a:solidFill>
                <a:latin typeface="Tahoma"/>
              </a:rPr>
              <a:t>Rastreo HIDROLOGIC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2600" y="4800600"/>
            <a:ext cx="77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99ff"/>
                </a:solidFill>
                <a:latin typeface="Tahoma"/>
              </a:rPr>
              <a:t>Ecuaciones de continuidad y cantidad de movi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5410080"/>
            <a:ext cx="16002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84040" y="6172200"/>
            <a:ext cx="45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Tahoma"/>
              </a:rPr>
              <a:t>Ecuaciones de Saint Venna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2819520"/>
            <a:ext cx="761760" cy="2590560"/>
          </a:xfrm>
          <a:custGeom>
            <a:avLst/>
            <a:gdLst>
              <a:gd name="textAreaLeft" fmla="*/ 101880 w 761760"/>
              <a:gd name="textAreaRight" fmla="*/ 659880 w 761760"/>
              <a:gd name="textAreaTop" fmla="*/ 453240 h 2590560"/>
              <a:gd name="textAreaBottom" fmla="*/ 187812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914400" y="2971800"/>
            <a:ext cx="5715000" cy="228600"/>
          </a:xfrm>
          <a:custGeom>
            <a:avLst/>
            <a:gdLst/>
            <a:ahLst/>
            <a:rect l="l" t="t" r="r" b="b"/>
            <a:pathLst>
              <a:path w="3600" h="144">
                <a:moveTo>
                  <a:pt x="3504" y="96"/>
                </a:moveTo>
                <a:lnTo>
                  <a:pt x="192" y="96"/>
                </a:lnTo>
                <a:lnTo>
                  <a:pt x="0" y="0"/>
                </a:lnTo>
                <a:lnTo>
                  <a:pt x="3600" y="0"/>
                </a:lnTo>
                <a:lnTo>
                  <a:pt x="3600" y="144"/>
                </a:lnTo>
                <a:lnTo>
                  <a:pt x="3504" y="9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523880" y="6858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RASTREO EN EMBAL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5880" y="3124080"/>
            <a:ext cx="1752840" cy="2438640"/>
          </a:xfrm>
          <a:custGeom>
            <a:avLst/>
            <a:gdLst/>
            <a:ahLst/>
            <a:rect l="l" t="t" r="r" b="b"/>
            <a:pathLst>
              <a:path w="816" h="912">
                <a:moveTo>
                  <a:pt x="0" y="912"/>
                </a:moveTo>
                <a:lnTo>
                  <a:pt x="0" y="96"/>
                </a:lnTo>
                <a:lnTo>
                  <a:pt x="48" y="0"/>
                </a:lnTo>
                <a:lnTo>
                  <a:pt x="192" y="0"/>
                </a:lnTo>
                <a:lnTo>
                  <a:pt x="384" y="96"/>
                </a:lnTo>
                <a:lnTo>
                  <a:pt x="528" y="336"/>
                </a:lnTo>
                <a:lnTo>
                  <a:pt x="720" y="672"/>
                </a:lnTo>
                <a:lnTo>
                  <a:pt x="816" y="864"/>
                </a:lnTo>
              </a:path>
            </a:pathLst>
          </a:custGeom>
          <a:solidFill>
            <a:srgbClr val="00cc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81280" y="27432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81280" y="2895480"/>
            <a:ext cx="1526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1218960" y="3124080"/>
            <a:ext cx="5105160" cy="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1981080"/>
            <a:ext cx="609480" cy="381240"/>
          </a:xfrm>
          <a:prstGeom prst="line">
            <a:avLst/>
          </a:prstGeom>
          <a:ln w="572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1676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46748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0280" y="3352680"/>
            <a:ext cx="457200" cy="609840"/>
          </a:xfrm>
          <a:prstGeom prst="line">
            <a:avLst/>
          </a:prstGeom>
          <a:ln w="572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-360" y="2514240"/>
            <a:ext cx="6095880" cy="3048120"/>
            <a:chOff x="-360" y="2514240"/>
            <a:chExt cx="6095880" cy="3048120"/>
          </a:xfrm>
        </p:grpSpPr>
        <p:sp>
          <p:nvSpPr>
            <p:cNvPr id="457" name=""/>
            <p:cNvSpPr/>
            <p:nvPr/>
          </p:nvSpPr>
          <p:spPr>
            <a:xfrm flipH="1" flipV="1">
              <a:off x="-360" y="2514240"/>
              <a:ext cx="6095880" cy="304812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28600" y="2819160"/>
              <a:ext cx="304920" cy="75960"/>
            </a:xfrm>
            <a:prstGeom prst="line">
              <a:avLst/>
            </a:prstGeom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609480" y="30477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1066680" y="320040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1295280" y="335268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1600200" y="358128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1981080" y="37335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2590920" y="3962160"/>
              <a:ext cx="30456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2971800" y="41907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3276720" y="434340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3962520" y="472428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4800600" y="51051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4572000" y="502920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4267080" y="48765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5105520" y="525780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5334120" y="541008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1231920" y="3097080"/>
            <a:ext cx="5149800" cy="2465640"/>
          </a:xfrm>
          <a:custGeom>
            <a:avLst/>
            <a:gdLst/>
            <a:ahLst/>
            <a:rect l="l" t="t" r="r" b="b"/>
            <a:pathLst>
              <a:path w="3244" h="1553">
                <a:moveTo>
                  <a:pt x="3244" y="12"/>
                </a:moveTo>
                <a:cubicBezTo>
                  <a:pt x="2162" y="27"/>
                  <a:pt x="1081" y="0"/>
                  <a:pt x="0" y="0"/>
                </a:cubicBezTo>
                <a:lnTo>
                  <a:pt x="3064" y="1553"/>
                </a:lnTo>
                <a:lnTo>
                  <a:pt x="3064" y="161"/>
                </a:lnTo>
                <a:lnTo>
                  <a:pt x="3160" y="17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280" y="2590920"/>
            <a:ext cx="7010640" cy="838080"/>
          </a:xfrm>
          <a:custGeom>
            <a:avLst/>
            <a:gdLst/>
            <a:ahLst/>
            <a:rect l="l" t="t" r="r" b="b"/>
            <a:pathLst>
              <a:path w="4416" h="528">
                <a:moveTo>
                  <a:pt x="4416" y="432"/>
                </a:moveTo>
                <a:lnTo>
                  <a:pt x="4320" y="528"/>
                </a:lnTo>
                <a:lnTo>
                  <a:pt x="4080" y="384"/>
                </a:lnTo>
                <a:lnTo>
                  <a:pt x="4080" y="240"/>
                </a:lnTo>
                <a:lnTo>
                  <a:pt x="432" y="240"/>
                </a:lnTo>
                <a:lnTo>
                  <a:pt x="0" y="0"/>
                </a:lnTo>
                <a:lnTo>
                  <a:pt x="3840" y="0"/>
                </a:lnTo>
                <a:lnTo>
                  <a:pt x="3936" y="48"/>
                </a:lnTo>
                <a:lnTo>
                  <a:pt x="4032" y="96"/>
                </a:lnTo>
                <a:lnTo>
                  <a:pt x="4176" y="192"/>
                </a:lnTo>
                <a:lnTo>
                  <a:pt x="4272" y="288"/>
                </a:lnTo>
                <a:lnTo>
                  <a:pt x="4416" y="432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276720" y="15238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</a:rPr>
              <a:t>EFECTO REGULAD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5105520" y="1981080"/>
            <a:ext cx="457200" cy="76212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5" dur="indefinite" restart="never" nodeType="tmRoot">
          <p:childTnLst>
            <p:seq>
              <p:cTn id="1796" dur="indefinite" nodeType="mainSeq">
                <p:childTnLst>
                  <p:par>
                    <p:cTn id="1797" fill="hold">
                      <p:stCondLst>
                        <p:cond delay="0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"/>
                            </p:stCondLst>
                            <p:childTnLst>
                              <p:par>
                                <p:cTn id="18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fill="hold">
                            <p:stCondLst>
                              <p:cond delay="500"/>
                            </p:stCondLst>
                            <p:childTnLst>
                              <p:par>
                                <p:cTn id="18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8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6500"/>
                            </p:stCondLst>
                            <p:childTnLst>
                              <p:par>
                                <p:cTn id="18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981080" y="510552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REGLAS DE OPERACIÓN VERTEDE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1828800" y="1752120"/>
            <a:ext cx="0" cy="2514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828800" y="4343400"/>
            <a:ext cx="54864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62320" y="1968480"/>
            <a:ext cx="5105160" cy="2070000"/>
          </a:xfrm>
          <a:custGeom>
            <a:avLst/>
            <a:gdLst/>
            <a:ahLst/>
            <a:rect l="l" t="t" r="r" b="b"/>
            <a:pathLst>
              <a:path w="3216" h="1304">
                <a:moveTo>
                  <a:pt x="0" y="1208"/>
                </a:moveTo>
                <a:cubicBezTo>
                  <a:pt x="60" y="1232"/>
                  <a:pt x="120" y="1256"/>
                  <a:pt x="192" y="1256"/>
                </a:cubicBezTo>
                <a:cubicBezTo>
                  <a:pt x="264" y="1256"/>
                  <a:pt x="344" y="1256"/>
                  <a:pt x="432" y="1208"/>
                </a:cubicBezTo>
                <a:cubicBezTo>
                  <a:pt x="520" y="1160"/>
                  <a:pt x="608" y="1096"/>
                  <a:pt x="720" y="968"/>
                </a:cubicBezTo>
                <a:cubicBezTo>
                  <a:pt x="832" y="840"/>
                  <a:pt x="992" y="592"/>
                  <a:pt x="1104" y="440"/>
                </a:cubicBezTo>
                <a:cubicBezTo>
                  <a:pt x="1216" y="288"/>
                  <a:pt x="1296" y="112"/>
                  <a:pt x="1392" y="56"/>
                </a:cubicBezTo>
                <a:cubicBezTo>
                  <a:pt x="1488" y="0"/>
                  <a:pt x="1592" y="56"/>
                  <a:pt x="1680" y="104"/>
                </a:cubicBezTo>
                <a:cubicBezTo>
                  <a:pt x="1768" y="152"/>
                  <a:pt x="1840" y="256"/>
                  <a:pt x="1920" y="344"/>
                </a:cubicBezTo>
                <a:cubicBezTo>
                  <a:pt x="2000" y="432"/>
                  <a:pt x="2072" y="528"/>
                  <a:pt x="2160" y="632"/>
                </a:cubicBezTo>
                <a:cubicBezTo>
                  <a:pt x="2248" y="736"/>
                  <a:pt x="2344" y="872"/>
                  <a:pt x="2448" y="968"/>
                </a:cubicBezTo>
                <a:cubicBezTo>
                  <a:pt x="2552" y="1064"/>
                  <a:pt x="2656" y="1152"/>
                  <a:pt x="2784" y="1208"/>
                </a:cubicBezTo>
                <a:cubicBezTo>
                  <a:pt x="2912" y="1264"/>
                  <a:pt x="3144" y="1288"/>
                  <a:pt x="3216" y="13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95480" y="2774880"/>
            <a:ext cx="5334120" cy="1187640"/>
          </a:xfrm>
          <a:custGeom>
            <a:avLst/>
            <a:gdLst/>
            <a:ahLst/>
            <a:rect l="l" t="t" r="r" b="b"/>
            <a:pathLst>
              <a:path w="3360" h="748">
                <a:moveTo>
                  <a:pt x="0" y="748"/>
                </a:moveTo>
                <a:cubicBezTo>
                  <a:pt x="172" y="720"/>
                  <a:pt x="344" y="692"/>
                  <a:pt x="480" y="652"/>
                </a:cubicBezTo>
                <a:cubicBezTo>
                  <a:pt x="616" y="612"/>
                  <a:pt x="688" y="580"/>
                  <a:pt x="816" y="508"/>
                </a:cubicBezTo>
                <a:cubicBezTo>
                  <a:pt x="944" y="436"/>
                  <a:pt x="1136" y="296"/>
                  <a:pt x="1248" y="220"/>
                </a:cubicBezTo>
                <a:cubicBezTo>
                  <a:pt x="1360" y="144"/>
                  <a:pt x="1403" y="83"/>
                  <a:pt x="1491" y="51"/>
                </a:cubicBezTo>
                <a:cubicBezTo>
                  <a:pt x="1579" y="19"/>
                  <a:pt x="1665" y="0"/>
                  <a:pt x="1776" y="28"/>
                </a:cubicBezTo>
                <a:cubicBezTo>
                  <a:pt x="1887" y="56"/>
                  <a:pt x="2072" y="180"/>
                  <a:pt x="2160" y="220"/>
                </a:cubicBezTo>
                <a:cubicBezTo>
                  <a:pt x="2248" y="260"/>
                  <a:pt x="2208" y="236"/>
                  <a:pt x="2304" y="268"/>
                </a:cubicBezTo>
                <a:cubicBezTo>
                  <a:pt x="2400" y="300"/>
                  <a:pt x="2592" y="372"/>
                  <a:pt x="2736" y="412"/>
                </a:cubicBezTo>
                <a:cubicBezTo>
                  <a:pt x="2880" y="452"/>
                  <a:pt x="3064" y="484"/>
                  <a:pt x="3168" y="508"/>
                </a:cubicBezTo>
                <a:cubicBezTo>
                  <a:pt x="3272" y="532"/>
                  <a:pt x="3316" y="544"/>
                  <a:pt x="3360" y="556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276720" y="2209680"/>
            <a:ext cx="2057400" cy="1600200"/>
            <a:chOff x="3276720" y="2209680"/>
            <a:chExt cx="2057400" cy="1600200"/>
          </a:xfrm>
        </p:grpSpPr>
        <p:sp>
          <p:nvSpPr>
            <p:cNvPr id="483" name=""/>
            <p:cNvSpPr/>
            <p:nvPr/>
          </p:nvSpPr>
          <p:spPr>
            <a:xfrm>
              <a:off x="4267080" y="2514600"/>
              <a:ext cx="990720" cy="304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3276720" y="2209680"/>
              <a:ext cx="2057400" cy="1600200"/>
              <a:chOff x="3276720" y="2209680"/>
              <a:chExt cx="2057400" cy="1600200"/>
            </a:xfrm>
          </p:grpSpPr>
          <p:sp>
            <p:nvSpPr>
              <p:cNvPr id="485" name=""/>
              <p:cNvSpPr/>
              <p:nvPr/>
            </p:nvSpPr>
            <p:spPr>
              <a:xfrm>
                <a:off x="3276720" y="3733920"/>
                <a:ext cx="457200" cy="7596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809880" y="3124080"/>
                <a:ext cx="76212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581280" y="3429000"/>
                <a:ext cx="457200" cy="15228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962520" y="2819520"/>
                <a:ext cx="99036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419720" y="2209680"/>
                <a:ext cx="91440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0" name=""/>
          <p:cNvSpPr txBox="1"/>
          <p:nvPr/>
        </p:nvSpPr>
        <p:spPr>
          <a:xfrm>
            <a:off x="3352680" y="1143000"/>
            <a:ext cx="50770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Volumen Embalsado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80880" y="304920"/>
            <a:ext cx="538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FECTO REGULADO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2" name=""/>
          <p:cNvSpPr/>
          <p:nvPr/>
        </p:nvSpPr>
        <p:spPr>
          <a:xfrm rot="8224200">
            <a:off x="4876560" y="1904760"/>
            <a:ext cx="914400" cy="685800"/>
          </a:xfrm>
          <a:custGeom>
            <a:avLst/>
            <a:gdLst>
              <a:gd name="textAreaLeft" fmla="*/ 114120 w 914400"/>
              <a:gd name="textAreaRight" fmla="*/ 800280 w 9144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7" dur="indefinite" restart="never" nodeType="tmRoot">
          <p:childTnLst>
            <p:seq>
              <p:cTn id="1848" dur="indefinite" nodeType="mainSeq">
                <p:childTnLst>
                  <p:par>
                    <p:cTn id="1849" fill="hold">
                      <p:stCondLst>
                        <p:cond delay="0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685800" y="6858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Arial"/>
              </a:rPr>
              <a:t>EMBALSES SIN PENDIENTE Y SIN CONTROL DE CAUDAL (SIN COMPUERTA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95280" y="2209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Arial"/>
              </a:rPr>
              <a:t>MUSKINGUM (X=0), WILSON  O GOODRI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143000" y="3886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 rot="8759400">
            <a:off x="5638680" y="2895120"/>
            <a:ext cx="1447920" cy="60984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3" dur="indefinite" restart="never" nodeType="tmRoot">
          <p:childTnLst>
            <p:seq>
              <p:cTn id="1884" dur="indefinite" nodeType="mainSeq">
                <p:childTnLst>
                  <p:par>
                    <p:cTn id="1885" fill="hold">
                      <p:stCondLst>
                        <p:cond delay="0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fill="hold">
                            <p:stCondLst>
                              <p:cond delay="500"/>
                            </p:stCondLst>
                            <p:childTnLst>
                              <p:par>
                                <p:cTn id="18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838080" y="5029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838080" y="5029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9" name=""/>
          <p:cNvSpPr/>
          <p:nvPr/>
        </p:nvSpPr>
        <p:spPr>
          <a:xfrm>
            <a:off x="990720" y="2666880"/>
            <a:ext cx="2438280" cy="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990720" y="609480"/>
            <a:ext cx="0" cy="381024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990720" y="4343400"/>
            <a:ext cx="61722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90720" y="1066680"/>
            <a:ext cx="3809880" cy="3276720"/>
          </a:xfrm>
          <a:custGeom>
            <a:avLst/>
            <a:gdLst/>
            <a:ahLst/>
            <a:rect l="l" t="t" r="r" b="b"/>
            <a:pathLst>
              <a:path w="2400" h="2064">
                <a:moveTo>
                  <a:pt x="0" y="2064"/>
                </a:moveTo>
                <a:cubicBezTo>
                  <a:pt x="24" y="1964"/>
                  <a:pt x="48" y="1864"/>
                  <a:pt x="144" y="1680"/>
                </a:cubicBezTo>
                <a:cubicBezTo>
                  <a:pt x="240" y="1496"/>
                  <a:pt x="328" y="1208"/>
                  <a:pt x="576" y="960"/>
                </a:cubicBezTo>
                <a:cubicBezTo>
                  <a:pt x="824" y="712"/>
                  <a:pt x="1328" y="352"/>
                  <a:pt x="1632" y="192"/>
                </a:cubicBezTo>
                <a:cubicBezTo>
                  <a:pt x="1936" y="32"/>
                  <a:pt x="2168" y="16"/>
                  <a:pt x="240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66680" y="990720"/>
            <a:ext cx="5181840" cy="3352680"/>
          </a:xfrm>
          <a:custGeom>
            <a:avLst/>
            <a:gdLst/>
            <a:ahLst/>
            <a:rect l="l" t="t" r="r" b="b"/>
            <a:pathLst>
              <a:path w="3264" h="2112">
                <a:moveTo>
                  <a:pt x="0" y="2112"/>
                </a:moveTo>
                <a:cubicBezTo>
                  <a:pt x="108" y="1968"/>
                  <a:pt x="216" y="1824"/>
                  <a:pt x="384" y="1680"/>
                </a:cubicBezTo>
                <a:cubicBezTo>
                  <a:pt x="552" y="1536"/>
                  <a:pt x="728" y="1384"/>
                  <a:pt x="1008" y="1248"/>
                </a:cubicBezTo>
                <a:cubicBezTo>
                  <a:pt x="1288" y="1112"/>
                  <a:pt x="1760" y="1016"/>
                  <a:pt x="2064" y="864"/>
                </a:cubicBezTo>
                <a:cubicBezTo>
                  <a:pt x="2368" y="712"/>
                  <a:pt x="2632" y="480"/>
                  <a:pt x="2832" y="336"/>
                </a:cubicBezTo>
                <a:cubicBezTo>
                  <a:pt x="3032" y="192"/>
                  <a:pt x="3148" y="96"/>
                  <a:pt x="3264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66680" y="685800"/>
            <a:ext cx="6946920" cy="3657600"/>
          </a:xfrm>
          <a:custGeom>
            <a:avLst/>
            <a:gdLst/>
            <a:ahLst/>
            <a:rect l="l" t="t" r="r" b="b"/>
            <a:pathLst>
              <a:path w="4376" h="2304">
                <a:moveTo>
                  <a:pt x="0" y="2304"/>
                </a:moveTo>
                <a:cubicBezTo>
                  <a:pt x="220" y="2152"/>
                  <a:pt x="440" y="2000"/>
                  <a:pt x="768" y="1872"/>
                </a:cubicBezTo>
                <a:cubicBezTo>
                  <a:pt x="1096" y="1744"/>
                  <a:pt x="1576" y="1624"/>
                  <a:pt x="1968" y="1536"/>
                </a:cubicBezTo>
                <a:cubicBezTo>
                  <a:pt x="2360" y="1448"/>
                  <a:pt x="2824" y="1448"/>
                  <a:pt x="3120" y="1344"/>
                </a:cubicBezTo>
                <a:cubicBezTo>
                  <a:pt x="3416" y="1240"/>
                  <a:pt x="3552" y="1096"/>
                  <a:pt x="3744" y="912"/>
                </a:cubicBezTo>
                <a:cubicBezTo>
                  <a:pt x="3936" y="728"/>
                  <a:pt x="4168" y="392"/>
                  <a:pt x="4272" y="240"/>
                </a:cubicBezTo>
                <a:cubicBezTo>
                  <a:pt x="4376" y="88"/>
                  <a:pt x="4372" y="44"/>
                  <a:pt x="4368" y="0"/>
                </a:cubicBezTo>
              </a:path>
            </a:pathLst>
          </a:custGeom>
          <a:noFill/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371600" y="685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38880" y="4267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, </a:t>
            </a:r>
            <a:r>
              <a:rPr b="1" lang="es-ES_tradnl" sz="2400" spc="-1" strike="noStrike">
                <a:solidFill>
                  <a:srgbClr val="ccccff"/>
                </a:solidFill>
                <a:latin typeface="Times New Roman"/>
              </a:rPr>
              <a:t>S,</a:t>
            </a:r>
            <a:r>
              <a:rPr b="1" lang="es-ES_tradnl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2S/</a:t>
            </a:r>
            <a:r>
              <a:rPr b="1" lang="es-ES_tradnl" sz="2400" spc="-1" strike="noStrike">
                <a:solidFill>
                  <a:srgbClr val="00cc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cc99"/>
                </a:solidFill>
                <a:latin typeface="Verdana"/>
              </a:rPr>
              <a:t>t +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76720" y="838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199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238880" y="2133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2S/</a:t>
            </a:r>
            <a:r>
              <a:rPr b="1" lang="es-ES_tradnl" sz="2400" spc="-1" strike="noStrike">
                <a:solidFill>
                  <a:srgbClr val="00cc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cc99"/>
                </a:solidFill>
                <a:latin typeface="Verdana"/>
              </a:rPr>
              <a:t>t +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52280" y="2438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990720" y="2666880"/>
            <a:ext cx="838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828800" y="2666880"/>
            <a:ext cx="0" cy="1676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00200" y="4648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352680" y="2743200"/>
            <a:ext cx="0" cy="160020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4572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Times New Roman"/>
              </a:rPr>
              <a:t>S</a:t>
            </a:r>
            <a:r>
              <a:rPr b="1" lang="es-ES_tradnl" sz="2400" spc="-1" strike="noStrike" baseline="-25000">
                <a:solidFill>
                  <a:srgbClr val="cccc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038480" y="4572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2S</a:t>
            </a:r>
            <a:r>
              <a:rPr b="1" lang="es-ES_tradnl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/</a:t>
            </a:r>
            <a:r>
              <a:rPr b="1" lang="es-ES_tradnl" sz="2400" spc="-1" strike="noStrike">
                <a:solidFill>
                  <a:srgbClr val="00cc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t +Q</a:t>
            </a:r>
            <a:r>
              <a:rPr b="1" lang="es-ES_tradnl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4800600" y="3048120"/>
            <a:ext cx="0" cy="1295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1523880" y="3048120"/>
            <a:ext cx="327672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523880" y="3048120"/>
            <a:ext cx="0" cy="1295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182960" y="4313160"/>
            <a:ext cx="579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cc99"/>
                </a:solidFill>
                <a:latin typeface="Copperplate Gothic Bold"/>
              </a:rPr>
              <a:t>Q</a:t>
            </a:r>
            <a:r>
              <a:rPr b="1" lang="es-ES_tradnl" sz="2800" spc="-1" strike="noStrike" baseline="-25000">
                <a:solidFill>
                  <a:srgbClr val="00cc99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8" dur="indefinite" restart="never" nodeType="tmRoot">
          <p:childTnLst>
            <p:seq>
              <p:cTn id="1899" dur="indefinite" nodeType="mainSeq">
                <p:childTnLst>
                  <p:par>
                    <p:cTn id="1900" fill="hold">
                      <p:stCondLst>
                        <p:cond delay="0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6" fill="hold">
                            <p:stCondLst>
                              <p:cond delay="500"/>
                            </p:stCondLst>
                            <p:childTnLst>
                              <p:par>
                                <p:cTn id="19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500"/>
                            </p:stCondLst>
                            <p:childTnLst>
                              <p:par>
                                <p:cTn id="1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4500"/>
                            </p:stCondLst>
                            <p:childTnLst>
                              <p:par>
                                <p:cTn id="19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500"/>
                            </p:stCondLst>
                            <p:childTnLst>
                              <p:par>
                                <p:cTn id="195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7" fill="hold">
                            <p:stCondLst>
                              <p:cond delay="500"/>
                            </p:stCondLst>
                            <p:childTnLst>
                              <p:par>
                                <p:cTn id="19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9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762120" y="4572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ccff"/>
                </a:solidFill>
                <a:latin typeface="Arial"/>
              </a:rPr>
              <a:t>EMBALSES CON CONTROL ARTIFICIAL 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14400" y="2514600"/>
            <a:ext cx="1752480" cy="2438280"/>
          </a:xfrm>
          <a:custGeom>
            <a:avLst/>
            <a:gdLst/>
            <a:ahLst/>
            <a:rect l="l" t="t" r="r" b="b"/>
            <a:pathLst>
              <a:path w="816" h="912">
                <a:moveTo>
                  <a:pt x="0" y="912"/>
                </a:moveTo>
                <a:lnTo>
                  <a:pt x="0" y="96"/>
                </a:lnTo>
                <a:lnTo>
                  <a:pt x="48" y="0"/>
                </a:lnTo>
                <a:lnTo>
                  <a:pt x="192" y="0"/>
                </a:lnTo>
                <a:lnTo>
                  <a:pt x="384" y="96"/>
                </a:lnTo>
                <a:lnTo>
                  <a:pt x="528" y="336"/>
                </a:lnTo>
                <a:lnTo>
                  <a:pt x="720" y="672"/>
                </a:lnTo>
                <a:lnTo>
                  <a:pt x="816" y="864"/>
                </a:lnTo>
              </a:path>
            </a:pathLst>
          </a:custGeom>
          <a:solidFill>
            <a:srgbClr val="00cc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0" y="1905120"/>
            <a:ext cx="1676520" cy="533160"/>
            <a:chOff x="0" y="1905120"/>
            <a:chExt cx="1676520" cy="533160"/>
          </a:xfrm>
        </p:grpSpPr>
        <p:sp>
          <p:nvSpPr>
            <p:cNvPr id="524" name=""/>
            <p:cNvSpPr/>
            <p:nvPr/>
          </p:nvSpPr>
          <p:spPr>
            <a:xfrm>
              <a:off x="914400" y="1905120"/>
              <a:ext cx="266760" cy="533160"/>
            </a:xfrm>
            <a:custGeom>
              <a:avLst/>
              <a:gdLst/>
              <a:ahLst/>
              <a:rect l="l" t="t" r="r" b="b"/>
              <a:pathLst>
                <a:path w="168" h="336">
                  <a:moveTo>
                    <a:pt x="168" y="0"/>
                  </a:moveTo>
                  <a:cubicBezTo>
                    <a:pt x="108" y="44"/>
                    <a:pt x="48" y="88"/>
                    <a:pt x="24" y="144"/>
                  </a:cubicBezTo>
                  <a:cubicBezTo>
                    <a:pt x="0" y="200"/>
                    <a:pt x="12" y="268"/>
                    <a:pt x="24" y="336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0" y="1981080"/>
              <a:ext cx="1676520" cy="457200"/>
              <a:chOff x="0" y="1981080"/>
              <a:chExt cx="1676520" cy="457200"/>
            </a:xfrm>
          </p:grpSpPr>
          <p:sp>
            <p:nvSpPr>
              <p:cNvPr id="526" name=""/>
              <p:cNvSpPr/>
              <p:nvPr/>
            </p:nvSpPr>
            <p:spPr>
              <a:xfrm flipV="1">
                <a:off x="990720" y="2286000"/>
                <a:ext cx="685800" cy="763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143000" y="1981080"/>
                <a:ext cx="533520" cy="3049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0" y="2133720"/>
                <a:ext cx="9907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2286000"/>
                <a:ext cx="5335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0" y="2438280"/>
                <a:ext cx="3049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1" name=""/>
          <p:cNvSpPr/>
          <p:nvPr/>
        </p:nvSpPr>
        <p:spPr>
          <a:xfrm>
            <a:off x="5715000" y="2438280"/>
            <a:ext cx="1752480" cy="2438640"/>
          </a:xfrm>
          <a:custGeom>
            <a:avLst/>
            <a:gdLst/>
            <a:ahLst/>
            <a:rect l="l" t="t" r="r" b="b"/>
            <a:pathLst>
              <a:path w="816" h="912">
                <a:moveTo>
                  <a:pt x="0" y="912"/>
                </a:moveTo>
                <a:lnTo>
                  <a:pt x="0" y="96"/>
                </a:lnTo>
                <a:lnTo>
                  <a:pt x="48" y="0"/>
                </a:lnTo>
                <a:lnTo>
                  <a:pt x="192" y="0"/>
                </a:lnTo>
                <a:lnTo>
                  <a:pt x="384" y="96"/>
                </a:lnTo>
                <a:lnTo>
                  <a:pt x="528" y="336"/>
                </a:lnTo>
                <a:lnTo>
                  <a:pt x="720" y="672"/>
                </a:lnTo>
                <a:lnTo>
                  <a:pt x="816" y="864"/>
                </a:lnTo>
              </a:path>
            </a:pathLst>
          </a:custGeom>
          <a:solidFill>
            <a:srgbClr val="00cc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15000" y="4114800"/>
            <a:ext cx="22096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724280" y="2209680"/>
            <a:ext cx="2438640" cy="533520"/>
          </a:xfrm>
          <a:custGeom>
            <a:avLst/>
            <a:gdLst/>
            <a:ahLst/>
            <a:rect l="l" t="t" r="r" b="b"/>
            <a:pathLst>
              <a:path w="2592" h="336">
                <a:moveTo>
                  <a:pt x="0" y="48"/>
                </a:moveTo>
                <a:cubicBezTo>
                  <a:pt x="648" y="24"/>
                  <a:pt x="1296" y="0"/>
                  <a:pt x="1728" y="48"/>
                </a:cubicBezTo>
                <a:cubicBezTo>
                  <a:pt x="2160" y="96"/>
                  <a:pt x="2376" y="216"/>
                  <a:pt x="2592" y="336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238880" y="41148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7315200" y="3886200"/>
            <a:ext cx="0" cy="3808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238880" y="3886200"/>
            <a:ext cx="22860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924680" y="411480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924680" y="419112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848720" y="419112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924680" y="426708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206280" y="5029200"/>
                <a:ext cx="827568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2" name=""/>
          <p:cNvSpPr/>
          <p:nvPr/>
        </p:nvSpPr>
        <p:spPr>
          <a:xfrm flipV="1">
            <a:off x="2819520" y="2133720"/>
            <a:ext cx="761760" cy="320040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244960" y="894240"/>
            <a:ext cx="59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Caudal promedio regulado en </a:t>
            </a:r>
            <a:r>
              <a:rPr b="1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por los mecanismos de contro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0" dur="indefinite" restart="never" nodeType="tmRoot">
          <p:childTnLst>
            <p:seq>
              <p:cTn id="2021" dur="indefinite" nodeType="mainSeq">
                <p:childTnLst>
                  <p:par>
                    <p:cTn id="2022" fill="hold">
                      <p:stCondLst>
                        <p:cond delay="0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8" fill="hold">
                            <p:stCondLst>
                              <p:cond delay="500"/>
                            </p:stCondLst>
                            <p:childTnLst>
                              <p:par>
                                <p:cTn id="20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500"/>
                            </p:stCondLst>
                            <p:childTnLst>
                              <p:par>
                                <p:cTn id="20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0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1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4" name=""/>
          <p:cNvGraphicFramePr/>
          <p:nvPr/>
        </p:nvGraphicFramePr>
        <p:xfrm>
          <a:off x="1295280" y="352440"/>
          <a:ext cx="6400800" cy="600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52440"/>
                    <a:ext cx="6400800" cy="60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5" dur="indefinite" restart="never" nodeType="tmRoot">
          <p:childTnLst>
            <p:seq>
              <p:cTn id="2126" dur="indefinite" nodeType="mainSeq">
                <p:childTnLst>
                  <p:par>
                    <p:cTn id="2127" fill="hold">
                      <p:stCondLst>
                        <p:cond delay="0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PEGI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6126120" cy="29084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133720" y="3962520"/>
            <a:ext cx="6126120" cy="27241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3962520" cy="1881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676520" y="3581280"/>
            <a:ext cx="67356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971800" cy="14115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7235640" cy="47545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1400" y="1093320"/>
            <a:ext cx="8925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tiempo de viaje importante (canal largo y de poca sec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transversal)</a:t>
            </a:r>
            <a:r>
              <a:rPr b="1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desfase I-Q, cuando no hay variación de 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2478600"/>
            <a:ext cx="8584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tramo corto y gran volumen (embalse) </a:t>
            </a:r>
            <a:r>
              <a:rPr b="1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prácticam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no hay translación, sólo cambio de for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981080" y="3886200"/>
                <a:ext cx="261648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1523880" y="5105520"/>
            <a:ext cx="1067040" cy="533160"/>
          </a:xfrm>
          <a:custGeom>
            <a:avLst/>
            <a:gdLst>
              <a:gd name="textAreaLeft" fmla="*/ 355680 w 1067040"/>
              <a:gd name="textAreaRight" fmla="*/ 914040 w 106704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5040" y="4979520"/>
            <a:ext cx="1570680" cy="1015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Tiempo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viaj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048120" y="5456160"/>
                <a:ext cx="175248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4800600" y="4419720"/>
            <a:ext cx="3200400" cy="2209680"/>
          </a:xfrm>
          <a:custGeom>
            <a:avLst/>
            <a:gdLst>
              <a:gd name="textAreaLeft" fmla="*/ 428760 w 3200400"/>
              <a:gd name="textAreaRight" fmla="*/ 2771640 w 3200400"/>
              <a:gd name="textAreaTop" fmla="*/ 386640 h 2209680"/>
              <a:gd name="textAreaBottom" fmla="*/ 16020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16000" y="976680"/>
            <a:ext cx="8359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mbalse con superficie libre horizontal </a:t>
            </a:r>
            <a:r>
              <a:rPr b="0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iempo desfase nulo pa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nicio de crecida (si I aumenta </a:t>
            </a:r>
            <a:r>
              <a:rPr b="0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 aument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demás, Caudal máximo (dQ/dt=0) de salida ocurre cuan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 curva de recesión de I intersecta el hidrograma de sali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4114800"/>
            <a:ext cx="228600" cy="1522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029200" y="3124080"/>
            <a:ext cx="76320" cy="7621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95280" y="3441600"/>
            <a:ext cx="7213680" cy="2578320"/>
            <a:chOff x="1295280" y="3441600"/>
            <a:chExt cx="7213680" cy="2578320"/>
          </a:xfrm>
        </p:grpSpPr>
        <p:sp>
          <p:nvSpPr>
            <p:cNvPr id="154" name=""/>
            <p:cNvSpPr/>
            <p:nvPr/>
          </p:nvSpPr>
          <p:spPr>
            <a:xfrm>
              <a:off x="1295280" y="3467160"/>
              <a:ext cx="6794640" cy="2095560"/>
            </a:xfrm>
            <a:custGeom>
              <a:avLst/>
              <a:gdLst/>
              <a:ahLst/>
              <a:rect l="l" t="t" r="r" b="b"/>
              <a:pathLst>
                <a:path w="4280" h="1320">
                  <a:moveTo>
                    <a:pt x="0" y="1320"/>
                  </a:moveTo>
                  <a:cubicBezTo>
                    <a:pt x="160" y="1320"/>
                    <a:pt x="320" y="1320"/>
                    <a:pt x="480" y="1272"/>
                  </a:cubicBezTo>
                  <a:cubicBezTo>
                    <a:pt x="640" y="1224"/>
                    <a:pt x="792" y="1176"/>
                    <a:pt x="960" y="1032"/>
                  </a:cubicBezTo>
                  <a:cubicBezTo>
                    <a:pt x="1128" y="888"/>
                    <a:pt x="1336" y="576"/>
                    <a:pt x="1488" y="408"/>
                  </a:cubicBezTo>
                  <a:cubicBezTo>
                    <a:pt x="1640" y="240"/>
                    <a:pt x="1752" y="48"/>
                    <a:pt x="1872" y="24"/>
                  </a:cubicBezTo>
                  <a:cubicBezTo>
                    <a:pt x="1992" y="0"/>
                    <a:pt x="2080" y="144"/>
                    <a:pt x="2208" y="264"/>
                  </a:cubicBezTo>
                  <a:cubicBezTo>
                    <a:pt x="2336" y="384"/>
                    <a:pt x="2464" y="616"/>
                    <a:pt x="2640" y="744"/>
                  </a:cubicBezTo>
                  <a:cubicBezTo>
                    <a:pt x="2816" y="872"/>
                    <a:pt x="3016" y="960"/>
                    <a:pt x="3264" y="1032"/>
                  </a:cubicBezTo>
                  <a:cubicBezTo>
                    <a:pt x="3512" y="1104"/>
                    <a:pt x="3976" y="1152"/>
                    <a:pt x="4128" y="1176"/>
                  </a:cubicBezTo>
                  <a:cubicBezTo>
                    <a:pt x="4280" y="1200"/>
                    <a:pt x="4228" y="1188"/>
                    <a:pt x="4176" y="1176"/>
                  </a:cubicBez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23880" y="4138560"/>
              <a:ext cx="6985080" cy="1424160"/>
            </a:xfrm>
            <a:custGeom>
              <a:avLst/>
              <a:gdLst/>
              <a:ahLst/>
              <a:rect l="l" t="t" r="r" b="b"/>
              <a:pathLst>
                <a:path w="4400" h="897">
                  <a:moveTo>
                    <a:pt x="0" y="897"/>
                  </a:moveTo>
                  <a:cubicBezTo>
                    <a:pt x="106" y="887"/>
                    <a:pt x="427" y="880"/>
                    <a:pt x="637" y="839"/>
                  </a:cubicBezTo>
                  <a:cubicBezTo>
                    <a:pt x="847" y="798"/>
                    <a:pt x="1097" y="728"/>
                    <a:pt x="1262" y="652"/>
                  </a:cubicBezTo>
                  <a:cubicBezTo>
                    <a:pt x="1427" y="576"/>
                    <a:pt x="1472" y="489"/>
                    <a:pt x="1627" y="385"/>
                  </a:cubicBezTo>
                  <a:cubicBezTo>
                    <a:pt x="1782" y="281"/>
                    <a:pt x="1975" y="56"/>
                    <a:pt x="2194" y="28"/>
                  </a:cubicBezTo>
                  <a:cubicBezTo>
                    <a:pt x="2413" y="0"/>
                    <a:pt x="2745" y="159"/>
                    <a:pt x="2940" y="214"/>
                  </a:cubicBezTo>
                  <a:cubicBezTo>
                    <a:pt x="3135" y="269"/>
                    <a:pt x="3221" y="310"/>
                    <a:pt x="3362" y="360"/>
                  </a:cubicBezTo>
                  <a:cubicBezTo>
                    <a:pt x="3503" y="410"/>
                    <a:pt x="3611" y="463"/>
                    <a:pt x="3784" y="514"/>
                  </a:cubicBezTo>
                  <a:cubicBezTo>
                    <a:pt x="3957" y="565"/>
                    <a:pt x="4272" y="636"/>
                    <a:pt x="4400" y="668"/>
                  </a:cubicBezTo>
                </a:path>
              </a:pathLst>
            </a:custGeom>
            <a:noFill/>
            <a:ln cap="sq" w="381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3441600"/>
              <a:ext cx="3429000" cy="2121120"/>
            </a:xfrm>
            <a:custGeom>
              <a:avLst/>
              <a:gdLst/>
              <a:ahLst/>
              <a:rect l="l" t="t" r="r" b="b"/>
              <a:pathLst>
                <a:path w="2160" h="1336">
                  <a:moveTo>
                    <a:pt x="0" y="1336"/>
                  </a:moveTo>
                  <a:cubicBezTo>
                    <a:pt x="101" y="1328"/>
                    <a:pt x="405" y="1325"/>
                    <a:pt x="606" y="1286"/>
                  </a:cubicBezTo>
                  <a:cubicBezTo>
                    <a:pt x="807" y="1247"/>
                    <a:pt x="1043" y="1179"/>
                    <a:pt x="1206" y="1099"/>
                  </a:cubicBezTo>
                  <a:cubicBezTo>
                    <a:pt x="1369" y="1019"/>
                    <a:pt x="1457" y="904"/>
                    <a:pt x="1584" y="808"/>
                  </a:cubicBezTo>
                  <a:cubicBezTo>
                    <a:pt x="1711" y="712"/>
                    <a:pt x="1872" y="584"/>
                    <a:pt x="1968" y="520"/>
                  </a:cubicBezTo>
                  <a:cubicBezTo>
                    <a:pt x="2064" y="456"/>
                    <a:pt x="2160" y="472"/>
                    <a:pt x="2160" y="424"/>
                  </a:cubicBezTo>
                  <a:cubicBezTo>
                    <a:pt x="2160" y="376"/>
                    <a:pt x="2032" y="296"/>
                    <a:pt x="1968" y="232"/>
                  </a:cubicBezTo>
                  <a:cubicBezTo>
                    <a:pt x="1904" y="168"/>
                    <a:pt x="1832" y="72"/>
                    <a:pt x="1776" y="40"/>
                  </a:cubicBezTo>
                  <a:cubicBezTo>
                    <a:pt x="1720" y="8"/>
                    <a:pt x="1696" y="0"/>
                    <a:pt x="1632" y="40"/>
                  </a:cubicBezTo>
                  <a:cubicBezTo>
                    <a:pt x="1568" y="80"/>
                    <a:pt x="1480" y="184"/>
                    <a:pt x="1392" y="280"/>
                  </a:cubicBezTo>
                  <a:cubicBezTo>
                    <a:pt x="1304" y="376"/>
                    <a:pt x="1203" y="489"/>
                    <a:pt x="1104" y="616"/>
                  </a:cubicBezTo>
                  <a:cubicBezTo>
                    <a:pt x="1005" y="743"/>
                    <a:pt x="918" y="937"/>
                    <a:pt x="800" y="1043"/>
                  </a:cubicBezTo>
                  <a:cubicBezTo>
                    <a:pt x="682" y="1149"/>
                    <a:pt x="520" y="1204"/>
                    <a:pt x="395" y="1253"/>
                  </a:cubicBezTo>
                  <a:cubicBezTo>
                    <a:pt x="270" y="1302"/>
                    <a:pt x="120" y="1319"/>
                    <a:pt x="48" y="1336"/>
                  </a:cubicBezTo>
                </a:path>
              </a:pathLst>
            </a:custGeom>
            <a:solidFill>
              <a:srgbClr val="ccecff"/>
            </a:solidFill>
            <a:ln cap="sq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09880" y="4648320"/>
              <a:ext cx="685800" cy="13716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63640" y="6057000"/>
            <a:ext cx="60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lmacenamiento (efecto regulador del embals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566000" y="1056960"/>
            <a:ext cx="5859000" cy="157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pperplate Gothic Bold"/>
              </a:rPr>
              <a:t>Si nivel superficie libre es horizonta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pperplate Gothic Bold"/>
              </a:rPr>
              <a:t>y velocidades de traslación son baja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pperplate Gothic Bold"/>
              </a:rPr>
              <a:t>(cauces anchos y corto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2895480"/>
            <a:ext cx="1676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08080" y="3423600"/>
            <a:ext cx="5121360" cy="1015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xiste relación única entre Q y 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(no necesariamente line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09480" y="4419720"/>
            <a:ext cx="0" cy="220968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6629400"/>
            <a:ext cx="281952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4556160"/>
            <a:ext cx="2968920" cy="2073240"/>
          </a:xfrm>
          <a:custGeom>
            <a:avLst/>
            <a:gdLst/>
            <a:ahLst/>
            <a:rect l="l" t="t" r="r" b="b"/>
            <a:pathLst>
              <a:path w="1870" h="1306">
                <a:moveTo>
                  <a:pt x="0" y="1306"/>
                </a:moveTo>
                <a:cubicBezTo>
                  <a:pt x="16" y="1266"/>
                  <a:pt x="32" y="1226"/>
                  <a:pt x="96" y="1114"/>
                </a:cubicBezTo>
                <a:cubicBezTo>
                  <a:pt x="160" y="1002"/>
                  <a:pt x="240" y="778"/>
                  <a:pt x="384" y="634"/>
                </a:cubicBezTo>
                <a:cubicBezTo>
                  <a:pt x="528" y="490"/>
                  <a:pt x="769" y="343"/>
                  <a:pt x="960" y="250"/>
                </a:cubicBezTo>
                <a:cubicBezTo>
                  <a:pt x="1151" y="157"/>
                  <a:pt x="1378" y="115"/>
                  <a:pt x="1530" y="73"/>
                </a:cubicBezTo>
                <a:cubicBezTo>
                  <a:pt x="1682" y="31"/>
                  <a:pt x="1799" y="15"/>
                  <a:pt x="1870" y="0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343400" y="4495320"/>
            <a:ext cx="0" cy="221004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6705720"/>
            <a:ext cx="281952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343400" y="5715000"/>
            <a:ext cx="533520" cy="990720"/>
          </a:xfrm>
          <a:prstGeom prst="line">
            <a:avLst/>
          </a:prstGeom>
          <a:ln cap="sq"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876920" y="5181480"/>
            <a:ext cx="609480" cy="533520"/>
          </a:xfrm>
          <a:prstGeom prst="line">
            <a:avLst/>
          </a:prstGeom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486400" y="4571640"/>
            <a:ext cx="1828800" cy="609480"/>
          </a:xfrm>
          <a:prstGeom prst="line">
            <a:avLst/>
          </a:prstGeom>
          <a:ln cap="sq"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541008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563868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22880" y="4947480"/>
            <a:ext cx="179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Si </a:t>
            </a: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Q no 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importa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772400" y="5943600"/>
            <a:ext cx="6094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70240" y="6361560"/>
            <a:ext cx="9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Q=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50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5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8000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500"/>
                            </p:stCondLst>
                            <p:childTnLst>
                              <p:par>
                                <p:cTn id="3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2T12:23:37Z</dcterms:created>
  <dc:creator>Guillermo Osses</dc:creator>
  <dc:description/>
  <dc:language>en-US</dc:language>
  <cp:lastModifiedBy>xv</cp:lastModifiedBy>
  <dcterms:modified xsi:type="dcterms:W3CDTF">2005-06-13T15:54:15Z</dcterms:modified>
  <cp:revision>25</cp:revision>
  <dc:subject/>
  <dc:title>TEMARIO DEL TRABAJO DE TÍTULO </dc:title>
</cp:coreProperties>
</file>