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ungle%20Restore%20Up.wav" ContentType="audio/x-wav"/>
  <Override PartName="/ppt/media/image5.jpeg" ContentType="image/jpeg"/>
  <Override PartName="/ppt/media/image9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06E-5211-44E1-AF3D-51DBE36F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17C-4C30-4549-8A8E-188AC3BF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2FC-DBE1-4EF0-924F-E65ABC17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6F5-CB88-411E-89DB-8F2349E0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7AD-2D2B-401E-841D-9CD9162C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5B9-1B56-44E7-ABBC-82F41BF5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93E-C9E2-415B-9E9F-51B788BD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A70-5D0B-4F60-AA1D-75F5CFD3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99D-5247-430A-8842-C6FA6435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8B0-0097-49B1-8630-7F52D3F5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226-F859-426B-8045-10CEDEF8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A6F-BBE0-4AA8-8051-AA69BB98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7E98-6A70-4346-9397-F4996939A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xv</cp:lastModifiedBy>
  <dcterms:modified xsi:type="dcterms:W3CDTF">2005-06-03T14:26:44Z</dcterms:modified>
  <cp:revision>12</cp:revision>
  <dc:subject/>
  <dc:title>CAPITULO 8</dc:title>
</cp:coreProperties>
</file>