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6E0-F290-4E66-8D94-986CC54A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E9A-90B8-4C31-A213-87B65165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382-6DDD-4944-AD1A-48D338F8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BFF-C26A-4930-B093-689BC4A7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333-7CAB-444A-8062-43DB9865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73E4-94FD-4040-9557-4D5E6C69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0AC-E03E-4682-805D-D440029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47C-6DF5-4F07-8E03-817D3B66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765-60A4-4732-B101-EADC210B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C53-9A7C-485D-AF6C-32F48D5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946-103B-42A2-84BE-4E5B50D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9BF-A025-4C41-A4B2-8751CF2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4612-6694-4264-B5E3-E68772B2B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v</cp:lastModifiedBy>
  <dcterms:modified xsi:type="dcterms:W3CDTF">2005-06-03T14:26:44Z</dcterms:modified>
  <cp:revision>12</cp:revision>
  <dc:subject/>
  <dc:title>CAPITULO 8</dc:title>
</cp:coreProperties>
</file>