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C3D-DD0D-493C-8B9E-C4DFBBD3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3CB-90D2-4E72-8EEC-CF498B8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273-37A2-45D2-9746-FF8F92C5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A51-9120-4179-A5AD-C0062EF3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B53-5C8D-4B70-8B1F-BF4613D4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DE2-0462-429E-92CD-DC1AB372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21E-DB11-4F31-BED5-A6427CEE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AA0-BB5A-4B58-920F-E1AD6594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67A-DF01-4972-89AE-401BF5D6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9F0-E0A8-41A7-B715-21269AB2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4C3-255E-48AE-9719-CB1ACB20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CAF-440F-4985-82DC-77CAA2BE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7FF8-D057-48E1-8E91-9FDA9B1B5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xv</cp:lastModifiedBy>
  <dcterms:modified xsi:type="dcterms:W3CDTF">2005-06-03T14:26:44Z</dcterms:modified>
  <cp:revision>12</cp:revision>
  <dc:subject/>
  <dc:title>CAPITULO 8</dc:title>
</cp:coreProperties>
</file>