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66D-334A-41E2-A675-08E2978D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2E6-5476-44DE-8E5B-B40C4ADE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5AA-6172-4F93-B5E5-C097AE80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9D3-6AF9-4BA0-B0C4-FC9AB9A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E16-5F71-4D3E-B7E7-11E30E4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10-D8C6-4F03-8ACD-A1FC5C86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04B-2819-481D-AEB8-755FA95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BAE-1468-4142-B78C-62FA586C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06B-8CE2-49DD-AAE7-B631DB7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916-A6B8-47EF-92AB-6A6BCB2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D39-43A2-46D8-ADAE-1BEA7B2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63A-EDD0-4571-BCEA-CFBAE55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6DEC-3A31-4124-AEC4-6FE6572FF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v</cp:lastModifiedBy>
  <dcterms:modified xsi:type="dcterms:W3CDTF">2005-06-03T14:26:44Z</dcterms:modified>
  <cp:revision>12</cp:revision>
  <dc:subject/>
  <dc:title>CAPITULO 8</dc:title>
</cp:coreProperties>
</file>