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FF5-2784-4FF8-BF07-52E1847D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A4B-32F7-4A24-B156-AD420C5D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5EA-5C07-4D72-B345-A1715798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539-77F8-4B07-8CD2-8755C0A9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020-16DD-42DD-B500-F98F353C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2B1-2B4B-430A-A6A7-5B877612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2C6-52F0-44CA-8E2D-E78CDC5D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E41-4A8D-4665-955E-5381F573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63E-090F-40E7-A94D-D45B1E87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F94-8720-4EE7-A36A-E3F99DA5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AE9-03DA-427D-B3F7-E14D6D6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EE6-B174-44F9-9969-875BC264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E9FB-20AA-44D0-BD2A-F23E397DD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55623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40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6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7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xv</cp:lastModifiedBy>
  <dcterms:modified xsi:type="dcterms:W3CDTF">2005-06-13T15:53:15Z</dcterms:modified>
  <cp:revision>29</cp:revision>
  <dc:subject/>
  <dc:title>CAPITULO 8</dc:title>
</cp:coreProperties>
</file>