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B0D-7094-48E6-9E48-8FB042DB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0E3-2DB3-41A7-8933-7F9DD477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8D6-D3FB-44A2-B120-16FB56A6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DF3-4F39-43A7-92D6-1EAA0633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F9E-6247-45FE-A06C-5F682862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C99-90C3-4772-A6D9-4D14C871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0D3-20E0-4014-8E4C-0C5DEDAB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566-F265-4B8F-8BA3-2BDA5076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F52-69BF-4F32-9429-8EE04541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879-97FA-4B1F-8CF9-A9BC99A0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338-7BE5-4F2A-9EF5-B728FA32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7A2-071F-40FD-A0DA-FEE60DCC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7FCD-13EB-4D14-AED6-845E9D0A9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6-03T14:33:04Z</dcterms:modified>
  <cp:revision>1</cp:revision>
  <dc:subject/>
  <dc:title>Sin título de diapositiva</dc:title>
</cp:coreProperties>
</file>