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DAD-86D4-4C60-9664-6C8A7908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091-D3C1-4913-AD68-4834ABB6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694-D27B-485A-9FA7-E7F6A5CD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584-F8C0-455A-8F04-23DDE158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964-157F-4F04-BA72-76B51B24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C68-5398-4520-843A-1CF9A18A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2FE-9418-436C-BD65-62BCF0C2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6C9-959C-4DCD-8176-4D64400E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C14-EE89-4B30-94EE-C00EF9A6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C7F-B484-4D55-9638-BA69A20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FC0-0113-4DF4-8478-AAFC7671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261-FDB8-4B9F-A761-2056B109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DEDA-7CE6-4E90-8215-AE111C3FD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6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6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1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79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3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685800"/>
            <a:ext cx="7315200" cy="329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Fórmula de Verni y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1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16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Sala_B203</cp:lastModifiedBy>
  <dcterms:modified xsi:type="dcterms:W3CDTF">2005-11-04T16:34:41Z</dcterms:modified>
  <cp:revision>23</cp:revision>
  <dc:subject/>
  <dc:title>CAPITULO 8</dc:title>
</cp:coreProperties>
</file>