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925-F5DC-40B1-B459-73CB48EA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3EE-D551-4B12-9B47-03955488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995-3D80-4446-904C-C6FCEDC7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080-D94B-4D34-A05A-C4D5BE5F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B57-F828-4CC6-9EFE-591FAB46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4D4-5E9F-4F6C-AF0D-40A8C89B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117-6B1E-491A-B901-F87A3E8D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130-3DFA-44D2-ADE7-F4C1E2F5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7F9-BF3F-402E-9844-07DA3710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176-BF1C-476D-8772-BD8354DC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981-784B-41E6-B6AD-372DF2DA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E8F-6B6B-408E-A1B9-CB3A5D43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12D1-6599-4F0F-BE74-933A45932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6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1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79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3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685800"/>
            <a:ext cx="7315200" cy="329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 action="ppaction://hlinksldjump"/>
              </a:rPr>
              <a:t>Fórmula de Verni y </a:t>
            </a: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1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16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Sala_B203</cp:lastModifiedBy>
  <dcterms:modified xsi:type="dcterms:W3CDTF">2005-11-04T16:34:41Z</dcterms:modified>
  <cp:revision>23</cp:revision>
  <dc:subject/>
  <dc:title>CAPITULO 8</dc:title>
</cp:coreProperties>
</file>