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DDEB-40C5-4367-9BA7-2787DF527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3CE7-3262-4459-8AEB-A22011F98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4DEC-644B-49B2-9285-CEFDEFC4A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CF71-9004-4ECA-B865-4B0211364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3C29-3027-4864-847E-FED4F4895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FF01-8274-4829-9E6C-F29AD8171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2814-2BA0-44A6-B254-1028FC88A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9EEC-655D-48AC-AEAB-996AFF1DB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5FAB-670A-4745-88E4-CED716CEF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BF19-8C1F-4543-A637-840FB78EA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12D8-BB3B-4DA6-9BB6-5EF5F65DE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BD69-F91B-4AC2-827C-CAA60B653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4308D-CFD9-4E24-9832-9AC41628EC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33520" y="380880"/>
            <a:ext cx="8076960" cy="6019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572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ff"/>
                </a:solidFill>
                <a:latin typeface="Times New Roman"/>
              </a:rPr>
              <a:t>CAPITULO 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295280" y="556236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CONTINUA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685800" y="380880"/>
            <a:ext cx="51814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Fórmula de Verni y King (197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905120" y="1600200"/>
            <a:ext cx="4267080" cy="510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Q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Tahoma"/>
              </a:rPr>
              <a:t>T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=0,00615 P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Tahoma"/>
              </a:rPr>
              <a:t>24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 </a:t>
            </a:r>
            <a:r>
              <a:rPr b="1" lang="es-ES_tradnl" sz="2400" spc="-1" strike="noStrike" baseline="30000">
                <a:solidFill>
                  <a:srgbClr val="e1a3c2"/>
                </a:solidFill>
                <a:latin typeface="Tahoma"/>
              </a:rPr>
              <a:t>1,24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 A </a:t>
            </a:r>
            <a:r>
              <a:rPr b="1" lang="es-ES_tradnl" sz="2400" spc="-1" strike="noStrike" baseline="30000">
                <a:solidFill>
                  <a:srgbClr val="e1a3c2"/>
                </a:solidFill>
                <a:latin typeface="Tahoma"/>
              </a:rPr>
              <a:t>0,8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971800" y="266688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Area pluvial aport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90720" y="4343400"/>
            <a:ext cx="6553080" cy="174744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Tahoma"/>
              </a:rPr>
              <a:t>A base de análisis dimensional y con datos de estaciones de nuestro paí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Tahoma"/>
              </a:rPr>
              <a:t>Usar para períodos de retorno de más de 50 añ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838080" y="533520"/>
            <a:ext cx="4876920" cy="4597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Tahoma"/>
              </a:rPr>
              <a:t>Fórmula racional modific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828800" y="1371600"/>
            <a:ext cx="6629400" cy="174744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Tahoma"/>
              </a:rPr>
              <a:t>Se determina el coeficiente de escorrentía para T=10 años según tabla para cada región.  (en RM c=0,0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Tahoma"/>
              </a:rPr>
              <a:t>Luego c(T)/c(10) según tab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3733920"/>
            <a:ext cx="739152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Válido para cuencas entre 20 y 10.000 Km</a:t>
            </a:r>
            <a:r>
              <a:rPr b="1" lang="es-ES_tradnl" sz="2400" spc="-1" strike="noStrike" baseline="30000">
                <a:solidFill>
                  <a:srgbClr val="e1a3c2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38080" y="4572000"/>
            <a:ext cx="5943600" cy="4597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Tahoma"/>
              </a:rPr>
              <a:t>Fórmula de Verni y King modific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209680" y="5638680"/>
            <a:ext cx="5486400" cy="510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Q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Tahoma"/>
              </a:rPr>
              <a:t>T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=c(T) 0,00618 P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Tahoma"/>
              </a:rPr>
              <a:t>24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 </a:t>
            </a:r>
            <a:r>
              <a:rPr b="1" lang="es-ES_tradnl" sz="2400" spc="-1" strike="noStrike" baseline="30000">
                <a:solidFill>
                  <a:srgbClr val="e1a3c2"/>
                </a:solidFill>
                <a:latin typeface="Tahoma"/>
              </a:rPr>
              <a:t>1,24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 A </a:t>
            </a:r>
            <a:r>
              <a:rPr b="1" lang="es-ES_tradnl" sz="2400" spc="-1" strike="noStrike" baseline="30000">
                <a:solidFill>
                  <a:srgbClr val="e1a3c2"/>
                </a:solidFill>
                <a:latin typeface="Tahoma"/>
              </a:rPr>
              <a:t>0,8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>
            <a:hlinkClick r:id="rId1" action="ppaction://hlinksldjump"/>
          </p:cNvPr>
          <p:cNvSpPr/>
          <p:nvPr/>
        </p:nvSpPr>
        <p:spPr>
          <a:xfrm>
            <a:off x="8534520" y="6400800"/>
            <a:ext cx="380880" cy="45720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24">
                <a:moveTo>
                  <a:pt x="0" y="0"/>
                </a:moveTo>
                <a:lnTo>
                  <a:pt x="21600" y="0"/>
                </a:lnTo>
                <a:lnTo>
                  <a:pt x="21600" y="25924"/>
                </a:lnTo>
                <a:lnTo>
                  <a:pt x="0" y="25924"/>
                </a:lnTo>
                <a:close/>
              </a:path>
              <a:path fill="lightenLess" w="21600" h="259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24">
                <a:moveTo>
                  <a:pt x="21600" y="0"/>
                </a:moveTo>
                <a:lnTo>
                  <a:pt x="21600" y="25924"/>
                </a:lnTo>
                <a:lnTo>
                  <a:pt x="20200" y="24524"/>
                </a:lnTo>
                <a:lnTo>
                  <a:pt x="20200" y="1400"/>
                </a:lnTo>
                <a:close/>
              </a:path>
              <a:path fill="darkenLess" w="21600" h="25924">
                <a:moveTo>
                  <a:pt x="21600" y="25924"/>
                </a:moveTo>
                <a:lnTo>
                  <a:pt x="0" y="25924"/>
                </a:lnTo>
                <a:lnTo>
                  <a:pt x="1400" y="24524"/>
                </a:lnTo>
                <a:lnTo>
                  <a:pt x="20200" y="24524"/>
                </a:lnTo>
                <a:close/>
              </a:path>
              <a:path fill="lighten" w="21600" h="25924">
                <a:moveTo>
                  <a:pt x="0" y="259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24"/>
                </a:lnTo>
                <a:close/>
              </a:path>
              <a:path fill="darken" w="21600" h="25924">
                <a:moveTo>
                  <a:pt x="3794" y="12962"/>
                </a:moveTo>
                <a:lnTo>
                  <a:pt x="17806" y="5956"/>
                </a:lnTo>
                <a:lnTo>
                  <a:pt x="17806" y="19969"/>
                </a:lnTo>
                <a:close/>
              </a:path>
            </a:pathLst>
          </a:custGeom>
          <a:solidFill>
            <a:srgbClr val="e1a3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3733920"/>
            <a:ext cx="739152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Válido para cuencas entre 20 y 10.000 Km</a:t>
            </a:r>
            <a:r>
              <a:rPr b="1" lang="es-ES_tradnl" sz="2400" spc="-1" strike="noStrike" baseline="30000">
                <a:solidFill>
                  <a:srgbClr val="e1a3c2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828800" y="1371600"/>
            <a:ext cx="6629400" cy="174744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Tahoma"/>
              </a:rPr>
              <a:t>Se determina el coeficiente de escorrentía para T=10 años según tabla para cada región.  (en RM c=0,2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Tahoma"/>
              </a:rPr>
              <a:t>Luego c(T)/c(10) según tab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0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500"/>
                            </p:stCondLst>
                            <p:childTnLst>
                              <p:par>
                                <p:cTn id="49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500"/>
                            </p:stCondLst>
                            <p:childTnLst>
                              <p:par>
                                <p:cTn id="52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26" dur="1" fill="hold"/>
                                  <p:tgtEl>
                                    <p:spTgt spid="1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706400" y="663480"/>
            <a:ext cx="6294600" cy="50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290600" y="1150920"/>
            <a:ext cx="6556320" cy="45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914400" y="1066680"/>
            <a:ext cx="8058240" cy="44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838080" y="304920"/>
            <a:ext cx="7315200" cy="4597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Tahoma"/>
              </a:rPr>
              <a:t>Método del Hidrograma Unit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04920" y="4343400"/>
            <a:ext cx="274320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Sistema Lin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447920" y="114300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Modelo General de un Sistema Hidrológ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3809880" y="1779480"/>
                <a:ext cx="1905120" cy="105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≡</m:t>
                    </m:r>
                    <m:r>
                      <m:t xml:space="preserve">I</m:t>
                    </m:r>
                    <m:r>
                      <m:t xml:space="preserve">−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2133720" y="3236760"/>
                <a:ext cx="4876560" cy="90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≡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,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,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I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Q</m:t>
                    </m:r>
                    <m:r>
                      <m:t xml:space="preserve">,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,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Q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0" y="5105520"/>
                <a:ext cx="5791320" cy="15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≡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Q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Q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</m:e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I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I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5867280" y="5410080"/>
                <a:ext cx="327672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≡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Q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0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00200" y="977760"/>
            <a:ext cx="7467480" cy="3302280"/>
          </a:xfrm>
          <a:custGeom>
            <a:avLst/>
            <a:gdLst/>
            <a:ahLst/>
            <a:rect l="l" t="t" r="r" b="b"/>
            <a:pathLst>
              <a:path w="4704" h="2080">
                <a:moveTo>
                  <a:pt x="0" y="1928"/>
                </a:moveTo>
                <a:cubicBezTo>
                  <a:pt x="40" y="1952"/>
                  <a:pt x="80" y="1976"/>
                  <a:pt x="144" y="1976"/>
                </a:cubicBezTo>
                <a:cubicBezTo>
                  <a:pt x="208" y="1976"/>
                  <a:pt x="304" y="1992"/>
                  <a:pt x="384" y="1928"/>
                </a:cubicBezTo>
                <a:cubicBezTo>
                  <a:pt x="464" y="1864"/>
                  <a:pt x="520" y="1808"/>
                  <a:pt x="624" y="1592"/>
                </a:cubicBezTo>
                <a:cubicBezTo>
                  <a:pt x="728" y="1376"/>
                  <a:pt x="904" y="880"/>
                  <a:pt x="1008" y="632"/>
                </a:cubicBezTo>
                <a:cubicBezTo>
                  <a:pt x="1112" y="384"/>
                  <a:pt x="1168" y="208"/>
                  <a:pt x="1248" y="104"/>
                </a:cubicBezTo>
                <a:cubicBezTo>
                  <a:pt x="1328" y="0"/>
                  <a:pt x="1408" y="8"/>
                  <a:pt x="1488" y="8"/>
                </a:cubicBezTo>
                <a:cubicBezTo>
                  <a:pt x="1568" y="8"/>
                  <a:pt x="1632" y="16"/>
                  <a:pt x="1728" y="104"/>
                </a:cubicBezTo>
                <a:cubicBezTo>
                  <a:pt x="1824" y="192"/>
                  <a:pt x="1968" y="448"/>
                  <a:pt x="2064" y="536"/>
                </a:cubicBezTo>
                <a:cubicBezTo>
                  <a:pt x="2160" y="624"/>
                  <a:pt x="2240" y="632"/>
                  <a:pt x="2304" y="632"/>
                </a:cubicBezTo>
                <a:cubicBezTo>
                  <a:pt x="2368" y="632"/>
                  <a:pt x="2384" y="560"/>
                  <a:pt x="2448" y="536"/>
                </a:cubicBezTo>
                <a:cubicBezTo>
                  <a:pt x="2512" y="512"/>
                  <a:pt x="2616" y="488"/>
                  <a:pt x="2688" y="488"/>
                </a:cubicBezTo>
                <a:cubicBezTo>
                  <a:pt x="2760" y="488"/>
                  <a:pt x="2824" y="504"/>
                  <a:pt x="2880" y="536"/>
                </a:cubicBezTo>
                <a:cubicBezTo>
                  <a:pt x="2936" y="568"/>
                  <a:pt x="2976" y="632"/>
                  <a:pt x="3024" y="680"/>
                </a:cubicBezTo>
                <a:cubicBezTo>
                  <a:pt x="3072" y="728"/>
                  <a:pt x="3120" y="768"/>
                  <a:pt x="3168" y="824"/>
                </a:cubicBezTo>
                <a:cubicBezTo>
                  <a:pt x="3216" y="880"/>
                  <a:pt x="3232" y="928"/>
                  <a:pt x="3312" y="1016"/>
                </a:cubicBezTo>
                <a:cubicBezTo>
                  <a:pt x="3392" y="1104"/>
                  <a:pt x="3572" y="1274"/>
                  <a:pt x="3648" y="1352"/>
                </a:cubicBezTo>
                <a:cubicBezTo>
                  <a:pt x="3724" y="1430"/>
                  <a:pt x="3699" y="1408"/>
                  <a:pt x="3768" y="1484"/>
                </a:cubicBezTo>
                <a:cubicBezTo>
                  <a:pt x="3837" y="1560"/>
                  <a:pt x="3972" y="1724"/>
                  <a:pt x="4060" y="1808"/>
                </a:cubicBezTo>
                <a:cubicBezTo>
                  <a:pt x="4148" y="1892"/>
                  <a:pt x="4252" y="1956"/>
                  <a:pt x="4295" y="1987"/>
                </a:cubicBezTo>
                <a:cubicBezTo>
                  <a:pt x="4338" y="2018"/>
                  <a:pt x="4301" y="1988"/>
                  <a:pt x="4320" y="1995"/>
                </a:cubicBezTo>
                <a:cubicBezTo>
                  <a:pt x="4339" y="2002"/>
                  <a:pt x="4369" y="2016"/>
                  <a:pt x="4409" y="2027"/>
                </a:cubicBezTo>
                <a:cubicBezTo>
                  <a:pt x="4449" y="2038"/>
                  <a:pt x="4522" y="2053"/>
                  <a:pt x="4563" y="2060"/>
                </a:cubicBezTo>
                <a:cubicBezTo>
                  <a:pt x="4604" y="2067"/>
                  <a:pt x="4633" y="2070"/>
                  <a:pt x="4656" y="2072"/>
                </a:cubicBezTo>
                <a:cubicBezTo>
                  <a:pt x="4679" y="2074"/>
                  <a:pt x="4700" y="2080"/>
                  <a:pt x="4704" y="2072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143000" y="5257800"/>
            <a:ext cx="8001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410080" y="3429000"/>
            <a:ext cx="3570480" cy="843120"/>
          </a:xfrm>
          <a:custGeom>
            <a:avLst/>
            <a:gdLst/>
            <a:ahLst/>
            <a:rect l="l" t="t" r="r" b="b"/>
            <a:pathLst>
              <a:path w="2249" h="531">
                <a:moveTo>
                  <a:pt x="0" y="0"/>
                </a:moveTo>
                <a:lnTo>
                  <a:pt x="2249" y="531"/>
                </a:ln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867280" y="914400"/>
            <a:ext cx="0" cy="3352680"/>
          </a:xfrm>
          <a:prstGeom prst="line">
            <a:avLst/>
          </a:prstGeom>
          <a:ln w="9360">
            <a:solidFill>
              <a:srgbClr val="cc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724280" y="1752480"/>
            <a:ext cx="2362320" cy="2374920"/>
          </a:xfrm>
          <a:custGeom>
            <a:avLst/>
            <a:gdLst/>
            <a:ahLst/>
            <a:rect l="l" t="t" r="r" b="b"/>
            <a:pathLst>
              <a:path w="1488" h="1496">
                <a:moveTo>
                  <a:pt x="48" y="8"/>
                </a:moveTo>
                <a:cubicBezTo>
                  <a:pt x="24" y="4"/>
                  <a:pt x="0" y="0"/>
                  <a:pt x="240" y="248"/>
                </a:cubicBezTo>
                <a:cubicBezTo>
                  <a:pt x="480" y="496"/>
                  <a:pt x="1280" y="1288"/>
                  <a:pt x="1488" y="1496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0"/>
            <a:ext cx="0" cy="4343400"/>
          </a:xfrm>
          <a:prstGeom prst="line">
            <a:avLst/>
          </a:prstGeom>
          <a:ln w="9360">
            <a:solidFill>
              <a:srgbClr val="cc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81280" y="3276720"/>
            <a:ext cx="3570480" cy="842760"/>
          </a:xfrm>
          <a:custGeom>
            <a:avLst/>
            <a:gdLst/>
            <a:ahLst/>
            <a:rect l="l" t="t" r="r" b="b"/>
            <a:pathLst>
              <a:path w="2249" h="531">
                <a:moveTo>
                  <a:pt x="0" y="0"/>
                </a:moveTo>
                <a:lnTo>
                  <a:pt x="2249" y="531"/>
                </a:ln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676520" y="3462480"/>
            <a:ext cx="6858000" cy="1795320"/>
          </a:xfrm>
          <a:custGeom>
            <a:avLst/>
            <a:gdLst/>
            <a:ahLst/>
            <a:rect l="l" t="t" r="r" b="b"/>
            <a:pathLst>
              <a:path w="4320" h="1131">
                <a:moveTo>
                  <a:pt x="0" y="411"/>
                </a:moveTo>
                <a:lnTo>
                  <a:pt x="1440" y="507"/>
                </a:lnTo>
                <a:lnTo>
                  <a:pt x="1669" y="0"/>
                </a:lnTo>
                <a:lnTo>
                  <a:pt x="2640" y="219"/>
                </a:lnTo>
                <a:lnTo>
                  <a:pt x="2976" y="123"/>
                </a:lnTo>
                <a:lnTo>
                  <a:pt x="4320" y="459"/>
                </a:lnTo>
                <a:lnTo>
                  <a:pt x="4320" y="1131"/>
                </a:lnTo>
                <a:lnTo>
                  <a:pt x="240" y="1131"/>
                </a:lnTo>
                <a:lnTo>
                  <a:pt x="240" y="411"/>
                </a:lnTo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114800" y="45720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Tahoma"/>
              </a:rPr>
              <a:t>Fluj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43400" y="685800"/>
            <a:ext cx="0" cy="3048120"/>
          </a:xfrm>
          <a:prstGeom prst="line">
            <a:avLst/>
          </a:prstGeom>
          <a:ln w="9360">
            <a:solidFill>
              <a:srgbClr val="cc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6400800" y="990360"/>
            <a:ext cx="0" cy="2895480"/>
          </a:xfrm>
          <a:prstGeom prst="line">
            <a:avLst/>
          </a:prstGeom>
          <a:ln w="9360">
            <a:solidFill>
              <a:srgbClr val="cc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500"/>
                            </p:stCondLst>
                            <p:childTnLst>
                              <p:par>
                                <p:cTn id="38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3000"/>
                            </p:stCondLst>
                            <p:childTnLst>
                              <p:par>
                                <p:cTn id="45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3500"/>
                            </p:stCondLst>
                            <p:childTnLst>
                              <p:par>
                                <p:cTn id="5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4000"/>
                            </p:stCondLst>
                            <p:childTnLst>
                              <p:par>
                                <p:cTn id="59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4500"/>
                            </p:stCondLst>
                            <p:childTnLst>
                              <p:par>
                                <p:cTn id="6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0"/>
                            </p:stCondLst>
                            <p:childTnLst>
                              <p:par>
                                <p:cTn id="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219320" y="3808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Curva General de agot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14400" y="99072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Análisis de curvas de recesión de varias crecidas homogéneas (sin lluvias en recesión, sin derretimiento, similar distribución espaci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895480" y="2362320"/>
            <a:ext cx="5105520" cy="4038480"/>
          </a:xfrm>
          <a:prstGeom prst="rect">
            <a:avLst/>
          </a:prstGeom>
          <a:solidFill>
            <a:srgbClr val="e1a3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13200" y="2664000"/>
            <a:ext cx="3554280" cy="2441520"/>
          </a:xfrm>
          <a:custGeom>
            <a:avLst/>
            <a:gdLst/>
            <a:ahLst/>
            <a:rect l="l" t="t" r="r" b="b"/>
            <a:pathLst>
              <a:path w="2239" h="1538">
                <a:moveTo>
                  <a:pt x="0" y="0"/>
                </a:moveTo>
                <a:cubicBezTo>
                  <a:pt x="34" y="64"/>
                  <a:pt x="46" y="237"/>
                  <a:pt x="203" y="381"/>
                </a:cubicBezTo>
                <a:cubicBezTo>
                  <a:pt x="360" y="525"/>
                  <a:pt x="684" y="705"/>
                  <a:pt x="943" y="866"/>
                </a:cubicBezTo>
                <a:cubicBezTo>
                  <a:pt x="1202" y="1027"/>
                  <a:pt x="1543" y="1234"/>
                  <a:pt x="1759" y="1346"/>
                </a:cubicBezTo>
                <a:cubicBezTo>
                  <a:pt x="1975" y="1458"/>
                  <a:pt x="2107" y="1498"/>
                  <a:pt x="2239" y="1538"/>
                </a:cubicBezTo>
              </a:path>
            </a:pathLst>
          </a:custGeom>
          <a:noFill/>
          <a:ln w="38160">
            <a:solidFill>
              <a:srgbClr val="66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48320" y="3200400"/>
            <a:ext cx="2805120" cy="1986120"/>
          </a:xfrm>
          <a:custGeom>
            <a:avLst/>
            <a:gdLst/>
            <a:ahLst/>
            <a:rect l="l" t="t" r="r" b="b"/>
            <a:pathLst>
              <a:path w="1767" h="1251">
                <a:moveTo>
                  <a:pt x="0" y="0"/>
                </a:moveTo>
                <a:cubicBezTo>
                  <a:pt x="20" y="34"/>
                  <a:pt x="63" y="138"/>
                  <a:pt x="121" y="205"/>
                </a:cubicBezTo>
                <a:cubicBezTo>
                  <a:pt x="179" y="272"/>
                  <a:pt x="228" y="303"/>
                  <a:pt x="348" y="400"/>
                </a:cubicBezTo>
                <a:cubicBezTo>
                  <a:pt x="468" y="497"/>
                  <a:pt x="632" y="659"/>
                  <a:pt x="843" y="789"/>
                </a:cubicBezTo>
                <a:cubicBezTo>
                  <a:pt x="1054" y="919"/>
                  <a:pt x="1459" y="1105"/>
                  <a:pt x="1613" y="1178"/>
                </a:cubicBezTo>
                <a:cubicBezTo>
                  <a:pt x="1767" y="1251"/>
                  <a:pt x="1735" y="1217"/>
                  <a:pt x="1767" y="1227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3657600"/>
            <a:ext cx="1828800" cy="1447920"/>
          </a:xfrm>
          <a:custGeom>
            <a:avLst/>
            <a:gdLst/>
            <a:ahLst/>
            <a:rect l="l" t="t" r="r" b="b"/>
            <a:pathLst>
              <a:path w="1152" h="912">
                <a:moveTo>
                  <a:pt x="0" y="0"/>
                </a:moveTo>
                <a:cubicBezTo>
                  <a:pt x="88" y="172"/>
                  <a:pt x="176" y="344"/>
                  <a:pt x="336" y="480"/>
                </a:cubicBezTo>
                <a:cubicBezTo>
                  <a:pt x="496" y="616"/>
                  <a:pt x="824" y="744"/>
                  <a:pt x="960" y="816"/>
                </a:cubicBezTo>
                <a:cubicBezTo>
                  <a:pt x="1096" y="888"/>
                  <a:pt x="1120" y="896"/>
                  <a:pt x="1152" y="912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9880" y="2590920"/>
            <a:ext cx="3616560" cy="2574720"/>
          </a:xfrm>
          <a:custGeom>
            <a:avLst/>
            <a:gdLst/>
            <a:ahLst/>
            <a:rect l="l" t="t" r="r" b="b"/>
            <a:pathLst>
              <a:path w="2278" h="1622">
                <a:moveTo>
                  <a:pt x="0" y="0"/>
                </a:moveTo>
                <a:cubicBezTo>
                  <a:pt x="12" y="28"/>
                  <a:pt x="25" y="104"/>
                  <a:pt x="73" y="168"/>
                </a:cubicBezTo>
                <a:cubicBezTo>
                  <a:pt x="121" y="232"/>
                  <a:pt x="132" y="260"/>
                  <a:pt x="288" y="384"/>
                </a:cubicBezTo>
                <a:cubicBezTo>
                  <a:pt x="444" y="508"/>
                  <a:pt x="847" y="798"/>
                  <a:pt x="1008" y="912"/>
                </a:cubicBezTo>
                <a:cubicBezTo>
                  <a:pt x="1169" y="1026"/>
                  <a:pt x="1073" y="964"/>
                  <a:pt x="1257" y="1068"/>
                </a:cubicBezTo>
                <a:cubicBezTo>
                  <a:pt x="1441" y="1172"/>
                  <a:pt x="1946" y="1450"/>
                  <a:pt x="2112" y="1536"/>
                </a:cubicBezTo>
                <a:cubicBezTo>
                  <a:pt x="2278" y="1622"/>
                  <a:pt x="2268" y="1600"/>
                  <a:pt x="2256" y="1584"/>
                </a:cubicBezTo>
              </a:path>
            </a:pathLst>
          </a:custGeom>
          <a:noFill/>
          <a:ln w="2844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019920" y="3962520"/>
            <a:ext cx="1295280" cy="1143000"/>
          </a:xfrm>
          <a:custGeom>
            <a:avLst/>
            <a:gdLst/>
            <a:ahLst/>
            <a:rect l="l" t="t" r="r" b="b"/>
            <a:pathLst>
              <a:path w="816" h="720">
                <a:moveTo>
                  <a:pt x="0" y="0"/>
                </a:moveTo>
                <a:cubicBezTo>
                  <a:pt x="8" y="64"/>
                  <a:pt x="16" y="128"/>
                  <a:pt x="48" y="192"/>
                </a:cubicBezTo>
                <a:cubicBezTo>
                  <a:pt x="80" y="256"/>
                  <a:pt x="104" y="320"/>
                  <a:pt x="192" y="384"/>
                </a:cubicBezTo>
                <a:cubicBezTo>
                  <a:pt x="280" y="448"/>
                  <a:pt x="472" y="520"/>
                  <a:pt x="576" y="576"/>
                </a:cubicBezTo>
                <a:cubicBezTo>
                  <a:pt x="680" y="632"/>
                  <a:pt x="748" y="676"/>
                  <a:pt x="816" y="720"/>
                </a:cubicBezTo>
              </a:path>
            </a:pathLst>
          </a:custGeom>
          <a:noFill/>
          <a:ln w="2844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9880" y="2590920"/>
            <a:ext cx="3657600" cy="2590560"/>
          </a:xfrm>
          <a:custGeom>
            <a:avLst/>
            <a:gdLst/>
            <a:ahLst/>
            <a:rect l="l" t="t" r="r" b="b"/>
            <a:pathLst>
              <a:path w="2304" h="1632">
                <a:moveTo>
                  <a:pt x="0" y="0"/>
                </a:moveTo>
                <a:cubicBezTo>
                  <a:pt x="12" y="35"/>
                  <a:pt x="24" y="130"/>
                  <a:pt x="73" y="208"/>
                </a:cubicBezTo>
                <a:cubicBezTo>
                  <a:pt x="122" y="286"/>
                  <a:pt x="176" y="367"/>
                  <a:pt x="292" y="468"/>
                </a:cubicBezTo>
                <a:cubicBezTo>
                  <a:pt x="408" y="569"/>
                  <a:pt x="569" y="686"/>
                  <a:pt x="768" y="816"/>
                </a:cubicBezTo>
                <a:cubicBezTo>
                  <a:pt x="967" y="946"/>
                  <a:pt x="1232" y="1112"/>
                  <a:pt x="1488" y="1248"/>
                </a:cubicBezTo>
                <a:cubicBezTo>
                  <a:pt x="1744" y="1384"/>
                  <a:pt x="2024" y="1508"/>
                  <a:pt x="2304" y="1632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82760" y="685800"/>
            <a:ext cx="5079960" cy="4508640"/>
          </a:xfrm>
          <a:custGeom>
            <a:avLst/>
            <a:gdLst/>
            <a:ahLst/>
            <a:rect l="l" t="t" r="r" b="b"/>
            <a:pathLst>
              <a:path w="3200" h="2840">
                <a:moveTo>
                  <a:pt x="464" y="0"/>
                </a:moveTo>
                <a:cubicBezTo>
                  <a:pt x="232" y="140"/>
                  <a:pt x="0" y="280"/>
                  <a:pt x="32" y="672"/>
                </a:cubicBezTo>
                <a:cubicBezTo>
                  <a:pt x="64" y="1064"/>
                  <a:pt x="272" y="1992"/>
                  <a:pt x="656" y="2352"/>
                </a:cubicBezTo>
                <a:cubicBezTo>
                  <a:pt x="1040" y="2712"/>
                  <a:pt x="1912" y="2840"/>
                  <a:pt x="2336" y="2832"/>
                </a:cubicBezTo>
                <a:cubicBezTo>
                  <a:pt x="2760" y="2824"/>
                  <a:pt x="3056" y="2392"/>
                  <a:pt x="3200" y="2304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2500"/>
                            </p:stCondLst>
                            <p:childTnLst>
                              <p:par>
                                <p:cTn id="12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"/>
          <p:cNvGrpSpPr/>
          <p:nvPr/>
        </p:nvGrpSpPr>
        <p:grpSpPr>
          <a:xfrm>
            <a:off x="2057400" y="1828800"/>
            <a:ext cx="2085840" cy="2500200"/>
            <a:chOff x="2057400" y="1828800"/>
            <a:chExt cx="2085840" cy="2500200"/>
          </a:xfrm>
        </p:grpSpPr>
        <p:sp>
          <p:nvSpPr>
            <p:cNvPr id="66" name=""/>
            <p:cNvSpPr/>
            <p:nvPr/>
          </p:nvSpPr>
          <p:spPr>
            <a:xfrm>
              <a:off x="2057400" y="1828800"/>
              <a:ext cx="2085840" cy="2500200"/>
            </a:xfrm>
            <a:custGeom>
              <a:avLst/>
              <a:gdLst/>
              <a:ahLst/>
              <a:rect l="l" t="t" r="r" b="b"/>
              <a:pathLst>
                <a:path w="1400" h="1778">
                  <a:moveTo>
                    <a:pt x="144" y="1710"/>
                  </a:moveTo>
                  <a:cubicBezTo>
                    <a:pt x="122" y="1623"/>
                    <a:pt x="156" y="1739"/>
                    <a:pt x="112" y="1645"/>
                  </a:cubicBezTo>
                  <a:cubicBezTo>
                    <a:pt x="101" y="1622"/>
                    <a:pt x="99" y="1595"/>
                    <a:pt x="87" y="1572"/>
                  </a:cubicBezTo>
                  <a:cubicBezTo>
                    <a:pt x="76" y="1551"/>
                    <a:pt x="55" y="1508"/>
                    <a:pt x="55" y="1508"/>
                  </a:cubicBezTo>
                  <a:cubicBezTo>
                    <a:pt x="64" y="1385"/>
                    <a:pt x="52" y="1436"/>
                    <a:pt x="79" y="1354"/>
                  </a:cubicBezTo>
                  <a:cubicBezTo>
                    <a:pt x="85" y="1335"/>
                    <a:pt x="112" y="1305"/>
                    <a:pt x="112" y="1305"/>
                  </a:cubicBezTo>
                  <a:cubicBezTo>
                    <a:pt x="157" y="1117"/>
                    <a:pt x="102" y="956"/>
                    <a:pt x="63" y="778"/>
                  </a:cubicBezTo>
                  <a:cubicBezTo>
                    <a:pt x="49" y="715"/>
                    <a:pt x="43" y="653"/>
                    <a:pt x="23" y="591"/>
                  </a:cubicBezTo>
                  <a:cubicBezTo>
                    <a:pt x="0" y="384"/>
                    <a:pt x="33" y="154"/>
                    <a:pt x="241" y="56"/>
                  </a:cubicBezTo>
                  <a:cubicBezTo>
                    <a:pt x="322" y="18"/>
                    <a:pt x="415" y="17"/>
                    <a:pt x="501" y="0"/>
                  </a:cubicBezTo>
                  <a:cubicBezTo>
                    <a:pt x="631" y="3"/>
                    <a:pt x="760" y="1"/>
                    <a:pt x="890" y="8"/>
                  </a:cubicBezTo>
                  <a:cubicBezTo>
                    <a:pt x="912" y="9"/>
                    <a:pt x="955" y="24"/>
                    <a:pt x="955" y="24"/>
                  </a:cubicBezTo>
                  <a:cubicBezTo>
                    <a:pt x="989" y="47"/>
                    <a:pt x="1026" y="48"/>
                    <a:pt x="1060" y="73"/>
                  </a:cubicBezTo>
                  <a:cubicBezTo>
                    <a:pt x="1075" y="84"/>
                    <a:pt x="1087" y="100"/>
                    <a:pt x="1101" y="113"/>
                  </a:cubicBezTo>
                  <a:cubicBezTo>
                    <a:pt x="1187" y="197"/>
                    <a:pt x="1115" y="98"/>
                    <a:pt x="1190" y="178"/>
                  </a:cubicBezTo>
                  <a:cubicBezTo>
                    <a:pt x="1242" y="233"/>
                    <a:pt x="1276" y="304"/>
                    <a:pt x="1328" y="356"/>
                  </a:cubicBezTo>
                  <a:cubicBezTo>
                    <a:pt x="1348" y="406"/>
                    <a:pt x="1364" y="458"/>
                    <a:pt x="1377" y="510"/>
                  </a:cubicBezTo>
                  <a:cubicBezTo>
                    <a:pt x="1393" y="695"/>
                    <a:pt x="1400" y="945"/>
                    <a:pt x="1271" y="1102"/>
                  </a:cubicBezTo>
                  <a:cubicBezTo>
                    <a:pt x="1253" y="1158"/>
                    <a:pt x="1227" y="1168"/>
                    <a:pt x="1182" y="1200"/>
                  </a:cubicBezTo>
                  <a:cubicBezTo>
                    <a:pt x="1125" y="1241"/>
                    <a:pt x="1195" y="1209"/>
                    <a:pt x="1125" y="1248"/>
                  </a:cubicBezTo>
                  <a:cubicBezTo>
                    <a:pt x="1118" y="1252"/>
                    <a:pt x="1108" y="1252"/>
                    <a:pt x="1101" y="1256"/>
                  </a:cubicBezTo>
                  <a:cubicBezTo>
                    <a:pt x="1084" y="1266"/>
                    <a:pt x="1068" y="1278"/>
                    <a:pt x="1052" y="1289"/>
                  </a:cubicBezTo>
                  <a:cubicBezTo>
                    <a:pt x="1008" y="1318"/>
                    <a:pt x="1036" y="1297"/>
                    <a:pt x="979" y="1354"/>
                  </a:cubicBezTo>
                  <a:cubicBezTo>
                    <a:pt x="965" y="1368"/>
                    <a:pt x="947" y="1402"/>
                    <a:pt x="947" y="1402"/>
                  </a:cubicBezTo>
                  <a:cubicBezTo>
                    <a:pt x="933" y="1447"/>
                    <a:pt x="894" y="1486"/>
                    <a:pt x="858" y="1516"/>
                  </a:cubicBezTo>
                  <a:cubicBezTo>
                    <a:pt x="844" y="1559"/>
                    <a:pt x="803" y="1592"/>
                    <a:pt x="769" y="1621"/>
                  </a:cubicBezTo>
                  <a:cubicBezTo>
                    <a:pt x="582" y="1778"/>
                    <a:pt x="442" y="1705"/>
                    <a:pt x="144" y="171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271960" y="2340360"/>
              <a:ext cx="725400" cy="1904040"/>
            </a:xfrm>
            <a:custGeom>
              <a:avLst/>
              <a:gdLst/>
              <a:ahLst/>
              <a:rect l="l" t="t" r="r" b="b"/>
              <a:pathLst>
                <a:path w="487" h="1354">
                  <a:moveTo>
                    <a:pt x="0" y="1354"/>
                  </a:moveTo>
                  <a:cubicBezTo>
                    <a:pt x="30" y="1325"/>
                    <a:pt x="68" y="1286"/>
                    <a:pt x="89" y="1249"/>
                  </a:cubicBezTo>
                  <a:cubicBezTo>
                    <a:pt x="111" y="1210"/>
                    <a:pt x="124" y="1166"/>
                    <a:pt x="146" y="1127"/>
                  </a:cubicBezTo>
                  <a:cubicBezTo>
                    <a:pt x="182" y="1063"/>
                    <a:pt x="243" y="1011"/>
                    <a:pt x="284" y="949"/>
                  </a:cubicBezTo>
                  <a:cubicBezTo>
                    <a:pt x="289" y="942"/>
                    <a:pt x="288" y="933"/>
                    <a:pt x="292" y="925"/>
                  </a:cubicBezTo>
                  <a:cubicBezTo>
                    <a:pt x="320" y="867"/>
                    <a:pt x="352" y="811"/>
                    <a:pt x="381" y="754"/>
                  </a:cubicBezTo>
                  <a:cubicBezTo>
                    <a:pt x="403" y="711"/>
                    <a:pt x="419" y="665"/>
                    <a:pt x="446" y="625"/>
                  </a:cubicBezTo>
                  <a:cubicBezTo>
                    <a:pt x="456" y="594"/>
                    <a:pt x="477" y="582"/>
                    <a:pt x="487" y="552"/>
                  </a:cubicBezTo>
                  <a:cubicBezTo>
                    <a:pt x="471" y="485"/>
                    <a:pt x="412" y="445"/>
                    <a:pt x="389" y="381"/>
                  </a:cubicBezTo>
                  <a:cubicBezTo>
                    <a:pt x="392" y="335"/>
                    <a:pt x="390" y="289"/>
                    <a:pt x="398" y="244"/>
                  </a:cubicBezTo>
                  <a:cubicBezTo>
                    <a:pt x="404" y="210"/>
                    <a:pt x="430" y="146"/>
                    <a:pt x="430" y="146"/>
                  </a:cubicBezTo>
                  <a:cubicBezTo>
                    <a:pt x="427" y="122"/>
                    <a:pt x="430" y="96"/>
                    <a:pt x="422" y="73"/>
                  </a:cubicBezTo>
                  <a:cubicBezTo>
                    <a:pt x="416" y="55"/>
                    <a:pt x="402" y="39"/>
                    <a:pt x="389" y="25"/>
                  </a:cubicBezTo>
                  <a:cubicBezTo>
                    <a:pt x="381" y="17"/>
                    <a:pt x="365" y="0"/>
                    <a:pt x="365" y="0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683080" y="3094200"/>
              <a:ext cx="1196280" cy="580680"/>
            </a:xfrm>
            <a:custGeom>
              <a:avLst/>
              <a:gdLst/>
              <a:ahLst/>
              <a:rect l="l" t="t" r="r" b="b"/>
              <a:pathLst>
                <a:path w="803" h="413">
                  <a:moveTo>
                    <a:pt x="0" y="413"/>
                  </a:moveTo>
                  <a:cubicBezTo>
                    <a:pt x="49" y="403"/>
                    <a:pt x="90" y="385"/>
                    <a:pt x="138" y="372"/>
                  </a:cubicBezTo>
                  <a:cubicBezTo>
                    <a:pt x="167" y="353"/>
                    <a:pt x="182" y="329"/>
                    <a:pt x="211" y="308"/>
                  </a:cubicBezTo>
                  <a:cubicBezTo>
                    <a:pt x="237" y="228"/>
                    <a:pt x="370" y="211"/>
                    <a:pt x="438" y="194"/>
                  </a:cubicBezTo>
                  <a:cubicBezTo>
                    <a:pt x="510" y="140"/>
                    <a:pt x="565" y="104"/>
                    <a:pt x="657" y="89"/>
                  </a:cubicBezTo>
                  <a:cubicBezTo>
                    <a:pt x="686" y="75"/>
                    <a:pt x="705" y="59"/>
                    <a:pt x="730" y="40"/>
                  </a:cubicBezTo>
                  <a:cubicBezTo>
                    <a:pt x="745" y="29"/>
                    <a:pt x="760" y="14"/>
                    <a:pt x="778" y="8"/>
                  </a:cubicBezTo>
                  <a:cubicBezTo>
                    <a:pt x="786" y="5"/>
                    <a:pt x="803" y="0"/>
                    <a:pt x="803" y="0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400920" y="2451600"/>
              <a:ext cx="168480" cy="854640"/>
            </a:xfrm>
            <a:custGeom>
              <a:avLst/>
              <a:gdLst/>
              <a:ahLst/>
              <a:rect l="l" t="t" r="r" b="b"/>
              <a:pathLst>
                <a:path w="113" h="608">
                  <a:moveTo>
                    <a:pt x="0" y="608"/>
                  </a:moveTo>
                  <a:cubicBezTo>
                    <a:pt x="34" y="597"/>
                    <a:pt x="53" y="573"/>
                    <a:pt x="73" y="543"/>
                  </a:cubicBezTo>
                  <a:cubicBezTo>
                    <a:pt x="65" y="495"/>
                    <a:pt x="57" y="450"/>
                    <a:pt x="40" y="405"/>
                  </a:cubicBezTo>
                  <a:cubicBezTo>
                    <a:pt x="46" y="318"/>
                    <a:pt x="33" y="287"/>
                    <a:pt x="73" y="227"/>
                  </a:cubicBezTo>
                  <a:cubicBezTo>
                    <a:pt x="82" y="190"/>
                    <a:pt x="81" y="175"/>
                    <a:pt x="113" y="154"/>
                  </a:cubicBezTo>
                  <a:cubicBezTo>
                    <a:pt x="105" y="120"/>
                    <a:pt x="97" y="94"/>
                    <a:pt x="97" y="56"/>
                  </a:cubicBezTo>
                  <a:cubicBezTo>
                    <a:pt x="97" y="37"/>
                    <a:pt x="105" y="0"/>
                    <a:pt x="105" y="0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6230880" y="731880"/>
            <a:ext cx="1378080" cy="3338640"/>
            <a:chOff x="6230880" y="731880"/>
            <a:chExt cx="1378080" cy="3338640"/>
          </a:xfrm>
        </p:grpSpPr>
        <p:sp>
          <p:nvSpPr>
            <p:cNvPr id="71" name=""/>
            <p:cNvSpPr/>
            <p:nvPr/>
          </p:nvSpPr>
          <p:spPr>
            <a:xfrm>
              <a:off x="6230880" y="731880"/>
              <a:ext cx="1378080" cy="3338640"/>
            </a:xfrm>
            <a:custGeom>
              <a:avLst/>
              <a:gdLst/>
              <a:ahLst/>
              <a:rect l="l" t="t" r="r" b="b"/>
              <a:pathLst>
                <a:path w="868" h="2103">
                  <a:moveTo>
                    <a:pt x="162" y="2052"/>
                  </a:moveTo>
                  <a:cubicBezTo>
                    <a:pt x="165" y="2039"/>
                    <a:pt x="166" y="2025"/>
                    <a:pt x="170" y="2012"/>
                  </a:cubicBezTo>
                  <a:cubicBezTo>
                    <a:pt x="174" y="1995"/>
                    <a:pt x="186" y="1963"/>
                    <a:pt x="186" y="1963"/>
                  </a:cubicBezTo>
                  <a:cubicBezTo>
                    <a:pt x="175" y="1910"/>
                    <a:pt x="161" y="1838"/>
                    <a:pt x="129" y="1793"/>
                  </a:cubicBezTo>
                  <a:cubicBezTo>
                    <a:pt x="112" y="1741"/>
                    <a:pt x="71" y="1693"/>
                    <a:pt x="40" y="1647"/>
                  </a:cubicBezTo>
                  <a:cubicBezTo>
                    <a:pt x="35" y="1516"/>
                    <a:pt x="31" y="1438"/>
                    <a:pt x="8" y="1323"/>
                  </a:cubicBezTo>
                  <a:cubicBezTo>
                    <a:pt x="13" y="1061"/>
                    <a:pt x="0" y="753"/>
                    <a:pt x="89" y="496"/>
                  </a:cubicBezTo>
                  <a:cubicBezTo>
                    <a:pt x="106" y="446"/>
                    <a:pt x="119" y="357"/>
                    <a:pt x="146" y="309"/>
                  </a:cubicBezTo>
                  <a:cubicBezTo>
                    <a:pt x="170" y="267"/>
                    <a:pt x="200" y="228"/>
                    <a:pt x="227" y="188"/>
                  </a:cubicBezTo>
                  <a:cubicBezTo>
                    <a:pt x="258" y="92"/>
                    <a:pt x="343" y="33"/>
                    <a:pt x="438" y="17"/>
                  </a:cubicBezTo>
                  <a:cubicBezTo>
                    <a:pt x="489" y="0"/>
                    <a:pt x="542" y="9"/>
                    <a:pt x="592" y="25"/>
                  </a:cubicBezTo>
                  <a:cubicBezTo>
                    <a:pt x="618" y="52"/>
                    <a:pt x="656" y="64"/>
                    <a:pt x="681" y="90"/>
                  </a:cubicBezTo>
                  <a:cubicBezTo>
                    <a:pt x="726" y="137"/>
                    <a:pt x="765" y="170"/>
                    <a:pt x="794" y="228"/>
                  </a:cubicBezTo>
                  <a:cubicBezTo>
                    <a:pt x="825" y="422"/>
                    <a:pt x="813" y="618"/>
                    <a:pt x="851" y="812"/>
                  </a:cubicBezTo>
                  <a:cubicBezTo>
                    <a:pt x="848" y="989"/>
                    <a:pt x="868" y="1219"/>
                    <a:pt x="827" y="1412"/>
                  </a:cubicBezTo>
                  <a:cubicBezTo>
                    <a:pt x="814" y="1476"/>
                    <a:pt x="794" y="1534"/>
                    <a:pt x="762" y="1590"/>
                  </a:cubicBezTo>
                  <a:cubicBezTo>
                    <a:pt x="752" y="1607"/>
                    <a:pt x="740" y="1623"/>
                    <a:pt x="729" y="1639"/>
                  </a:cubicBezTo>
                  <a:cubicBezTo>
                    <a:pt x="724" y="1647"/>
                    <a:pt x="713" y="1663"/>
                    <a:pt x="713" y="1663"/>
                  </a:cubicBezTo>
                  <a:cubicBezTo>
                    <a:pt x="703" y="1693"/>
                    <a:pt x="699" y="1718"/>
                    <a:pt x="681" y="1744"/>
                  </a:cubicBezTo>
                  <a:cubicBezTo>
                    <a:pt x="671" y="1786"/>
                    <a:pt x="644" y="1839"/>
                    <a:pt x="600" y="1858"/>
                  </a:cubicBezTo>
                  <a:cubicBezTo>
                    <a:pt x="577" y="1868"/>
                    <a:pt x="551" y="1874"/>
                    <a:pt x="527" y="1882"/>
                  </a:cubicBezTo>
                  <a:cubicBezTo>
                    <a:pt x="519" y="1885"/>
                    <a:pt x="502" y="1890"/>
                    <a:pt x="502" y="1890"/>
                  </a:cubicBezTo>
                  <a:cubicBezTo>
                    <a:pt x="460" y="1934"/>
                    <a:pt x="412" y="1945"/>
                    <a:pt x="356" y="1963"/>
                  </a:cubicBezTo>
                  <a:cubicBezTo>
                    <a:pt x="340" y="1968"/>
                    <a:pt x="324" y="1974"/>
                    <a:pt x="308" y="1979"/>
                  </a:cubicBezTo>
                  <a:cubicBezTo>
                    <a:pt x="300" y="1982"/>
                    <a:pt x="284" y="1987"/>
                    <a:pt x="284" y="1987"/>
                  </a:cubicBezTo>
                  <a:cubicBezTo>
                    <a:pt x="263" y="2008"/>
                    <a:pt x="247" y="2019"/>
                    <a:pt x="219" y="2028"/>
                  </a:cubicBezTo>
                  <a:cubicBezTo>
                    <a:pt x="211" y="2036"/>
                    <a:pt x="138" y="2103"/>
                    <a:pt x="162" y="2052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526080" y="1158840"/>
              <a:ext cx="463680" cy="2830680"/>
            </a:xfrm>
            <a:custGeom>
              <a:avLst/>
              <a:gdLst/>
              <a:ahLst/>
              <a:rect l="l" t="t" r="r" b="b"/>
              <a:pathLst>
                <a:path w="292" h="1783">
                  <a:moveTo>
                    <a:pt x="0" y="1783"/>
                  </a:moveTo>
                  <a:cubicBezTo>
                    <a:pt x="15" y="1760"/>
                    <a:pt x="37" y="1743"/>
                    <a:pt x="49" y="1718"/>
                  </a:cubicBezTo>
                  <a:cubicBezTo>
                    <a:pt x="53" y="1710"/>
                    <a:pt x="53" y="1701"/>
                    <a:pt x="57" y="1694"/>
                  </a:cubicBezTo>
                  <a:cubicBezTo>
                    <a:pt x="66" y="1677"/>
                    <a:pt x="83" y="1664"/>
                    <a:pt x="89" y="1646"/>
                  </a:cubicBezTo>
                  <a:cubicBezTo>
                    <a:pt x="95" y="1630"/>
                    <a:pt x="100" y="1613"/>
                    <a:pt x="106" y="1597"/>
                  </a:cubicBezTo>
                  <a:cubicBezTo>
                    <a:pt x="109" y="1589"/>
                    <a:pt x="114" y="1573"/>
                    <a:pt x="114" y="1573"/>
                  </a:cubicBezTo>
                  <a:cubicBezTo>
                    <a:pt x="130" y="1478"/>
                    <a:pt x="145" y="1380"/>
                    <a:pt x="179" y="1289"/>
                  </a:cubicBezTo>
                  <a:cubicBezTo>
                    <a:pt x="188" y="1237"/>
                    <a:pt x="198" y="1191"/>
                    <a:pt x="219" y="1143"/>
                  </a:cubicBezTo>
                  <a:cubicBezTo>
                    <a:pt x="231" y="1114"/>
                    <a:pt x="228" y="1092"/>
                    <a:pt x="252" y="1070"/>
                  </a:cubicBezTo>
                  <a:cubicBezTo>
                    <a:pt x="264" y="1032"/>
                    <a:pt x="271" y="990"/>
                    <a:pt x="292" y="956"/>
                  </a:cubicBezTo>
                  <a:cubicBezTo>
                    <a:pt x="289" y="929"/>
                    <a:pt x="289" y="902"/>
                    <a:pt x="284" y="875"/>
                  </a:cubicBezTo>
                  <a:cubicBezTo>
                    <a:pt x="276" y="831"/>
                    <a:pt x="249" y="796"/>
                    <a:pt x="235" y="754"/>
                  </a:cubicBezTo>
                  <a:cubicBezTo>
                    <a:pt x="224" y="588"/>
                    <a:pt x="222" y="614"/>
                    <a:pt x="235" y="405"/>
                  </a:cubicBezTo>
                  <a:cubicBezTo>
                    <a:pt x="237" y="369"/>
                    <a:pt x="259" y="327"/>
                    <a:pt x="268" y="292"/>
                  </a:cubicBezTo>
                  <a:cubicBezTo>
                    <a:pt x="263" y="232"/>
                    <a:pt x="262" y="168"/>
                    <a:pt x="235" y="113"/>
                  </a:cubicBezTo>
                  <a:cubicBezTo>
                    <a:pt x="219" y="81"/>
                    <a:pt x="202" y="51"/>
                    <a:pt x="179" y="24"/>
                  </a:cubicBezTo>
                  <a:cubicBezTo>
                    <a:pt x="160" y="1"/>
                    <a:pt x="162" y="18"/>
                    <a:pt x="162" y="0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959520" y="1608120"/>
              <a:ext cx="506520" cy="1133640"/>
            </a:xfrm>
            <a:custGeom>
              <a:avLst/>
              <a:gdLst/>
              <a:ahLst/>
              <a:rect l="l" t="t" r="r" b="b"/>
              <a:pathLst>
                <a:path w="319" h="714">
                  <a:moveTo>
                    <a:pt x="3" y="714"/>
                  </a:moveTo>
                  <a:cubicBezTo>
                    <a:pt x="15" y="627"/>
                    <a:pt x="0" y="609"/>
                    <a:pt x="52" y="560"/>
                  </a:cubicBezTo>
                  <a:cubicBezTo>
                    <a:pt x="61" y="533"/>
                    <a:pt x="64" y="504"/>
                    <a:pt x="76" y="479"/>
                  </a:cubicBezTo>
                  <a:cubicBezTo>
                    <a:pt x="104" y="422"/>
                    <a:pt x="160" y="367"/>
                    <a:pt x="214" y="333"/>
                  </a:cubicBezTo>
                  <a:cubicBezTo>
                    <a:pt x="224" y="302"/>
                    <a:pt x="235" y="294"/>
                    <a:pt x="262" y="276"/>
                  </a:cubicBezTo>
                  <a:cubicBezTo>
                    <a:pt x="268" y="260"/>
                    <a:pt x="273" y="243"/>
                    <a:pt x="279" y="227"/>
                  </a:cubicBezTo>
                  <a:cubicBezTo>
                    <a:pt x="282" y="219"/>
                    <a:pt x="287" y="203"/>
                    <a:pt x="287" y="203"/>
                  </a:cubicBezTo>
                  <a:cubicBezTo>
                    <a:pt x="298" y="137"/>
                    <a:pt x="319" y="67"/>
                    <a:pt x="319" y="0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027920" y="990720"/>
              <a:ext cx="309600" cy="1108080"/>
            </a:xfrm>
            <a:custGeom>
              <a:avLst/>
              <a:gdLst/>
              <a:ahLst/>
              <a:rect l="l" t="t" r="r" b="b"/>
              <a:pathLst>
                <a:path w="195" h="698">
                  <a:moveTo>
                    <a:pt x="195" y="698"/>
                  </a:moveTo>
                  <a:cubicBezTo>
                    <a:pt x="179" y="695"/>
                    <a:pt x="161" y="697"/>
                    <a:pt x="146" y="689"/>
                  </a:cubicBezTo>
                  <a:cubicBezTo>
                    <a:pt x="91" y="661"/>
                    <a:pt x="134" y="528"/>
                    <a:pt x="155" y="471"/>
                  </a:cubicBezTo>
                  <a:cubicBezTo>
                    <a:pt x="146" y="381"/>
                    <a:pt x="142" y="317"/>
                    <a:pt x="122" y="235"/>
                  </a:cubicBezTo>
                  <a:cubicBezTo>
                    <a:pt x="117" y="185"/>
                    <a:pt x="127" y="123"/>
                    <a:pt x="73" y="106"/>
                  </a:cubicBezTo>
                  <a:cubicBezTo>
                    <a:pt x="50" y="81"/>
                    <a:pt x="36" y="46"/>
                    <a:pt x="17" y="17"/>
                  </a:cubicBezTo>
                  <a:cubicBezTo>
                    <a:pt x="13" y="10"/>
                    <a:pt x="0" y="0"/>
                    <a:pt x="0" y="0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3581280" y="457200"/>
            <a:ext cx="2590920" cy="1015920"/>
          </a:xfrm>
          <a:prstGeom prst="rect">
            <a:avLst/>
          </a:prstGeom>
          <a:solidFill>
            <a:srgbClr val="c755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Tahoma"/>
              </a:rPr>
              <a:t>Area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Tahoma"/>
              </a:rPr>
              <a:t>Precipitación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733920" y="1371600"/>
            <a:ext cx="457200" cy="609480"/>
          </a:xfrm>
          <a:prstGeom prst="line">
            <a:avLst/>
          </a:prstGeom>
          <a:ln w="381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371600"/>
            <a:ext cx="838440" cy="685800"/>
          </a:xfrm>
          <a:prstGeom prst="line">
            <a:avLst/>
          </a:prstGeom>
          <a:ln w="2844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914400" y="1447920"/>
            <a:ext cx="2819520" cy="2590560"/>
            <a:chOff x="914400" y="1447920"/>
            <a:chExt cx="2819520" cy="2590560"/>
          </a:xfrm>
        </p:grpSpPr>
        <p:sp>
          <p:nvSpPr>
            <p:cNvPr id="79" name=""/>
            <p:cNvSpPr/>
            <p:nvPr/>
          </p:nvSpPr>
          <p:spPr>
            <a:xfrm>
              <a:off x="1600200" y="2400480"/>
              <a:ext cx="2133720" cy="1638000"/>
            </a:xfrm>
            <a:custGeom>
              <a:avLst/>
              <a:gdLst/>
              <a:ahLst/>
              <a:rect l="l" t="t" r="r" b="b"/>
              <a:pathLst>
                <a:path w="1344" h="1032">
                  <a:moveTo>
                    <a:pt x="0" y="24"/>
                  </a:moveTo>
                  <a:cubicBezTo>
                    <a:pt x="40" y="12"/>
                    <a:pt x="80" y="0"/>
                    <a:pt x="192" y="24"/>
                  </a:cubicBezTo>
                  <a:cubicBezTo>
                    <a:pt x="304" y="48"/>
                    <a:pt x="528" y="96"/>
                    <a:pt x="672" y="168"/>
                  </a:cubicBezTo>
                  <a:cubicBezTo>
                    <a:pt x="816" y="240"/>
                    <a:pt x="968" y="392"/>
                    <a:pt x="1056" y="456"/>
                  </a:cubicBezTo>
                  <a:cubicBezTo>
                    <a:pt x="1144" y="520"/>
                    <a:pt x="1160" y="480"/>
                    <a:pt x="1200" y="552"/>
                  </a:cubicBezTo>
                  <a:cubicBezTo>
                    <a:pt x="1240" y="624"/>
                    <a:pt x="1272" y="808"/>
                    <a:pt x="1296" y="888"/>
                  </a:cubicBezTo>
                  <a:cubicBezTo>
                    <a:pt x="1320" y="968"/>
                    <a:pt x="1336" y="1008"/>
                    <a:pt x="1344" y="1032"/>
                  </a:cubicBezTo>
                </a:path>
              </a:pathLst>
            </a:custGeom>
            <a:noFill/>
            <a:ln w="284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914400" y="144792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Tahoma"/>
                </a:rPr>
                <a:t>Llueve 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209680" y="1828800"/>
              <a:ext cx="685800" cy="53352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685800" y="2438280"/>
            <a:ext cx="3048120" cy="1638360"/>
            <a:chOff x="685800" y="2438280"/>
            <a:chExt cx="3048120" cy="1638360"/>
          </a:xfrm>
        </p:grpSpPr>
        <p:sp>
          <p:nvSpPr>
            <p:cNvPr id="83" name=""/>
            <p:cNvSpPr/>
            <p:nvPr/>
          </p:nvSpPr>
          <p:spPr>
            <a:xfrm>
              <a:off x="1600200" y="2438280"/>
              <a:ext cx="2133720" cy="1638360"/>
            </a:xfrm>
            <a:custGeom>
              <a:avLst/>
              <a:gdLst/>
              <a:ahLst/>
              <a:rect l="l" t="t" r="r" b="b"/>
              <a:pathLst>
                <a:path w="1344" h="1032">
                  <a:moveTo>
                    <a:pt x="0" y="24"/>
                  </a:moveTo>
                  <a:cubicBezTo>
                    <a:pt x="40" y="12"/>
                    <a:pt x="80" y="0"/>
                    <a:pt x="192" y="24"/>
                  </a:cubicBezTo>
                  <a:cubicBezTo>
                    <a:pt x="304" y="48"/>
                    <a:pt x="528" y="96"/>
                    <a:pt x="672" y="168"/>
                  </a:cubicBezTo>
                  <a:cubicBezTo>
                    <a:pt x="816" y="240"/>
                    <a:pt x="968" y="392"/>
                    <a:pt x="1056" y="456"/>
                  </a:cubicBezTo>
                  <a:cubicBezTo>
                    <a:pt x="1144" y="520"/>
                    <a:pt x="1160" y="480"/>
                    <a:pt x="1200" y="552"/>
                  </a:cubicBezTo>
                  <a:cubicBezTo>
                    <a:pt x="1240" y="624"/>
                    <a:pt x="1272" y="808"/>
                    <a:pt x="1296" y="888"/>
                  </a:cubicBezTo>
                  <a:cubicBezTo>
                    <a:pt x="1320" y="968"/>
                    <a:pt x="1336" y="1008"/>
                    <a:pt x="1344" y="1032"/>
                  </a:cubicBezTo>
                </a:path>
              </a:pathLst>
            </a:custGeom>
            <a:noFill/>
            <a:ln w="284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85800" y="304812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Tahoma"/>
                </a:rPr>
                <a:t>Llueve 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133720" y="3352680"/>
              <a:ext cx="609480" cy="7632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2438280" y="495288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Diferencias de los hidrogra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500"/>
                            </p:stCondLst>
                            <p:childTnLst>
                              <p:par>
                                <p:cTn id="1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838080" y="838080"/>
            <a:ext cx="4419720" cy="4597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Tiempo de concent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371600" y="2286000"/>
            <a:ext cx="1905120" cy="4597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Tahoma"/>
              </a:rPr>
              <a:t>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371600" y="4572000"/>
            <a:ext cx="1905120" cy="4597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Giandot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4724280" y="3849840"/>
                <a:ext cx="2895840" cy="139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A</m:t>
                            </m:r>
                          </m:e>
                        </m:rad>
                        <m:r>
                          <m:t xml:space="preserve">+</m:t>
                        </m:r>
                        <m:r>
                          <m:t xml:space="preserve">1,5</m:t>
                        </m:r>
                        <m:r>
                          <m:t xml:space="preserve">L</m:t>
                        </m:r>
                      </m:num>
                      <m:den>
                        <m:r>
                          <m:t xml:space="preserve">0,8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H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4419720" y="5481720"/>
                <a:ext cx="2438280" cy="118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L</m:t>
                        </m:r>
                      </m:num>
                      <m:den>
                        <m:r>
                          <m:t xml:space="preserve">3,6</m:t>
                        </m:r>
                      </m:den>
                    </m:f>
                    <m:r>
                      <m:t xml:space="preserve">≥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≥</m:t>
                    </m:r>
                    <m:f>
                      <m:num>
                        <m:r>
                          <m:t xml:space="preserve">L</m:t>
                        </m:r>
                      </m:num>
                      <m:den>
                        <m:r>
                          <m:t xml:space="preserve">5,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2" name=""/>
          <p:cNvSpPr/>
          <p:nvPr/>
        </p:nvSpPr>
        <p:spPr>
          <a:xfrm>
            <a:off x="3809880" y="4419720"/>
            <a:ext cx="685800" cy="533160"/>
          </a:xfrm>
          <a:prstGeom prst="rightArrow">
            <a:avLst>
              <a:gd name="adj1" fmla="val 50000"/>
              <a:gd name="adj2" fmla="val 3215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3886200" y="1828800"/>
                <a:ext cx="3263760" cy="13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95</m:t>
                    </m:r>
                    <m:r>
                      <m:t xml:space="preserve">(</m:t>
                    </m:r>
                    <m:f>
                      <m:num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H</m:t>
                        </m:r>
                      </m:den>
                    </m:f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38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94" name=""/>
          <p:cNvSpPr/>
          <p:nvPr/>
        </p:nvSpPr>
        <p:spPr>
          <a:xfrm>
            <a:off x="3429000" y="2209680"/>
            <a:ext cx="38088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e1a3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000"/>
                            </p:stCondLst>
                            <p:childTnLst>
                              <p:par>
                                <p:cTn id="241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838080" y="685800"/>
            <a:ext cx="7315200" cy="3291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Análisis de Frecuenc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Análisis de Frecuencias Reg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Relaciones Precipitación-Escorrent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Hidrograma Unit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Fórmula R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Tahoma"/>
              </a:rPr>
              <a:t>	</a:t>
            </a:r>
            <a:r>
              <a:rPr b="0" lang="es-ES_tradnl" sz="2400" spc="-1" strike="noStrike" u="sng">
                <a:solidFill>
                  <a:srgbClr val="ccccff"/>
                </a:solidFill>
                <a:uFillTx/>
                <a:latin typeface="Tahoma"/>
                <a:hlinkClick r:id="rId1" action="ppaction://hlinksldjump"/>
              </a:rPr>
              <a:t>Fórmula de Verni y </a:t>
            </a:r>
            <a:r>
              <a:rPr b="1" lang="es-ES_tradnl" sz="2400" spc="-1" strike="noStrike">
                <a:solidFill>
                  <a:srgbClr val="660033"/>
                </a:solidFill>
                <a:latin typeface="Tahoma"/>
              </a:rPr>
              <a:t>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676520" y="4952880"/>
            <a:ext cx="3809880" cy="64260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Q = c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38080" y="2895480"/>
            <a:ext cx="914400" cy="2895840"/>
          </a:xfrm>
          <a:custGeom>
            <a:avLst/>
            <a:gdLst>
              <a:gd name="textAreaLeft" fmla="*/ 122400 w 914400"/>
              <a:gd name="textAreaRight" fmla="*/ 792000 w 914400"/>
              <a:gd name="textAreaTop" fmla="*/ 506520 h 2895840"/>
              <a:gd name="textAreaBottom" fmla="*/ 2099520 h 2895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gradFill rotWithShape="0">
            <a:gsLst>
              <a:gs pos="0">
                <a:srgbClr val="e1a3c2"/>
              </a:gs>
              <a:gs pos="50000">
                <a:srgbClr val="660033"/>
              </a:gs>
              <a:gs pos="100000">
                <a:srgbClr val="e1a3c2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5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57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61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500"/>
                            </p:stCondLst>
                            <p:childTnLst>
                              <p:par>
                                <p:cTn id="26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65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2000"/>
                            </p:stCondLst>
                            <p:childTnLst>
                              <p:par>
                                <p:cTn id="26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69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500"/>
                            </p:stCondLst>
                            <p:childTnLst>
                              <p:par>
                                <p:cTn id="27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73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3000"/>
                            </p:stCondLst>
                            <p:childTnLst>
                              <p:par>
                                <p:cTn id="27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77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838080" y="457200"/>
            <a:ext cx="457200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Coeficiente de Escorrentí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23880" y="1143000"/>
            <a:ext cx="693432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F(tipo de superficie, Periodo de retorn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380880" y="1752480"/>
            <a:ext cx="7543800" cy="3240720"/>
            <a:chOff x="380880" y="1752480"/>
            <a:chExt cx="7543800" cy="3240720"/>
          </a:xfrm>
        </p:grpSpPr>
        <p:sp>
          <p:nvSpPr>
            <p:cNvPr id="101" name=""/>
            <p:cNvSpPr/>
            <p:nvPr/>
          </p:nvSpPr>
          <p:spPr>
            <a:xfrm>
              <a:off x="380880" y="2819520"/>
              <a:ext cx="3962520" cy="2113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660033"/>
                  </a:solidFill>
                  <a:latin typeface="Tahoma"/>
                </a:rPr>
                <a:t>Suelos arenosos  o con altas tasas de infiltració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660033"/>
                  </a:solidFill>
                  <a:latin typeface="Tahoma"/>
                </a:rPr>
                <a:t>Suelos con tasas de infiltración baj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343400" y="1752480"/>
              <a:ext cx="1981080" cy="324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660033"/>
                  </a:solidFill>
                  <a:latin typeface="Tahoma"/>
                </a:rPr>
                <a:t>Terren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660033"/>
                  </a:solidFill>
                  <a:latin typeface="Tahoma"/>
                </a:rPr>
                <a:t>Cultivad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660033"/>
                  </a:solidFill>
                  <a:latin typeface="Tahoma"/>
                </a:rPr>
                <a:t>0,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660033"/>
                  </a:solidFill>
                  <a:latin typeface="Tahoma"/>
                </a:rPr>
                <a:t>0,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248520" y="1752480"/>
              <a:ext cx="1676160" cy="324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660033"/>
                  </a:solidFill>
                  <a:latin typeface="Tahoma"/>
                </a:rPr>
                <a:t>Terreno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660033"/>
                  </a:solidFill>
                  <a:latin typeface="Tahoma"/>
                </a:rPr>
                <a:t>Boscos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660033"/>
                  </a:solidFill>
                  <a:latin typeface="Tahoma"/>
                </a:rPr>
                <a:t>0,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660033"/>
                  </a:solidFill>
                  <a:latin typeface="Tahoma"/>
                </a:rPr>
                <a:t>0,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457200" y="5105520"/>
            <a:ext cx="6858000" cy="15721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2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5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10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25....  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Asfalto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0,73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0,77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0,81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0,86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1,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Bosques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0,31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0,34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0,36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0,40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0,56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0" y="1905120"/>
            <a:ext cx="1143000" cy="6858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c7558e"/>
              </a:gs>
              <a:gs pos="50000">
                <a:srgbClr val="660033"/>
              </a:gs>
              <a:gs pos="100000">
                <a:srgbClr val="c7558e"/>
              </a:gs>
            </a:gsLst>
            <a:lin ang="13500000"/>
          </a:gra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238880" y="723960"/>
            <a:ext cx="1600200" cy="5448240"/>
          </a:xfrm>
          <a:custGeom>
            <a:avLst/>
            <a:gdLst/>
            <a:ahLst/>
            <a:rect l="l" t="t" r="r" b="b"/>
            <a:pathLst>
              <a:path w="1008" h="3432">
                <a:moveTo>
                  <a:pt x="0" y="264"/>
                </a:moveTo>
                <a:cubicBezTo>
                  <a:pt x="116" y="132"/>
                  <a:pt x="232" y="0"/>
                  <a:pt x="384" y="24"/>
                </a:cubicBezTo>
                <a:cubicBezTo>
                  <a:pt x="536" y="48"/>
                  <a:pt x="816" y="16"/>
                  <a:pt x="912" y="408"/>
                </a:cubicBezTo>
                <a:cubicBezTo>
                  <a:pt x="1008" y="800"/>
                  <a:pt x="1008" y="1904"/>
                  <a:pt x="960" y="2376"/>
                </a:cubicBezTo>
                <a:cubicBezTo>
                  <a:pt x="912" y="2848"/>
                  <a:pt x="768" y="3064"/>
                  <a:pt x="624" y="3240"/>
                </a:cubicBezTo>
                <a:cubicBezTo>
                  <a:pt x="480" y="3416"/>
                  <a:pt x="288" y="3424"/>
                  <a:pt x="96" y="3432"/>
                </a:cubicBezTo>
              </a:path>
            </a:pathLst>
          </a:custGeom>
          <a:noFill/>
          <a:ln w="57240">
            <a:solidFill>
              <a:srgbClr val="e1a3c2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500"/>
                            </p:stCondLst>
                            <p:childTnLst>
                              <p:par>
                                <p:cTn id="3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000"/>
                            </p:stCondLst>
                            <p:childTnLst>
                              <p:par>
                                <p:cTn id="30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838080" y="457200"/>
            <a:ext cx="5791320" cy="5101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Intensidad media máxima en t=t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Tahoma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219320" y="129528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Como determinarl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1981080"/>
            <a:ext cx="3352680" cy="27349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Curvas ID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Isoyetas P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Tahoma"/>
              </a:rPr>
              <a:t>max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 diar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+ CD y C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     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Gruns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95280" y="2971800"/>
            <a:ext cx="3943440" cy="2496960"/>
          </a:xfrm>
          <a:custGeom>
            <a:avLst/>
            <a:gdLst/>
            <a:ahLst/>
            <a:rect l="l" t="t" r="r" b="b"/>
            <a:pathLst>
              <a:path w="2484" h="1573">
                <a:moveTo>
                  <a:pt x="0" y="0"/>
                </a:moveTo>
                <a:cubicBezTo>
                  <a:pt x="41" y="119"/>
                  <a:pt x="93" y="495"/>
                  <a:pt x="246" y="714"/>
                </a:cubicBezTo>
                <a:cubicBezTo>
                  <a:pt x="399" y="933"/>
                  <a:pt x="592" y="1177"/>
                  <a:pt x="919" y="1314"/>
                </a:cubicBezTo>
                <a:cubicBezTo>
                  <a:pt x="1246" y="1451"/>
                  <a:pt x="1953" y="1499"/>
                  <a:pt x="2208" y="1536"/>
                </a:cubicBezTo>
                <a:cubicBezTo>
                  <a:pt x="2463" y="1573"/>
                  <a:pt x="2484" y="1552"/>
                  <a:pt x="2448" y="1536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676520" y="2895480"/>
            <a:ext cx="4000320" cy="2406600"/>
          </a:xfrm>
          <a:custGeom>
            <a:avLst/>
            <a:gdLst/>
            <a:ahLst/>
            <a:rect l="l" t="t" r="r" b="b"/>
            <a:pathLst>
              <a:path w="2520" h="1516">
                <a:moveTo>
                  <a:pt x="0" y="0"/>
                </a:moveTo>
                <a:cubicBezTo>
                  <a:pt x="36" y="103"/>
                  <a:pt x="97" y="440"/>
                  <a:pt x="217" y="616"/>
                </a:cubicBezTo>
                <a:cubicBezTo>
                  <a:pt x="337" y="792"/>
                  <a:pt x="532" y="934"/>
                  <a:pt x="720" y="1056"/>
                </a:cubicBezTo>
                <a:cubicBezTo>
                  <a:pt x="908" y="1178"/>
                  <a:pt x="1120" y="1276"/>
                  <a:pt x="1344" y="1346"/>
                </a:cubicBezTo>
                <a:cubicBezTo>
                  <a:pt x="1568" y="1416"/>
                  <a:pt x="1870" y="1448"/>
                  <a:pt x="2066" y="1476"/>
                </a:cubicBezTo>
                <a:cubicBezTo>
                  <a:pt x="2262" y="1504"/>
                  <a:pt x="2426" y="1508"/>
                  <a:pt x="2520" y="1516"/>
                </a:cubicBezTo>
              </a:path>
            </a:pathLst>
          </a:custGeom>
          <a:noFill/>
          <a:ln w="2844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981080" y="2666880"/>
            <a:ext cx="3992760" cy="2425680"/>
          </a:xfrm>
          <a:custGeom>
            <a:avLst/>
            <a:gdLst/>
            <a:ahLst/>
            <a:rect l="l" t="t" r="r" b="b"/>
            <a:pathLst>
              <a:path w="2515" h="1528">
                <a:moveTo>
                  <a:pt x="0" y="0"/>
                </a:moveTo>
                <a:cubicBezTo>
                  <a:pt x="52" y="120"/>
                  <a:pt x="104" y="240"/>
                  <a:pt x="192" y="384"/>
                </a:cubicBezTo>
                <a:cubicBezTo>
                  <a:pt x="280" y="528"/>
                  <a:pt x="360" y="712"/>
                  <a:pt x="528" y="864"/>
                </a:cubicBezTo>
                <a:cubicBezTo>
                  <a:pt x="696" y="1016"/>
                  <a:pt x="953" y="1192"/>
                  <a:pt x="1200" y="1296"/>
                </a:cubicBezTo>
                <a:cubicBezTo>
                  <a:pt x="1447" y="1400"/>
                  <a:pt x="1793" y="1452"/>
                  <a:pt x="2012" y="1490"/>
                </a:cubicBezTo>
                <a:cubicBezTo>
                  <a:pt x="2231" y="1528"/>
                  <a:pt x="2410" y="1516"/>
                  <a:pt x="2515" y="1523"/>
                </a:cubicBezTo>
              </a:path>
            </a:pathLst>
          </a:custGeom>
          <a:noFill/>
          <a:ln w="2844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971800" y="3581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cc99"/>
                </a:solidFill>
                <a:latin typeface="Tahoma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00400" y="3962520"/>
            <a:ext cx="304920" cy="53316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457200" y="2286000"/>
            <a:ext cx="5334120" cy="3965040"/>
            <a:chOff x="457200" y="2286000"/>
            <a:chExt cx="5334120" cy="3965040"/>
          </a:xfrm>
        </p:grpSpPr>
        <p:sp>
          <p:nvSpPr>
            <p:cNvPr id="116" name=""/>
            <p:cNvSpPr/>
            <p:nvPr/>
          </p:nvSpPr>
          <p:spPr>
            <a:xfrm flipV="1">
              <a:off x="990720" y="2590920"/>
              <a:ext cx="0" cy="3047760"/>
            </a:xfrm>
            <a:prstGeom prst="line">
              <a:avLst/>
            </a:prstGeom>
            <a:ln w="9360">
              <a:solidFill>
                <a:srgbClr val="e1a3c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990720" y="5638680"/>
              <a:ext cx="4190760" cy="0"/>
            </a:xfrm>
            <a:prstGeom prst="line">
              <a:avLst/>
            </a:prstGeom>
            <a:ln w="9360">
              <a:solidFill>
                <a:srgbClr val="e1a3c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" y="22860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648320" y="579132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Tahoma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 flipV="1">
            <a:off x="3200400" y="4800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990720" y="480060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0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500"/>
                            </p:stCondLst>
                            <p:childTnLst>
                              <p:par>
                                <p:cTn id="39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1000"/>
                            </p:stCondLst>
                            <p:childTnLst>
                              <p:par>
                                <p:cTn id="40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1500"/>
                            </p:stCondLst>
                            <p:childTnLst>
                              <p:par>
                                <p:cTn id="40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2000"/>
                            </p:stCondLst>
                            <p:childTnLst>
                              <p:par>
                                <p:cTn id="4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3000"/>
                            </p:stCondLst>
                            <p:childTnLst>
                              <p:par>
                                <p:cTn id="425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3500"/>
                            </p:stCondLst>
                            <p:childTnLst>
                              <p:par>
                                <p:cTn id="432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>
            <a:hlinkClick r:id="rId1" action="ppaction://hlinksldjump"/>
          </p:cNvPr>
          <p:cNvSpPr/>
          <p:nvPr/>
        </p:nvSpPr>
        <p:spPr>
          <a:xfrm>
            <a:off x="8458200" y="6172200"/>
            <a:ext cx="380880" cy="45720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24">
                <a:moveTo>
                  <a:pt x="0" y="0"/>
                </a:moveTo>
                <a:lnTo>
                  <a:pt x="21600" y="0"/>
                </a:lnTo>
                <a:lnTo>
                  <a:pt x="21600" y="25924"/>
                </a:lnTo>
                <a:lnTo>
                  <a:pt x="0" y="25924"/>
                </a:lnTo>
                <a:close/>
              </a:path>
              <a:path fill="lightenLess" w="21600" h="259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24">
                <a:moveTo>
                  <a:pt x="21600" y="0"/>
                </a:moveTo>
                <a:lnTo>
                  <a:pt x="21600" y="25924"/>
                </a:lnTo>
                <a:lnTo>
                  <a:pt x="20200" y="24524"/>
                </a:lnTo>
                <a:lnTo>
                  <a:pt x="20200" y="1400"/>
                </a:lnTo>
                <a:close/>
              </a:path>
              <a:path fill="darkenLess" w="21600" h="25924">
                <a:moveTo>
                  <a:pt x="21600" y="25924"/>
                </a:moveTo>
                <a:lnTo>
                  <a:pt x="0" y="25924"/>
                </a:lnTo>
                <a:lnTo>
                  <a:pt x="1400" y="24524"/>
                </a:lnTo>
                <a:lnTo>
                  <a:pt x="20200" y="24524"/>
                </a:lnTo>
                <a:close/>
              </a:path>
              <a:path fill="lighten" w="21600" h="25924">
                <a:moveTo>
                  <a:pt x="0" y="259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24"/>
                </a:lnTo>
                <a:close/>
              </a:path>
              <a:path fill="darken" w="21600" h="25924">
                <a:moveTo>
                  <a:pt x="3794" y="12962"/>
                </a:moveTo>
                <a:lnTo>
                  <a:pt x="17806" y="5956"/>
                </a:lnTo>
                <a:lnTo>
                  <a:pt x="17806" y="19969"/>
                </a:lnTo>
                <a:close/>
              </a:path>
            </a:pathLst>
          </a:custGeom>
          <a:solidFill>
            <a:srgbClr val="c755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600200" y="457200"/>
            <a:ext cx="6095880" cy="4114800"/>
          </a:xfrm>
          <a:prstGeom prst="rect">
            <a:avLst/>
          </a:prstGeom>
          <a:solidFill>
            <a:srgbClr val="c755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648320" y="457200"/>
            <a:ext cx="0" cy="4114800"/>
          </a:xfrm>
          <a:prstGeom prst="line">
            <a:avLst/>
          </a:prstGeom>
          <a:ln w="9360">
            <a:solidFill>
              <a:srgbClr val="6600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00200" y="2514600"/>
            <a:ext cx="60958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48120" y="457200"/>
            <a:ext cx="152280" cy="41148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019920" y="457200"/>
            <a:ext cx="152280" cy="41148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514600" y="990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438280" y="1676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3429000" y="9907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3428640" y="1600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181480" y="990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15238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6629400" y="9907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6553080" y="1371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286000" y="2895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3352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3580920" y="28195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580920" y="35812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2819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334120" y="33526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6629400" y="2819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552720" y="34290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048120" y="2438280"/>
            <a:ext cx="152280" cy="763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048120" y="4495680"/>
            <a:ext cx="152280" cy="763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9920" y="2438280"/>
            <a:ext cx="152280" cy="763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9920" y="4495680"/>
            <a:ext cx="152280" cy="763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20574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048120" y="2514600"/>
            <a:ext cx="0" cy="198108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019920" y="2514600"/>
            <a:ext cx="0" cy="198108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72200" y="20574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40384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248520" y="4191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200400" y="4572000"/>
            <a:ext cx="2819520" cy="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172200" y="4572000"/>
            <a:ext cx="1523880" cy="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590920" y="3962520"/>
            <a:ext cx="609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486400" y="3581280"/>
            <a:ext cx="609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657600" y="4648320"/>
            <a:ext cx="609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e1a3c2"/>
                </a:solidFill>
                <a:latin typeface="Tahoma"/>
              </a:rPr>
              <a:t>T</a:t>
            </a:r>
            <a:r>
              <a:rPr b="1" lang="es-ES_tradnl" sz="1800" spc="-1" strike="noStrike" baseline="-25000">
                <a:solidFill>
                  <a:srgbClr val="e1a3c2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477120" y="4648320"/>
            <a:ext cx="609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e1a3c2"/>
                </a:solidFill>
                <a:latin typeface="Tahoma"/>
              </a:rPr>
              <a:t>T</a:t>
            </a:r>
            <a:r>
              <a:rPr b="1" lang="es-ES_tradnl" sz="1800" spc="-1" strike="noStrike" baseline="-25000">
                <a:solidFill>
                  <a:srgbClr val="e1a3c2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8080" y="5486400"/>
            <a:ext cx="4800600" cy="57960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e1a3c2"/>
                </a:solidFill>
                <a:latin typeface="Tahoma"/>
              </a:rPr>
              <a:t>t</a:t>
            </a:r>
            <a:r>
              <a:rPr b="1" lang="es-ES_tradnl" sz="2800" spc="-1" strike="noStrike" baseline="-25000">
                <a:solidFill>
                  <a:srgbClr val="e1a3c2"/>
                </a:solidFill>
                <a:latin typeface="Tahoma"/>
              </a:rPr>
              <a:t>c</a:t>
            </a:r>
            <a:r>
              <a:rPr b="1" lang="es-ES_tradnl" sz="2800" spc="-1" strike="noStrike">
                <a:solidFill>
                  <a:srgbClr val="e1a3c2"/>
                </a:solidFill>
                <a:latin typeface="Tahoma"/>
              </a:rPr>
              <a:t>=t</a:t>
            </a:r>
            <a:r>
              <a:rPr b="1" lang="es-ES_tradnl" sz="2800" spc="-1" strike="noStrike" baseline="-25000">
                <a:solidFill>
                  <a:srgbClr val="e1a3c2"/>
                </a:solidFill>
                <a:latin typeface="Tahoma"/>
              </a:rPr>
              <a:t>entrada</a:t>
            </a:r>
            <a:r>
              <a:rPr b="1" lang="es-ES_tradnl" sz="2800" spc="-1" strike="noStrike">
                <a:solidFill>
                  <a:srgbClr val="e1a3c2"/>
                </a:solidFill>
                <a:latin typeface="Tahoma"/>
              </a:rPr>
              <a:t>+t</a:t>
            </a:r>
            <a:r>
              <a:rPr b="1" lang="es-ES_tradnl" sz="2800" spc="-1" strike="noStrike" baseline="-25000">
                <a:solidFill>
                  <a:srgbClr val="e1a3c2"/>
                </a:solidFill>
                <a:latin typeface="Tahoma"/>
              </a:rPr>
              <a:t>flu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429000" y="62485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imes New Roman"/>
              </a:rPr>
              <a:t>Ma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 flipV="1">
            <a:off x="3200040" y="6019920"/>
            <a:ext cx="304920" cy="457200"/>
          </a:xfrm>
          <a:prstGeom prst="line">
            <a:avLst/>
          </a:prstGeom>
          <a:ln w="381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943600" y="5410080"/>
            <a:ext cx="2514600" cy="134244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T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Tahoma"/>
              </a:rPr>
              <a:t>3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 se calcula con i para t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Tahoma"/>
              </a:rPr>
              <a:t>c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 y área =S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Tahoma"/>
              </a:rPr>
              <a:t>1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+S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6T21:38:08Z</dcterms:created>
  <dc:creator>Ximena Vargas</dc:creator>
  <dc:description/>
  <dc:language>en-US</dc:language>
  <cp:lastModifiedBy>Sala_B203</cp:lastModifiedBy>
  <dcterms:modified xsi:type="dcterms:W3CDTF">2005-11-04T16:34:41Z</dcterms:modified>
  <cp:revision>23</cp:revision>
  <dc:subject/>
  <dc:title>CAPITULO 8</dc:title>
</cp:coreProperties>
</file>