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D18-F02D-42CE-B3BD-4219A863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0A1-2765-4221-9410-0CA6A54B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8C8-D4CF-4B1E-AB23-54870FA9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FED-2456-452C-B6F2-89ED5A94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B90-5E48-445D-8385-4279195F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1F1-F06A-4E84-A290-5F3F1469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B8D-420C-4FC1-8AC7-2989F43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1C5-21DA-4D1E-9564-F4A5B44B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085-5BEA-4E25-A3EB-FAD75A8F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282-2826-4C12-B427-C74B087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DD9-6542-4FCB-9A7A-5836FF61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C12-16E0-43A4-B790-007696B3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3CDA-B8ED-474D-850F-0DC331ABF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6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1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79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3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685800"/>
            <a:ext cx="7315200" cy="329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Fórmula de Verni y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1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16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Sala_B203</cp:lastModifiedBy>
  <dcterms:modified xsi:type="dcterms:W3CDTF">2005-11-04T16:34:41Z</dcterms:modified>
  <cp:revision>23</cp:revision>
  <dc:subject/>
  <dc:title>CAPITULO 8</dc:title>
</cp:coreProperties>
</file>