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4B9-6C98-4BE6-8688-C8BB374D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25F-DD1F-4681-9895-E366218E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142-F58A-4AF4-967D-FAC9148C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820-46E3-467C-9C3B-31829F4F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321-D615-4CE4-B252-0DC33814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B6D-BAC5-4B3A-8944-E19F6F64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B9D-88DC-4518-8AD5-A83F20CD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BEA-4C24-40E2-BD34-7AFAEEEF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515-65DF-4AE4-84B5-A946AA00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575-8C8C-446D-A080-E2150B7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4B0-4EB9-432A-BB7B-866D91B4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322-8C19-4B67-BBCF-64B39C5C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240D-F679-463E-A1DA-D0630F81A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6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1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79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3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685800"/>
            <a:ext cx="7315200" cy="329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Fórmula de Verni y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1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16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Sala_B203</cp:lastModifiedBy>
  <dcterms:modified xsi:type="dcterms:W3CDTF">2005-11-04T16:34:41Z</dcterms:modified>
  <cp:revision>23</cp:revision>
  <dc:subject/>
  <dc:title>CAPITULO 8</dc:title>
</cp:coreProperties>
</file>