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EBD-1474-4FFF-BFC4-BF4E6569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733-A52F-4587-92BA-10FED97A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120-592A-45F6-A23F-2A854C3B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4A2-130A-4523-A7A2-D9C178D7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75C-9714-447A-B017-44D9DFB9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098-DD67-40B2-925E-0F058944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4C9-D1C9-4D96-B659-652F9ED5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DA2-4C96-4A6B-94B4-97019E62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656-78EE-4B27-9E8A-C89A4314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C9A-340F-4FE5-8459-0AEDE47A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FCD-B46C-4E67-85BC-E1678727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59E-7A66-4E83-AF4D-D2A2DC0D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405C-5872-4A16-AD4A-2316DC685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880" y="914400"/>
            <a:ext cx="8305560" cy="5287680"/>
            <a:chOff x="380880" y="914400"/>
            <a:chExt cx="8305560" cy="5287680"/>
          </a:xfrm>
        </p:grpSpPr>
        <p:pic>
          <p:nvPicPr>
            <p:cNvPr id="42" name="Macul1" descr=""/>
            <p:cNvPicPr/>
            <p:nvPr/>
          </p:nvPicPr>
          <p:blipFill>
            <a:blip r:embed="rId1"/>
            <a:stretch/>
          </p:blipFill>
          <p:spPr>
            <a:xfrm>
              <a:off x="380880" y="914400"/>
              <a:ext cx="8305560" cy="52876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</p:pic>
        <p:sp>
          <p:nvSpPr>
            <p:cNvPr id="43" name=""/>
            <p:cNvSpPr/>
            <p:nvPr/>
          </p:nvSpPr>
          <p:spPr>
            <a:xfrm>
              <a:off x="380880" y="4271760"/>
              <a:ext cx="7625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Verdana"/>
                </a:rPr>
                <a:t>CAPITULO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Verdana"/>
                </a:rPr>
                <a:t>HIdroLOGI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Verdana"/>
                </a:rPr>
                <a:t>PRoBAbiLISt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295280"/>
            <a:ext cx="693432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Probabilidad de tener lluvia menor que 35 mm en 2 años segui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34290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00"/>
                </a:solidFill>
                <a:latin typeface="Verdana"/>
              </a:rPr>
              <a:t>P(A)</a:t>
            </a:r>
            <a:r>
              <a:rPr b="1" lang="es-ES_tradnl" sz="3200" spc="-1" strike="noStrike" baseline="30000">
                <a:solidFill>
                  <a:srgbClr val="00ff00"/>
                </a:solidFill>
                <a:latin typeface="Verdana"/>
              </a:rPr>
              <a:t>2</a:t>
            </a:r>
            <a:r>
              <a:rPr b="1" lang="es-ES_tradnl" sz="3200" spc="-1" strike="noStrike">
                <a:solidFill>
                  <a:srgbClr val="00ff00"/>
                </a:solidFill>
                <a:latin typeface="Verdana"/>
              </a:rPr>
              <a:t>=0,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362320"/>
            <a:ext cx="1067040" cy="99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000066"/>
              </a:gs>
              <a:gs pos="100000">
                <a:srgbClr val="00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457200"/>
            <a:ext cx="807696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POBLACION----MUESTRA----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13372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VARIABLE ALEATORIA: Discretas y contin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581280"/>
            <a:ext cx="8305920" cy="192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Clase----Marcado de clase (x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Módulo de Clase (</a:t>
            </a: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frecuencia absoluta de una clase (f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frecuencia relativa (f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r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frecuencia correspondiente (f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distribución o función densidad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25909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HIST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915840"/>
          <a:ext cx="7315200" cy="560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5840"/>
                    <a:ext cx="731520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457200"/>
            <a:ext cx="57913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HISTOGRAMA NORM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974880"/>
          <a:ext cx="746748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74880"/>
                    <a:ext cx="746748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172200" y="1424160"/>
                <a:ext cx="27432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04960" y="971640"/>
            <a:ext cx="7534080" cy="4914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5120" y="533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609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OB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6172200"/>
            <a:ext cx="2971800" cy="304920"/>
          </a:xfrm>
          <a:custGeom>
            <a:avLst/>
            <a:gdLst>
              <a:gd name="textAreaLeft" fmla="*/ 519840 w 2971800"/>
              <a:gd name="textAreaRight" fmla="*/ 2154600 w 2971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3526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UNCIÓN DE FRECUENCIA REL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58672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UNCIÓN DE FRECUENCIA ACUMU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601992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UNCIÓN DISTRIBUCION DE PROBABIL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3200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UNCIÓN DENSIDAD DE PROBABIL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990720" y="533520"/>
                <a:ext cx="2000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029200" y="609480"/>
            <a:ext cx="35812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f(x)=dF(x)/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429000" y="2057400"/>
                <a:ext cx="4635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895480" y="3200400"/>
                <a:ext cx="381024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8680" y="1676520"/>
            <a:ext cx="4886640" cy="35049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352680" y="3048120"/>
            <a:ext cx="990720" cy="1936440"/>
            <a:chOff x="3352680" y="3048120"/>
            <a:chExt cx="990720" cy="1936440"/>
          </a:xfrm>
        </p:grpSpPr>
        <p:sp>
          <p:nvSpPr>
            <p:cNvPr id="138" name=""/>
            <p:cNvSpPr/>
            <p:nvPr/>
          </p:nvSpPr>
          <p:spPr>
            <a:xfrm>
              <a:off x="3657600" y="3048120"/>
              <a:ext cx="152280" cy="1600200"/>
            </a:xfrm>
            <a:custGeom>
              <a:avLst/>
              <a:gdLst/>
              <a:ahLst/>
              <a:rect l="l" t="t" r="r" b="b"/>
              <a:pathLst>
                <a:path w="96" h="1008">
                  <a:moveTo>
                    <a:pt x="0" y="1008"/>
                  </a:moveTo>
                  <a:lnTo>
                    <a:pt x="0" y="240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96" y="1008"/>
                  </a:lnTo>
                </a:path>
              </a:pathLst>
            </a:custGeom>
            <a:solidFill>
              <a:srgbClr val="ff33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4648320"/>
              <a:ext cx="99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c0000"/>
                  </a:solidFill>
                  <a:latin typeface="Verdana"/>
                </a:rPr>
                <a:t> </a:t>
              </a:r>
              <a:r>
                <a:rPr b="1" lang="es-ES_tradnl" sz="1400" spc="-1" strike="noStrike">
                  <a:solidFill>
                    <a:srgbClr val="cc0000"/>
                  </a:solidFill>
                  <a:latin typeface="Verdana"/>
                </a:rPr>
                <a:t>x</a:t>
              </a:r>
              <a:r>
                <a:rPr b="1" lang="es-ES_tradnl" sz="1400" spc="-1" strike="noStrike" baseline="-25000">
                  <a:solidFill>
                    <a:srgbClr val="cc0000"/>
                  </a:solidFill>
                  <a:latin typeface="Verdana"/>
                </a:rPr>
                <a:t>1</a:t>
              </a:r>
              <a:r>
                <a:rPr b="1" lang="es-ES_tradnl" sz="1400" spc="-1" strike="noStrike">
                  <a:solidFill>
                    <a:srgbClr val="cc0000"/>
                  </a:solidFill>
                  <a:latin typeface="Verdana"/>
                </a:rPr>
                <a:t>  x</a:t>
              </a:r>
              <a:r>
                <a:rPr b="1" lang="es-ES_tradnl" sz="1400" spc="-1" strike="noStrike" baseline="-25000">
                  <a:solidFill>
                    <a:srgbClr val="cc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495680" y="609480"/>
            <a:ext cx="426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Curva densidad de frec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181480" y="990720"/>
            <a:ext cx="990720" cy="1371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3520" y="5562720"/>
                <a:ext cx="32004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876920" y="5557680"/>
                <a:ext cx="3886200" cy="10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2514600" y="2666880"/>
            <a:ext cx="1523880" cy="1981440"/>
          </a:xfrm>
          <a:custGeom>
            <a:avLst/>
            <a:gdLst/>
            <a:ahLst/>
            <a:rect l="l" t="t" r="r" b="b"/>
            <a:pathLst>
              <a:path w="960" h="1248">
                <a:moveTo>
                  <a:pt x="0" y="1248"/>
                </a:moveTo>
                <a:lnTo>
                  <a:pt x="960" y="1248"/>
                </a:lnTo>
                <a:lnTo>
                  <a:pt x="960" y="0"/>
                </a:lnTo>
                <a:lnTo>
                  <a:pt x="912" y="96"/>
                </a:lnTo>
                <a:lnTo>
                  <a:pt x="864" y="192"/>
                </a:lnTo>
                <a:lnTo>
                  <a:pt x="816" y="336"/>
                </a:lnTo>
                <a:lnTo>
                  <a:pt x="720" y="480"/>
                </a:lnTo>
                <a:lnTo>
                  <a:pt x="672" y="576"/>
                </a:lnTo>
                <a:lnTo>
                  <a:pt x="576" y="720"/>
                </a:lnTo>
                <a:lnTo>
                  <a:pt x="432" y="816"/>
                </a:lnTo>
                <a:lnTo>
                  <a:pt x="288" y="912"/>
                </a:lnTo>
                <a:lnTo>
                  <a:pt x="96" y="960"/>
                </a:lnTo>
                <a:lnTo>
                  <a:pt x="0" y="1008"/>
                </a:lnTo>
                <a:lnTo>
                  <a:pt x="0" y="12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4343400"/>
            <a:ext cx="1295640" cy="1371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9480" y="990720"/>
            <a:ext cx="76964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Serie de excedencia (p) o series anuales de máximos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2819520"/>
            <a:ext cx="29718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1" lang="es-ES_tradnl" sz="2800" spc="-1" strike="noStrike" baseline="-25000">
                <a:solidFill>
                  <a:srgbClr val="000066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=-Ln(1-P</a:t>
            </a:r>
            <a:r>
              <a:rPr b="1" lang="es-ES_tradnl" sz="2800" spc="-1" strike="noStrike" baseline="-25000">
                <a:solidFill>
                  <a:srgbClr val="000066"/>
                </a:solidFill>
                <a:latin typeface="Verdana"/>
              </a:rPr>
              <a:t>a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807000" cy="9921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966960" y="3048120"/>
            <a:ext cx="5224320" cy="3136680"/>
            <a:chOff x="966960" y="3048120"/>
            <a:chExt cx="5224320" cy="3136680"/>
          </a:xfrm>
        </p:grpSpPr>
        <p:grpSp>
          <p:nvGrpSpPr>
            <p:cNvPr id="46" name=""/>
            <p:cNvGrpSpPr/>
            <p:nvPr/>
          </p:nvGrpSpPr>
          <p:grpSpPr>
            <a:xfrm>
              <a:off x="3048120" y="4952880"/>
              <a:ext cx="914400" cy="76320"/>
              <a:chOff x="3048120" y="4952880"/>
              <a:chExt cx="914400" cy="76320"/>
            </a:xfrm>
          </p:grpSpPr>
          <p:sp>
            <p:nvSpPr>
              <p:cNvPr id="47" name=""/>
              <p:cNvSpPr/>
              <p:nvPr/>
            </p:nvSpPr>
            <p:spPr>
              <a:xfrm>
                <a:off x="3048120" y="4952880"/>
                <a:ext cx="9144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429000" y="5029200"/>
                <a:ext cx="2286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966960" y="3048120"/>
              <a:ext cx="5224320" cy="3136680"/>
              <a:chOff x="966960" y="3048120"/>
              <a:chExt cx="5224320" cy="3136680"/>
            </a:xfrm>
          </p:grpSpPr>
          <p:sp>
            <p:nvSpPr>
              <p:cNvPr id="50" name=""/>
              <p:cNvSpPr/>
              <p:nvPr/>
            </p:nvSpPr>
            <p:spPr>
              <a:xfrm>
                <a:off x="966960" y="3170160"/>
                <a:ext cx="5224320" cy="3014640"/>
              </a:xfrm>
              <a:custGeom>
                <a:avLst/>
                <a:gdLst/>
                <a:ahLst/>
                <a:rect l="l" t="t" r="r" b="b"/>
                <a:pathLst>
                  <a:path w="3291" h="1899">
                    <a:moveTo>
                      <a:pt x="68" y="0"/>
                    </a:moveTo>
                    <a:cubicBezTo>
                      <a:pt x="86" y="53"/>
                      <a:pt x="101" y="142"/>
                      <a:pt x="77" y="197"/>
                    </a:cubicBezTo>
                    <a:cubicBezTo>
                      <a:pt x="73" y="205"/>
                      <a:pt x="60" y="203"/>
                      <a:pt x="51" y="206"/>
                    </a:cubicBezTo>
                    <a:cubicBezTo>
                      <a:pt x="37" y="247"/>
                      <a:pt x="35" y="224"/>
                      <a:pt x="77" y="249"/>
                    </a:cubicBezTo>
                    <a:cubicBezTo>
                      <a:pt x="95" y="259"/>
                      <a:pt x="128" y="283"/>
                      <a:pt x="128" y="283"/>
                    </a:cubicBezTo>
                    <a:cubicBezTo>
                      <a:pt x="134" y="301"/>
                      <a:pt x="152" y="315"/>
                      <a:pt x="154" y="334"/>
                    </a:cubicBezTo>
                    <a:cubicBezTo>
                      <a:pt x="160" y="394"/>
                      <a:pt x="123" y="434"/>
                      <a:pt x="85" y="472"/>
                    </a:cubicBezTo>
                    <a:cubicBezTo>
                      <a:pt x="88" y="489"/>
                      <a:pt x="85" y="508"/>
                      <a:pt x="94" y="523"/>
                    </a:cubicBezTo>
                    <a:cubicBezTo>
                      <a:pt x="99" y="531"/>
                      <a:pt x="113" y="526"/>
                      <a:pt x="120" y="532"/>
                    </a:cubicBezTo>
                    <a:cubicBezTo>
                      <a:pt x="128" y="538"/>
                      <a:pt x="130" y="550"/>
                      <a:pt x="137" y="557"/>
                    </a:cubicBezTo>
                    <a:cubicBezTo>
                      <a:pt x="144" y="564"/>
                      <a:pt x="154" y="568"/>
                      <a:pt x="162" y="574"/>
                    </a:cubicBezTo>
                    <a:cubicBezTo>
                      <a:pt x="168" y="592"/>
                      <a:pt x="188" y="607"/>
                      <a:pt x="188" y="626"/>
                    </a:cubicBezTo>
                    <a:cubicBezTo>
                      <a:pt x="188" y="664"/>
                      <a:pt x="91" y="718"/>
                      <a:pt x="77" y="729"/>
                    </a:cubicBezTo>
                    <a:cubicBezTo>
                      <a:pt x="50" y="750"/>
                      <a:pt x="0" y="797"/>
                      <a:pt x="0" y="797"/>
                    </a:cubicBezTo>
                    <a:cubicBezTo>
                      <a:pt x="3" y="806"/>
                      <a:pt x="1" y="817"/>
                      <a:pt x="8" y="823"/>
                    </a:cubicBezTo>
                    <a:cubicBezTo>
                      <a:pt x="17" y="831"/>
                      <a:pt x="31" y="829"/>
                      <a:pt x="42" y="832"/>
                    </a:cubicBezTo>
                    <a:cubicBezTo>
                      <a:pt x="68" y="838"/>
                      <a:pt x="94" y="844"/>
                      <a:pt x="120" y="849"/>
                    </a:cubicBezTo>
                    <a:cubicBezTo>
                      <a:pt x="134" y="852"/>
                      <a:pt x="162" y="857"/>
                      <a:pt x="162" y="857"/>
                    </a:cubicBezTo>
                    <a:cubicBezTo>
                      <a:pt x="201" y="876"/>
                      <a:pt x="217" y="869"/>
                      <a:pt x="231" y="909"/>
                    </a:cubicBezTo>
                    <a:cubicBezTo>
                      <a:pt x="223" y="949"/>
                      <a:pt x="215" y="976"/>
                      <a:pt x="197" y="1012"/>
                    </a:cubicBezTo>
                    <a:cubicBezTo>
                      <a:pt x="191" y="1063"/>
                      <a:pt x="190" y="1115"/>
                      <a:pt x="180" y="1166"/>
                    </a:cubicBezTo>
                    <a:cubicBezTo>
                      <a:pt x="176" y="1184"/>
                      <a:pt x="162" y="1217"/>
                      <a:pt x="162" y="1217"/>
                    </a:cubicBezTo>
                    <a:cubicBezTo>
                      <a:pt x="199" y="1252"/>
                      <a:pt x="187" y="1277"/>
                      <a:pt x="154" y="1312"/>
                    </a:cubicBezTo>
                    <a:cubicBezTo>
                      <a:pt x="162" y="1315"/>
                      <a:pt x="203" y="1324"/>
                      <a:pt x="205" y="1337"/>
                    </a:cubicBezTo>
                    <a:cubicBezTo>
                      <a:pt x="206" y="1343"/>
                      <a:pt x="167" y="1409"/>
                      <a:pt x="162" y="1423"/>
                    </a:cubicBezTo>
                    <a:cubicBezTo>
                      <a:pt x="179" y="1472"/>
                      <a:pt x="138" y="1496"/>
                      <a:pt x="111" y="1534"/>
                    </a:cubicBezTo>
                    <a:cubicBezTo>
                      <a:pt x="88" y="1567"/>
                      <a:pt x="74" y="1604"/>
                      <a:pt x="51" y="1637"/>
                    </a:cubicBezTo>
                    <a:cubicBezTo>
                      <a:pt x="48" y="1654"/>
                      <a:pt x="42" y="1671"/>
                      <a:pt x="42" y="1689"/>
                    </a:cubicBezTo>
                    <a:cubicBezTo>
                      <a:pt x="42" y="1766"/>
                      <a:pt x="94" y="1760"/>
                      <a:pt x="154" y="1774"/>
                    </a:cubicBezTo>
                    <a:cubicBezTo>
                      <a:pt x="157" y="1811"/>
                      <a:pt x="145" y="1853"/>
                      <a:pt x="162" y="1886"/>
                    </a:cubicBezTo>
                    <a:cubicBezTo>
                      <a:pt x="168" y="1899"/>
                      <a:pt x="184" y="1866"/>
                      <a:pt x="197" y="1860"/>
                    </a:cubicBezTo>
                    <a:cubicBezTo>
                      <a:pt x="273" y="1825"/>
                      <a:pt x="297" y="1832"/>
                      <a:pt x="385" y="1826"/>
                    </a:cubicBezTo>
                    <a:cubicBezTo>
                      <a:pt x="458" y="1801"/>
                      <a:pt x="601" y="1799"/>
                      <a:pt x="685" y="1792"/>
                    </a:cubicBezTo>
                    <a:cubicBezTo>
                      <a:pt x="1085" y="1795"/>
                      <a:pt x="1485" y="1800"/>
                      <a:pt x="1885" y="1800"/>
                    </a:cubicBezTo>
                    <a:cubicBezTo>
                      <a:pt x="2954" y="1800"/>
                      <a:pt x="2757" y="1876"/>
                      <a:pt x="3240" y="1766"/>
                    </a:cubicBezTo>
                    <a:cubicBezTo>
                      <a:pt x="3209" y="1736"/>
                      <a:pt x="3153" y="1732"/>
                      <a:pt x="3111" y="1723"/>
                    </a:cubicBezTo>
                    <a:cubicBezTo>
                      <a:pt x="3144" y="1690"/>
                      <a:pt x="3181" y="1682"/>
                      <a:pt x="3222" y="1663"/>
                    </a:cubicBezTo>
                    <a:cubicBezTo>
                      <a:pt x="3245" y="1652"/>
                      <a:pt x="3291" y="1629"/>
                      <a:pt x="3291" y="1629"/>
                    </a:cubicBezTo>
                    <a:cubicBezTo>
                      <a:pt x="3285" y="1620"/>
                      <a:pt x="3283" y="1608"/>
                      <a:pt x="3274" y="1603"/>
                    </a:cubicBezTo>
                    <a:cubicBezTo>
                      <a:pt x="3258" y="1595"/>
                      <a:pt x="3233" y="1607"/>
                      <a:pt x="3222" y="1594"/>
                    </a:cubicBezTo>
                    <a:cubicBezTo>
                      <a:pt x="3201" y="1570"/>
                      <a:pt x="3269" y="1519"/>
                      <a:pt x="3282" y="1500"/>
                    </a:cubicBezTo>
                    <a:cubicBezTo>
                      <a:pt x="3256" y="1461"/>
                      <a:pt x="3272" y="1459"/>
                      <a:pt x="3282" y="1414"/>
                    </a:cubicBezTo>
                    <a:cubicBezTo>
                      <a:pt x="3264" y="1359"/>
                      <a:pt x="3205" y="1353"/>
                      <a:pt x="3154" y="1346"/>
                    </a:cubicBezTo>
                    <a:cubicBezTo>
                      <a:pt x="3129" y="1337"/>
                      <a:pt x="3092" y="1350"/>
                      <a:pt x="3077" y="1329"/>
                    </a:cubicBezTo>
                    <a:cubicBezTo>
                      <a:pt x="3067" y="1315"/>
                      <a:pt x="3080" y="1294"/>
                      <a:pt x="3085" y="1277"/>
                    </a:cubicBezTo>
                    <a:cubicBezTo>
                      <a:pt x="3096" y="1240"/>
                      <a:pt x="3131" y="1213"/>
                      <a:pt x="3154" y="1183"/>
                    </a:cubicBezTo>
                    <a:cubicBezTo>
                      <a:pt x="3163" y="1153"/>
                      <a:pt x="3180" y="1132"/>
                      <a:pt x="3197" y="1106"/>
                    </a:cubicBezTo>
                    <a:cubicBezTo>
                      <a:pt x="3152" y="1079"/>
                      <a:pt x="3103" y="1075"/>
                      <a:pt x="3060" y="1046"/>
                    </a:cubicBezTo>
                    <a:cubicBezTo>
                      <a:pt x="3066" y="1032"/>
                      <a:pt x="3090" y="966"/>
                      <a:pt x="3111" y="943"/>
                    </a:cubicBezTo>
                    <a:cubicBezTo>
                      <a:pt x="3133" y="919"/>
                      <a:pt x="3157" y="897"/>
                      <a:pt x="3180" y="874"/>
                    </a:cubicBezTo>
                    <a:cubicBezTo>
                      <a:pt x="3188" y="866"/>
                      <a:pt x="3205" y="849"/>
                      <a:pt x="3205" y="849"/>
                    </a:cubicBezTo>
                    <a:cubicBezTo>
                      <a:pt x="3202" y="835"/>
                      <a:pt x="3206" y="818"/>
                      <a:pt x="3197" y="806"/>
                    </a:cubicBezTo>
                    <a:cubicBezTo>
                      <a:pt x="3176" y="779"/>
                      <a:pt x="3114" y="756"/>
                      <a:pt x="3085" y="737"/>
                    </a:cubicBezTo>
                    <a:cubicBezTo>
                      <a:pt x="3040" y="671"/>
                      <a:pt x="3098" y="768"/>
                      <a:pt x="3077" y="617"/>
                    </a:cubicBezTo>
                    <a:cubicBezTo>
                      <a:pt x="3075" y="605"/>
                      <a:pt x="3062" y="597"/>
                      <a:pt x="3051" y="592"/>
                    </a:cubicBezTo>
                    <a:cubicBezTo>
                      <a:pt x="3007" y="570"/>
                      <a:pt x="2958" y="562"/>
                      <a:pt x="2914" y="540"/>
                    </a:cubicBezTo>
                    <a:cubicBezTo>
                      <a:pt x="2876" y="482"/>
                      <a:pt x="2904" y="412"/>
                      <a:pt x="2940" y="360"/>
                    </a:cubicBezTo>
                    <a:cubicBezTo>
                      <a:pt x="2959" y="293"/>
                      <a:pt x="2981" y="235"/>
                      <a:pt x="3008" y="172"/>
                    </a:cubicBezTo>
                    <a:cubicBezTo>
                      <a:pt x="3050" y="74"/>
                      <a:pt x="3018" y="108"/>
                      <a:pt x="3060" y="69"/>
                    </a:cubicBezTo>
                    <a:cubicBezTo>
                      <a:pt x="3051" y="63"/>
                      <a:pt x="3044" y="56"/>
                      <a:pt x="3034" y="52"/>
                    </a:cubicBezTo>
                    <a:cubicBezTo>
                      <a:pt x="3023" y="47"/>
                      <a:pt x="3007" y="52"/>
                      <a:pt x="3000" y="43"/>
                    </a:cubicBezTo>
                    <a:cubicBezTo>
                      <a:pt x="2995" y="36"/>
                      <a:pt x="3008" y="17"/>
                      <a:pt x="3008" y="17"/>
                    </a:cubicBezTo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66680" y="3048120"/>
                <a:ext cx="4724640" cy="1522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48120" y="4419720"/>
                <a:ext cx="914400" cy="9144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006720" y="4930920"/>
                <a:ext cx="969840" cy="488880"/>
              </a:xfrm>
              <a:custGeom>
                <a:avLst/>
                <a:gdLst/>
                <a:ahLst/>
                <a:rect l="l" t="t" r="r" b="b"/>
                <a:pathLst>
                  <a:path w="611" h="308">
                    <a:moveTo>
                      <a:pt x="26" y="5"/>
                    </a:moveTo>
                    <a:cubicBezTo>
                      <a:pt x="37" y="76"/>
                      <a:pt x="87" y="211"/>
                      <a:pt x="163" y="237"/>
                    </a:cubicBezTo>
                    <a:cubicBezTo>
                      <a:pt x="196" y="270"/>
                      <a:pt x="211" y="270"/>
                      <a:pt x="257" y="280"/>
                    </a:cubicBezTo>
                    <a:cubicBezTo>
                      <a:pt x="329" y="277"/>
                      <a:pt x="416" y="308"/>
                      <a:pt x="472" y="263"/>
                    </a:cubicBezTo>
                    <a:cubicBezTo>
                      <a:pt x="480" y="257"/>
                      <a:pt x="481" y="244"/>
                      <a:pt x="489" y="237"/>
                    </a:cubicBezTo>
                    <a:cubicBezTo>
                      <a:pt x="504" y="223"/>
                      <a:pt x="540" y="203"/>
                      <a:pt x="540" y="203"/>
                    </a:cubicBezTo>
                    <a:cubicBezTo>
                      <a:pt x="550" y="188"/>
                      <a:pt x="565" y="176"/>
                      <a:pt x="575" y="160"/>
                    </a:cubicBezTo>
                    <a:cubicBezTo>
                      <a:pt x="594" y="129"/>
                      <a:pt x="597" y="82"/>
                      <a:pt x="609" y="48"/>
                    </a:cubicBezTo>
                    <a:cubicBezTo>
                      <a:pt x="606" y="37"/>
                      <a:pt x="611" y="16"/>
                      <a:pt x="600" y="14"/>
                    </a:cubicBezTo>
                    <a:cubicBezTo>
                      <a:pt x="535" y="0"/>
                      <a:pt x="443" y="38"/>
                      <a:pt x="377" y="48"/>
                    </a:cubicBezTo>
                    <a:cubicBezTo>
                      <a:pt x="326" y="41"/>
                      <a:pt x="306" y="40"/>
                      <a:pt x="266" y="14"/>
                    </a:cubicBezTo>
                    <a:cubicBezTo>
                      <a:pt x="186" y="17"/>
                      <a:pt x="106" y="18"/>
                      <a:pt x="26" y="23"/>
                    </a:cubicBezTo>
                    <a:cubicBezTo>
                      <a:pt x="17" y="24"/>
                      <a:pt x="0" y="40"/>
                      <a:pt x="0" y="31"/>
                    </a:cubicBezTo>
                    <a:cubicBezTo>
                      <a:pt x="0" y="19"/>
                      <a:pt x="17" y="14"/>
                      <a:pt x="26" y="5"/>
                    </a:cubicBez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6491160" y="293760"/>
            <a:ext cx="2341800" cy="1700280"/>
            <a:chOff x="6491160" y="293760"/>
            <a:chExt cx="2341800" cy="1700280"/>
          </a:xfrm>
        </p:grpSpPr>
        <p:sp>
          <p:nvSpPr>
            <p:cNvPr id="55" name=""/>
            <p:cNvSpPr/>
            <p:nvPr/>
          </p:nvSpPr>
          <p:spPr>
            <a:xfrm>
              <a:off x="6513480" y="293760"/>
              <a:ext cx="2319480" cy="1700280"/>
            </a:xfrm>
            <a:custGeom>
              <a:avLst/>
              <a:gdLst/>
              <a:ahLst/>
              <a:rect l="l" t="t" r="r" b="b"/>
              <a:pathLst>
                <a:path w="1461" h="1071">
                  <a:moveTo>
                    <a:pt x="3" y="1024"/>
                  </a:moveTo>
                  <a:cubicBezTo>
                    <a:pt x="56" y="1005"/>
                    <a:pt x="0" y="1029"/>
                    <a:pt x="54" y="989"/>
                  </a:cubicBezTo>
                  <a:cubicBezTo>
                    <a:pt x="67" y="979"/>
                    <a:pt x="84" y="974"/>
                    <a:pt x="97" y="964"/>
                  </a:cubicBezTo>
                  <a:cubicBezTo>
                    <a:pt x="139" y="931"/>
                    <a:pt x="165" y="880"/>
                    <a:pt x="191" y="835"/>
                  </a:cubicBezTo>
                  <a:cubicBezTo>
                    <a:pt x="204" y="786"/>
                    <a:pt x="188" y="723"/>
                    <a:pt x="217" y="681"/>
                  </a:cubicBezTo>
                  <a:cubicBezTo>
                    <a:pt x="257" y="622"/>
                    <a:pt x="315" y="577"/>
                    <a:pt x="363" y="526"/>
                  </a:cubicBezTo>
                  <a:cubicBezTo>
                    <a:pt x="366" y="444"/>
                    <a:pt x="338" y="349"/>
                    <a:pt x="397" y="286"/>
                  </a:cubicBezTo>
                  <a:cubicBezTo>
                    <a:pt x="423" y="212"/>
                    <a:pt x="470" y="150"/>
                    <a:pt x="534" y="106"/>
                  </a:cubicBezTo>
                  <a:cubicBezTo>
                    <a:pt x="560" y="88"/>
                    <a:pt x="597" y="101"/>
                    <a:pt x="628" y="98"/>
                  </a:cubicBezTo>
                  <a:cubicBezTo>
                    <a:pt x="631" y="97"/>
                    <a:pt x="681" y="85"/>
                    <a:pt x="688" y="81"/>
                  </a:cubicBezTo>
                  <a:cubicBezTo>
                    <a:pt x="768" y="35"/>
                    <a:pt x="632" y="97"/>
                    <a:pt x="731" y="46"/>
                  </a:cubicBezTo>
                  <a:cubicBezTo>
                    <a:pt x="775" y="23"/>
                    <a:pt x="829" y="10"/>
                    <a:pt x="877" y="4"/>
                  </a:cubicBezTo>
                  <a:cubicBezTo>
                    <a:pt x="926" y="9"/>
                    <a:pt x="1020" y="0"/>
                    <a:pt x="1074" y="38"/>
                  </a:cubicBezTo>
                  <a:cubicBezTo>
                    <a:pt x="1100" y="57"/>
                    <a:pt x="1118" y="90"/>
                    <a:pt x="1134" y="115"/>
                  </a:cubicBezTo>
                  <a:cubicBezTo>
                    <a:pt x="1139" y="123"/>
                    <a:pt x="1136" y="136"/>
                    <a:pt x="1143" y="141"/>
                  </a:cubicBezTo>
                  <a:cubicBezTo>
                    <a:pt x="1158" y="151"/>
                    <a:pt x="1177" y="152"/>
                    <a:pt x="1194" y="158"/>
                  </a:cubicBezTo>
                  <a:cubicBezTo>
                    <a:pt x="1227" y="169"/>
                    <a:pt x="1255" y="196"/>
                    <a:pt x="1297" y="209"/>
                  </a:cubicBezTo>
                  <a:cubicBezTo>
                    <a:pt x="1333" y="232"/>
                    <a:pt x="1372" y="237"/>
                    <a:pt x="1408" y="261"/>
                  </a:cubicBezTo>
                  <a:cubicBezTo>
                    <a:pt x="1433" y="295"/>
                    <a:pt x="1446" y="324"/>
                    <a:pt x="1460" y="364"/>
                  </a:cubicBezTo>
                  <a:cubicBezTo>
                    <a:pt x="1457" y="441"/>
                    <a:pt x="1461" y="519"/>
                    <a:pt x="1451" y="595"/>
                  </a:cubicBezTo>
                  <a:cubicBezTo>
                    <a:pt x="1449" y="610"/>
                    <a:pt x="1420" y="634"/>
                    <a:pt x="1408" y="646"/>
                  </a:cubicBezTo>
                  <a:cubicBezTo>
                    <a:pt x="1389" y="665"/>
                    <a:pt x="1357" y="706"/>
                    <a:pt x="1331" y="724"/>
                  </a:cubicBezTo>
                  <a:cubicBezTo>
                    <a:pt x="1276" y="761"/>
                    <a:pt x="1190" y="782"/>
                    <a:pt x="1126" y="792"/>
                  </a:cubicBezTo>
                  <a:cubicBezTo>
                    <a:pt x="1062" y="817"/>
                    <a:pt x="1005" y="847"/>
                    <a:pt x="937" y="861"/>
                  </a:cubicBezTo>
                  <a:cubicBezTo>
                    <a:pt x="904" y="878"/>
                    <a:pt x="879" y="894"/>
                    <a:pt x="843" y="904"/>
                  </a:cubicBezTo>
                  <a:cubicBezTo>
                    <a:pt x="827" y="919"/>
                    <a:pt x="805" y="929"/>
                    <a:pt x="791" y="946"/>
                  </a:cubicBezTo>
                  <a:cubicBezTo>
                    <a:pt x="783" y="956"/>
                    <a:pt x="783" y="972"/>
                    <a:pt x="774" y="981"/>
                  </a:cubicBezTo>
                  <a:cubicBezTo>
                    <a:pt x="746" y="1010"/>
                    <a:pt x="729" y="1013"/>
                    <a:pt x="697" y="1024"/>
                  </a:cubicBezTo>
                  <a:cubicBezTo>
                    <a:pt x="647" y="1017"/>
                    <a:pt x="608" y="1002"/>
                    <a:pt x="560" y="989"/>
                  </a:cubicBezTo>
                  <a:cubicBezTo>
                    <a:pt x="524" y="966"/>
                    <a:pt x="481" y="957"/>
                    <a:pt x="440" y="946"/>
                  </a:cubicBezTo>
                  <a:cubicBezTo>
                    <a:pt x="417" y="949"/>
                    <a:pt x="392" y="945"/>
                    <a:pt x="371" y="955"/>
                  </a:cubicBezTo>
                  <a:cubicBezTo>
                    <a:pt x="344" y="968"/>
                    <a:pt x="328" y="998"/>
                    <a:pt x="303" y="1015"/>
                  </a:cubicBezTo>
                  <a:cubicBezTo>
                    <a:pt x="266" y="1071"/>
                    <a:pt x="230" y="1047"/>
                    <a:pt x="157" y="1041"/>
                  </a:cubicBezTo>
                  <a:cubicBezTo>
                    <a:pt x="154" y="1040"/>
                    <a:pt x="98" y="1030"/>
                    <a:pt x="88" y="1024"/>
                  </a:cubicBezTo>
                  <a:cubicBezTo>
                    <a:pt x="81" y="1020"/>
                    <a:pt x="79" y="1006"/>
                    <a:pt x="71" y="1006"/>
                  </a:cubicBezTo>
                  <a:cubicBezTo>
                    <a:pt x="48" y="1006"/>
                    <a:pt x="26" y="1018"/>
                    <a:pt x="3" y="1024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91160" y="407880"/>
              <a:ext cx="1524240" cy="1538280"/>
            </a:xfrm>
            <a:custGeom>
              <a:avLst/>
              <a:gdLst/>
              <a:ahLst/>
              <a:rect l="l" t="t" r="r" b="b"/>
              <a:pathLst>
                <a:path w="960" h="969">
                  <a:moveTo>
                    <a:pt x="960" y="0"/>
                  </a:moveTo>
                  <a:cubicBezTo>
                    <a:pt x="929" y="20"/>
                    <a:pt x="920" y="35"/>
                    <a:pt x="908" y="69"/>
                  </a:cubicBezTo>
                  <a:cubicBezTo>
                    <a:pt x="914" y="160"/>
                    <a:pt x="957" y="260"/>
                    <a:pt x="857" y="309"/>
                  </a:cubicBezTo>
                  <a:cubicBezTo>
                    <a:pt x="849" y="313"/>
                    <a:pt x="839" y="314"/>
                    <a:pt x="831" y="317"/>
                  </a:cubicBezTo>
                  <a:cubicBezTo>
                    <a:pt x="819" y="322"/>
                    <a:pt x="808" y="328"/>
                    <a:pt x="797" y="334"/>
                  </a:cubicBezTo>
                  <a:cubicBezTo>
                    <a:pt x="776" y="356"/>
                    <a:pt x="751" y="366"/>
                    <a:pt x="737" y="394"/>
                  </a:cubicBezTo>
                  <a:cubicBezTo>
                    <a:pt x="728" y="413"/>
                    <a:pt x="734" y="438"/>
                    <a:pt x="720" y="454"/>
                  </a:cubicBezTo>
                  <a:cubicBezTo>
                    <a:pt x="706" y="470"/>
                    <a:pt x="641" y="515"/>
                    <a:pt x="617" y="532"/>
                  </a:cubicBezTo>
                  <a:cubicBezTo>
                    <a:pt x="595" y="565"/>
                    <a:pt x="587" y="601"/>
                    <a:pt x="565" y="634"/>
                  </a:cubicBezTo>
                  <a:cubicBezTo>
                    <a:pt x="557" y="662"/>
                    <a:pt x="554" y="700"/>
                    <a:pt x="531" y="720"/>
                  </a:cubicBezTo>
                  <a:cubicBezTo>
                    <a:pt x="490" y="756"/>
                    <a:pt x="443" y="787"/>
                    <a:pt x="402" y="823"/>
                  </a:cubicBezTo>
                  <a:cubicBezTo>
                    <a:pt x="384" y="839"/>
                    <a:pt x="375" y="871"/>
                    <a:pt x="351" y="874"/>
                  </a:cubicBezTo>
                  <a:cubicBezTo>
                    <a:pt x="234" y="889"/>
                    <a:pt x="305" y="882"/>
                    <a:pt x="137" y="892"/>
                  </a:cubicBezTo>
                  <a:cubicBezTo>
                    <a:pt x="96" y="912"/>
                    <a:pt x="33" y="936"/>
                    <a:pt x="0" y="96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97720" y="966960"/>
              <a:ext cx="1101600" cy="271440"/>
            </a:xfrm>
            <a:custGeom>
              <a:avLst/>
              <a:gdLst/>
              <a:ahLst/>
              <a:rect l="l" t="t" r="r" b="b"/>
              <a:pathLst>
                <a:path w="694" h="171">
                  <a:moveTo>
                    <a:pt x="694" y="0"/>
                  </a:moveTo>
                  <a:cubicBezTo>
                    <a:pt x="615" y="19"/>
                    <a:pt x="543" y="60"/>
                    <a:pt x="463" y="77"/>
                  </a:cubicBezTo>
                  <a:cubicBezTo>
                    <a:pt x="384" y="61"/>
                    <a:pt x="365" y="49"/>
                    <a:pt x="291" y="60"/>
                  </a:cubicBezTo>
                  <a:cubicBezTo>
                    <a:pt x="280" y="66"/>
                    <a:pt x="266" y="68"/>
                    <a:pt x="257" y="77"/>
                  </a:cubicBezTo>
                  <a:cubicBezTo>
                    <a:pt x="251" y="83"/>
                    <a:pt x="254" y="96"/>
                    <a:pt x="248" y="102"/>
                  </a:cubicBezTo>
                  <a:cubicBezTo>
                    <a:pt x="228" y="122"/>
                    <a:pt x="192" y="116"/>
                    <a:pt x="163" y="120"/>
                  </a:cubicBezTo>
                  <a:cubicBezTo>
                    <a:pt x="106" y="138"/>
                    <a:pt x="63" y="171"/>
                    <a:pt x="0" y="1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19763400">
            <a:off x="6470640" y="817200"/>
            <a:ext cx="152280" cy="2209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017200">
            <a:off x="6477120" y="1752480"/>
            <a:ext cx="759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800600"/>
            <a:ext cx="3047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alcantar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u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91440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enómenos en Ingeniería (según certeza de  ocurr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termin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886200"/>
            <a:ext cx="6172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idrología (variables aleator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(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ocásticos  (f(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45720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Muestras representativas de pobl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leatorias (sin sesgo, al az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independientes (t,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omogéneas (= pobl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895480"/>
            <a:ext cx="2210040" cy="1447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3333cc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343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puración de la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769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3333cc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54864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imar probabilidades fu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533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eguridad de la Obra  + Efecto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1066680"/>
            <a:ext cx="1219320" cy="6858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1981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cisión: elección de valor de diseño (incorporar juicios de va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3124080"/>
            <a:ext cx="2438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5257800"/>
            <a:ext cx="72392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Determinar el intervalo de recurrencia de un evento hidrológico de magnitud d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 flipH="1" rot="10800000">
            <a:off x="3124080" y="3505320"/>
            <a:ext cx="22989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533520"/>
            <a:ext cx="8153280" cy="1678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ERIODO DE RETORN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(T (años)): INTERVALO DE TIEMPO </a:t>
            </a: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ROMEDI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DENTRO DEL CUAL LA MAGNITUD DADA DEL EVENTO ES EXCEDIDA O IGUALADA 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28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(X </a:t>
            </a:r>
            <a:r>
              <a:rPr b="1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x) = 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4038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vento mayor o igual que x ocurre 1 vez en T a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ñ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3124080"/>
            <a:ext cx="914400" cy="1600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2860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excedencia en 1 año cualqu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51055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no excedencia en 1 año cualqu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1-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54100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10666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no excedencia en 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334120" y="0"/>
            <a:ext cx="3047760" cy="3200400"/>
            <a:chOff x="5334120" y="0"/>
            <a:chExt cx="3047760" cy="3200400"/>
          </a:xfrm>
        </p:grpSpPr>
        <p:sp>
          <p:nvSpPr>
            <p:cNvPr id="86" name=""/>
            <p:cNvSpPr/>
            <p:nvPr/>
          </p:nvSpPr>
          <p:spPr>
            <a:xfrm>
              <a:off x="5334120" y="0"/>
              <a:ext cx="3047760" cy="32004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1320" y="114300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00"/>
                  </a:solidFill>
                  <a:latin typeface="Verdana"/>
                </a:rPr>
                <a:t>(1-1/T)</a:t>
              </a:r>
              <a:r>
                <a:rPr b="1" lang="es-ES_tradnl" sz="2800" spc="-1" strike="noStrike" baseline="30000">
                  <a:solidFill>
                    <a:srgbClr val="ffff00"/>
                  </a:solidFill>
                  <a:latin typeface="Verdana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495680" y="1066680"/>
            <a:ext cx="76212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505320"/>
            <a:ext cx="37339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excedencia en 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años     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=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471200">
            <a:off x="4343040" y="4343040"/>
            <a:ext cx="1371600" cy="13716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0000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4038480"/>
            <a:ext cx="3809880" cy="2819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1-(1-1/T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914400"/>
            <a:ext cx="41148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447920"/>
            <a:ext cx="1676160" cy="1218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447920"/>
            <a:ext cx="1676520" cy="9144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791320" y="1371600"/>
                <a:ext cx="27432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≡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intersect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76520" y="3581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i A y B son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733920" y="4419720"/>
                <a:ext cx="51051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09480"/>
            <a:ext cx="640080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: lluvias menores que 3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B: lluvias mayores que 4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209680"/>
            <a:ext cx="58672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Verdana"/>
              </a:rPr>
              <a:t>Elementos en A: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Verdana"/>
              </a:rPr>
              <a:t>Elementos en B: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Verdana"/>
              </a:rPr>
              <a:t>Total de elementos en R: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6172200"/>
            <a:ext cx="2133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Verdana"/>
              </a:rPr>
              <a:t>23/69=0,3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5715000"/>
            <a:ext cx="220968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19/69=0,2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00200" y="4343400"/>
            <a:ext cx="6248520" cy="459720"/>
            <a:chOff x="1600200" y="4343400"/>
            <a:chExt cx="6248520" cy="459720"/>
          </a:xfrm>
        </p:grpSpPr>
        <p:sp>
          <p:nvSpPr>
            <p:cNvPr id="104" name=""/>
            <p:cNvSpPr/>
            <p:nvPr/>
          </p:nvSpPr>
          <p:spPr>
            <a:xfrm>
              <a:off x="1600200" y="4343400"/>
              <a:ext cx="6248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P(A)  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	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P(B)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	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	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P(35&lt;R&lt;4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72200" y="4648320"/>
              <a:ext cx="152280" cy="7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29400" y="4648320"/>
              <a:ext cx="228600" cy="7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105520" y="6400800"/>
            <a:ext cx="38098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Verdana"/>
              </a:rPr>
              <a:t>1-P(A)-P(B)=0,3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371600" y="4724280"/>
            <a:ext cx="533520" cy="1447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4724280"/>
            <a:ext cx="22860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24280"/>
            <a:ext cx="380880" cy="167652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22:04:56Z</dcterms:created>
  <dc:creator>Ximena Vargas</dc:creator>
  <dc:description/>
  <dc:language>en-US</dc:language>
  <cp:lastModifiedBy>xv</cp:lastModifiedBy>
  <dcterms:modified xsi:type="dcterms:W3CDTF">2005-05-06T15:56:46Z</dcterms:modified>
  <cp:revision>6</cp:revision>
  <dc:subject/>
  <dc:title>Sin título de diapositiva</dc:title>
</cp:coreProperties>
</file>