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CF5-6BB6-49DF-B123-EAD936F8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F67-E50D-4370-8867-6F2F6BA2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F11-125E-4616-A58E-1439DFB5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3C6-8463-4C84-860C-6A87A898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BCF-6C76-48BC-9E93-213B2E01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076-A9E9-4486-956B-D8F69BE3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817-E5DC-49C8-A401-DE70A155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ACC-2C21-4D46-9AC9-A7E36A2A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6B0-87AC-4E80-8AEB-B15838B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D95-C535-4654-BD90-714A4315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618-AA23-4542-997C-CD9BDDDD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505-17BC-494A-9CDF-A760448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13D0-4D79-454A-8658-86E569B6D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914400"/>
            <a:ext cx="8305560" cy="5287680"/>
            <a:chOff x="380880" y="914400"/>
            <a:chExt cx="8305560" cy="5287680"/>
          </a:xfrm>
        </p:grpSpPr>
        <p:pic>
          <p:nvPicPr>
            <p:cNvPr id="42" name="Macul1" descr=""/>
            <p:cNvPicPr/>
            <p:nvPr/>
          </p:nvPicPr>
          <p:blipFill>
            <a:blip r:embed="rId1"/>
            <a:stretch/>
          </p:blipFill>
          <p:spPr>
            <a:xfrm>
              <a:off x="380880" y="914400"/>
              <a:ext cx="8305560" cy="5287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43" name=""/>
            <p:cNvSpPr/>
            <p:nvPr/>
          </p:nvSpPr>
          <p:spPr>
            <a:xfrm>
              <a:off x="380880" y="4271760"/>
              <a:ext cx="7625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CAPITUL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HIdroLOGI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PRoBAbiLISt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69343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Probabilidad de tener lluvia menor que 35 mm en 2 años segui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429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P(A)</a:t>
            </a:r>
            <a:r>
              <a:rPr b="1" lang="es-ES_tradnl" sz="3200" spc="-1" strike="noStrike" baseline="30000">
                <a:solidFill>
                  <a:srgbClr val="00ff00"/>
                </a:solidFill>
                <a:latin typeface="Verdana"/>
              </a:rPr>
              <a:t>2</a:t>
            </a: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=0,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362320"/>
            <a:ext cx="1067040" cy="99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000066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457200"/>
            <a:ext cx="80769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POBLACION----MUESTRA----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VARIABLE ALEATORIA: Discretas y contin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581280"/>
            <a:ext cx="8305920" cy="192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Clase----Marcado de clase (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Módulo de Clase (</a:t>
            </a: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absoluta de una clas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relativa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correspondient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distribución o función densidad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915840"/>
          <a:ext cx="7315200" cy="560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5840"/>
                    <a:ext cx="73152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457200"/>
            <a:ext cx="5791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 NORM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974880"/>
          <a:ext cx="746748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74880"/>
                    <a:ext cx="74674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72200" y="1424160"/>
                <a:ext cx="27432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60199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200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90720" y="533520"/>
                <a:ext cx="2000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029200" y="609480"/>
            <a:ext cx="3581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f(x)=dF(x)/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29000" y="2057400"/>
                <a:ext cx="4635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95480" y="3200400"/>
                <a:ext cx="38102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8680" y="1676520"/>
            <a:ext cx="48866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352680" y="3048120"/>
            <a:ext cx="990720" cy="1936440"/>
            <a:chOff x="3352680" y="3048120"/>
            <a:chExt cx="990720" cy="1936440"/>
          </a:xfrm>
        </p:grpSpPr>
        <p:sp>
          <p:nvSpPr>
            <p:cNvPr id="138" name=""/>
            <p:cNvSpPr/>
            <p:nvPr/>
          </p:nvSpPr>
          <p:spPr>
            <a:xfrm>
              <a:off x="3657600" y="3048120"/>
              <a:ext cx="152280" cy="1600200"/>
            </a:xfrm>
            <a:custGeom>
              <a:avLst/>
              <a:gdLst/>
              <a:ahLst/>
              <a:rect l="l" t="t" r="r" b="b"/>
              <a:pathLst>
                <a:path w="96" h="1008">
                  <a:moveTo>
                    <a:pt x="0" y="1008"/>
                  </a:moveTo>
                  <a:lnTo>
                    <a:pt x="0" y="240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96" y="1008"/>
                  </a:lnTo>
                </a:path>
              </a:pathLst>
            </a:custGeom>
            <a:solidFill>
              <a:srgbClr val="ff33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4648320"/>
              <a:ext cx="99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1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 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495680" y="609480"/>
            <a:ext cx="426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Curva densidad de fr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81480" y="990720"/>
            <a:ext cx="99072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3520" y="5562720"/>
                <a:ext cx="3200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876920" y="5557680"/>
                <a:ext cx="388620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514600" y="2666880"/>
            <a:ext cx="1523880" cy="1981440"/>
          </a:xfrm>
          <a:custGeom>
            <a:avLst/>
            <a:gdLst/>
            <a:ahLst/>
            <a:rect l="l" t="t" r="r" b="b"/>
            <a:pathLst>
              <a:path w="960" h="1248">
                <a:moveTo>
                  <a:pt x="0" y="1248"/>
                </a:moveTo>
                <a:lnTo>
                  <a:pt x="960" y="1248"/>
                </a:lnTo>
                <a:lnTo>
                  <a:pt x="960" y="0"/>
                </a:lnTo>
                <a:lnTo>
                  <a:pt x="912" y="96"/>
                </a:lnTo>
                <a:lnTo>
                  <a:pt x="864" y="192"/>
                </a:lnTo>
                <a:lnTo>
                  <a:pt x="816" y="336"/>
                </a:lnTo>
                <a:lnTo>
                  <a:pt x="720" y="480"/>
                </a:lnTo>
                <a:lnTo>
                  <a:pt x="672" y="576"/>
                </a:lnTo>
                <a:lnTo>
                  <a:pt x="576" y="720"/>
                </a:lnTo>
                <a:lnTo>
                  <a:pt x="432" y="816"/>
                </a:lnTo>
                <a:lnTo>
                  <a:pt x="288" y="912"/>
                </a:lnTo>
                <a:lnTo>
                  <a:pt x="96" y="960"/>
                </a:lnTo>
                <a:lnTo>
                  <a:pt x="0" y="1008"/>
                </a:lnTo>
                <a:lnTo>
                  <a:pt x="0" y="12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4343400"/>
            <a:ext cx="129564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990720"/>
            <a:ext cx="7696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Serie de excedencia (p) o series anuales de máximos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2819520"/>
            <a:ext cx="29718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=-Ln(1-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a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46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47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50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55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(T (años))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vento mayor o igual que x ocurre 1 vez en T a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ñ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066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34120" y="0"/>
            <a:ext cx="3047760" cy="3200400"/>
            <a:chOff x="5334120" y="0"/>
            <a:chExt cx="3047760" cy="3200400"/>
          </a:xfrm>
        </p:grpSpPr>
        <p:sp>
          <p:nvSpPr>
            <p:cNvPr id="86" name=""/>
            <p:cNvSpPr/>
            <p:nvPr/>
          </p:nvSpPr>
          <p:spPr>
            <a:xfrm>
              <a:off x="5334120" y="0"/>
              <a:ext cx="3047760" cy="32004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11430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ffff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495680" y="10666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000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914400"/>
            <a:ext cx="41148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447920"/>
            <a:ext cx="1676160" cy="1218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447920"/>
            <a:ext cx="167652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91320" y="1371600"/>
                <a:ext cx="27432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≡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intersect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7652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i A y B son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733920" y="4419720"/>
                <a:ext cx="51051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09480"/>
            <a:ext cx="640080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: lluvias menores que 3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: lluvias mayores que 4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209680"/>
            <a:ext cx="58672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A: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B: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Total de elementos en R: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172200"/>
            <a:ext cx="2133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Verdana"/>
              </a:rPr>
              <a:t>23/69=0,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715000"/>
            <a:ext cx="22096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19/69=0,2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00200" y="4343400"/>
            <a:ext cx="6248520" cy="459720"/>
            <a:chOff x="1600200" y="4343400"/>
            <a:chExt cx="6248520" cy="459720"/>
          </a:xfrm>
        </p:grpSpPr>
        <p:sp>
          <p:nvSpPr>
            <p:cNvPr id="104" name=""/>
            <p:cNvSpPr/>
            <p:nvPr/>
          </p:nvSpPr>
          <p:spPr>
            <a:xfrm>
              <a:off x="1600200" y="4343400"/>
              <a:ext cx="6248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A) 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B)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35&lt;R&lt;4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2200" y="4648320"/>
              <a:ext cx="15228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4648320"/>
              <a:ext cx="22860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105520" y="6400800"/>
            <a:ext cx="38098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Verdana"/>
              </a:rPr>
              <a:t>1-P(A)-P(B)=0,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71600" y="4724280"/>
            <a:ext cx="533520" cy="1447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724280"/>
            <a:ext cx="2286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24280"/>
            <a:ext cx="380880" cy="16765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22:04:56Z</dcterms:created>
  <dc:creator>Ximena Vargas</dc:creator>
  <dc:description/>
  <dc:language>en-US</dc:language>
  <cp:lastModifiedBy>xv</cp:lastModifiedBy>
  <dcterms:modified xsi:type="dcterms:W3CDTF">2005-05-06T15:56:46Z</dcterms:modified>
  <cp:revision>6</cp:revision>
  <dc:subject/>
  <dc:title>Sin título de diapositiva</dc:title>
</cp:coreProperties>
</file>