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1.jpeg" ContentType="image/jpeg"/>
  <Override PartName="/ppt/media/image29.png" ContentType="image/png"/>
  <Override PartName="/ppt/media/image19.wmf" ContentType="image/x-wmf"/>
  <Override PartName="/ppt/media/image26.jpeg" ContentType="image/jpeg"/>
  <Override PartName="/ppt/media/image42.png" ContentType="image/png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24.png" ContentType="image/png"/>
  <Override PartName="/ppt/media/image1.png" ContentType="image/png"/>
  <Override PartName="/ppt/media/image31.png" ContentType="image/png"/>
  <Override PartName="/ppt/media/image28.png" ContentType="image/png"/>
  <Override PartName="/ppt/media/image30.png" ContentType="image/png"/>
  <Override PartName="/ppt/media/image13.wmf" ContentType="image/x-wmf"/>
  <Override PartName="/ppt/media/image5.png" ContentType="image/png"/>
  <Override PartName="/ppt/media/image35.png" ContentType="image/png"/>
  <Override PartName="/ppt/media/image9.wmf" ContentType="image/x-wmf"/>
  <Override PartName="/ppt/media/image41.png" ContentType="image/png"/>
  <Override PartName="/ppt/media/image34.png" ContentType="image/png"/>
  <Override PartName="/ppt/media/image36.png" ContentType="image/png"/>
  <Override PartName="/ppt/media/image38.png" ContentType="image/png"/>
  <Override PartName="/ppt/media/image43.png" ContentType="image/png"/>
  <Override PartName="/ppt/media/image44.png" ContentType="image/png"/>
  <Override PartName="/ppt/media/image4.wmf" ContentType="image/x-wmf"/>
  <Override PartName="/ppt/media/image27.wmf" ContentType="image/x-wmf"/>
  <Override PartName="/ppt/media/image45.png" ContentType="image/png"/>
  <Override PartName="/ppt/media/image10.png" ContentType="image/png"/>
  <Override PartName="/ppt/media/image40.png" ContentType="image/png"/>
  <Override PartName="/ppt/media/image8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33.png" ContentType="image/png"/>
  <Override PartName="/ppt/media/image37.png" ContentType="image/png"/>
  <Override PartName="/ppt/media/image7.png" ContentType="image/png"/>
  <Override PartName="/ppt/media/image15.wmf" ContentType="image/x-wmf"/>
  <Override PartName="/ppt/media/image39.png" ContentType="image/png"/>
  <Override PartName="/ppt/media/image22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7104-8596-4BDB-97DD-7F170889B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5C3B-E776-4BA9-AB11-F34903CEB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2122-6F13-4E2D-9AF2-248A98745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AF05-6E29-4E31-B89A-1E26D4EA3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049C-B568-49FD-A65B-4853D76DB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A0A6-C581-475A-965A-52DF651E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1208-7331-4FB7-886F-ACC08D6A5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0350-8BB6-428A-B15D-A0FE546B3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94E6-2817-4AB3-B8DE-1BEE30981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17D4-C2AA-4215-8DAD-6BD7720E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A113-4B7D-41D9-A7C1-4B076527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3AE6-4B99-472E-80B3-70623EEC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17415-FF48-4914-BFF4-E1194F04B09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" Target="slide28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5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6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7.wmf"/><Relationship Id="rId8" Type="http://schemas.openxmlformats.org/officeDocument/2006/relationships/package" Target="../embeddings/oleObject4.docx"/><Relationship Id="rId9" Type="http://schemas.openxmlformats.org/officeDocument/2006/relationships/slide" Target="slide18.xml"/><Relationship Id="rId10" Type="http://schemas.openxmlformats.org/officeDocument/2006/relationships/image" Target="../media/image18.wmf"/><Relationship Id="rId11" Type="http://schemas.openxmlformats.org/officeDocument/2006/relationships/package" Target="../embeddings/oleObject5.docx"/><Relationship Id="rId12" Type="http://schemas.openxmlformats.org/officeDocument/2006/relationships/image" Target="../media/image19.wmf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9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5.png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8.wmf"/><Relationship Id="rId5" Type="http://schemas.openxmlformats.org/officeDocument/2006/relationships/package" Target="../embeddings/oleObject2.docx"/><Relationship Id="rId6" Type="http://schemas.openxmlformats.org/officeDocument/2006/relationships/image" Target="../media/image9.wmf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7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457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MED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3124080"/>
            <a:ext cx="487692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4114800" y="2286000"/>
            <a:ext cx="1371600" cy="1981080"/>
            <a:chOff x="4114800" y="2286000"/>
            <a:chExt cx="1371600" cy="1981080"/>
          </a:xfrm>
        </p:grpSpPr>
        <p:sp>
          <p:nvSpPr>
            <p:cNvPr id="44" name=""/>
            <p:cNvSpPr/>
            <p:nvPr/>
          </p:nvSpPr>
          <p:spPr>
            <a:xfrm>
              <a:off x="4114800" y="2286000"/>
              <a:ext cx="0" cy="198108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400" y="2286000"/>
              <a:ext cx="0" cy="198108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4800600" y="2895120"/>
            <a:ext cx="0" cy="38124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14800" y="2438280"/>
            <a:ext cx="1371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14800" y="2666880"/>
            <a:ext cx="1371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76920" y="251460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29200" y="274320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29200" y="281952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259092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724280" y="4191120"/>
            <a:ext cx="0" cy="6094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952880" y="4191120"/>
            <a:ext cx="0" cy="5331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10080" y="4267080"/>
            <a:ext cx="533520" cy="2286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81480" y="4343400"/>
            <a:ext cx="381240" cy="3808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733560" y="4191120"/>
            <a:ext cx="533160" cy="3045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266720" y="4267080"/>
            <a:ext cx="228600" cy="457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243828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H: 40 a 60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29400" y="365760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Se entierra 30 a 40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57600" y="129528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Diámetro 15 a 20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57200" y="38088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Modelo de Green y Ampt (191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1219320"/>
            <a:ext cx="57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e basa en flujo del tipo Ley de Dar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1752480"/>
            <a:ext cx="6858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2590920"/>
            <a:ext cx="556236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Infiltración proporcional al gradiente total, incluyendo efecto de s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38280" y="3733920"/>
            <a:ext cx="3429000" cy="440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f = K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s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(H+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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+L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F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)/L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343400"/>
            <a:ext cx="464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e supone que frente húmedo se mueve como pist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248520" y="4876920"/>
            <a:ext cx="220968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48520" y="4495680"/>
            <a:ext cx="22096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15200" y="44956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96080" y="4495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001000" y="4572000"/>
            <a:ext cx="3808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153280" y="4648320"/>
            <a:ext cx="1526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553080" y="5943600"/>
            <a:ext cx="17528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00800" y="60199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Frente húme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010280" y="5334120"/>
            <a:ext cx="1219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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=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162920" y="6248520"/>
            <a:ext cx="1218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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=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29600" y="525780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1" lang="es-ES_tradnl" sz="1400" spc="-1" strike="noStrike" baseline="-25000">
                <a:solidFill>
                  <a:srgbClr val="000000"/>
                </a:solidFill>
                <a:latin typeface="Verdan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153280" y="48769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0880" y="5334120"/>
            <a:ext cx="5486400" cy="440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F: total Agua infiltrada=(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s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-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)L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F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=S L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5943600"/>
            <a:ext cx="4114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i H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&gt;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0:   f=K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s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+ K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s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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81280" y="5715000"/>
            <a:ext cx="0" cy="3049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" y="6553080"/>
            <a:ext cx="281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Conductividad hidrául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09880" y="6477120"/>
            <a:ext cx="312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Déficit de humedad del sue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2133360" y="6324120"/>
            <a:ext cx="152280" cy="2286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3048120" y="6248520"/>
            <a:ext cx="761760" cy="3808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GyA1" descr=""/>
          <p:cNvPicPr/>
          <p:nvPr/>
        </p:nvPicPr>
        <p:blipFill>
          <a:blip r:embed="rId2"/>
          <a:stretch/>
        </p:blipFill>
        <p:spPr>
          <a:xfrm>
            <a:off x="685800" y="635040"/>
            <a:ext cx="7467480" cy="5602320"/>
          </a:xfrm>
          <a:prstGeom prst="rect">
            <a:avLst/>
          </a:prstGeom>
          <a:ln w="0">
            <a:noFill/>
          </a:ln>
        </p:spPr>
      </p:pic>
      <p:sp>
        <p:nvSpPr>
          <p:cNvPr id="198" name="">
            <a:hlinkClick r:id="rId3" action="ppaction://hlinksldjump"/>
          </p:cNvPr>
          <p:cNvSpPr/>
          <p:nvPr/>
        </p:nvSpPr>
        <p:spPr>
          <a:xfrm>
            <a:off x="8153280" y="59436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Webdings"/>
                <a:ea typeface="Webdings"/>
              </a:rPr>
              <a:t>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85800" y="4572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Método de la Curva Número (Soil Conservation Serv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800600" y="1676520"/>
          <a:ext cx="2268360" cy="1312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0600" y="1676520"/>
                    <a:ext cx="2268360" cy="13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457200" y="35053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máximo valor de retención de agua en el su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191120" y="2895480"/>
            <a:ext cx="838080" cy="5335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40384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máxima escorrentía superfic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6477120" y="2971440"/>
            <a:ext cx="1218960" cy="10666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0720" y="5029200"/>
            <a:ext cx="320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 Cyr"/>
              </a:rPr>
              <a:t>P = P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 Cyr"/>
              </a:rPr>
              <a:t>e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 Cyr"/>
              </a:rPr>
              <a:t> + I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 Cyr"/>
              </a:rPr>
              <a:t>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 Cyr"/>
              </a:rPr>
              <a:t> + F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 Cyr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267080" y="510552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Verdana"/>
              </a:rPr>
              <a:t>Ecuación de continu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3124080" y="5622840"/>
          <a:ext cx="2514600" cy="12351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24080" y="5622840"/>
                    <a:ext cx="251460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1066680" y="5867280"/>
            <a:ext cx="1219320" cy="838440"/>
          </a:xfrm>
          <a:prstGeom prst="rightArrow">
            <a:avLst>
              <a:gd name="adj1" fmla="val 50000"/>
              <a:gd name="adj2" fmla="val 36357"/>
            </a:avLst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1" name=""/>
          <p:cNvGraphicFramePr/>
          <p:nvPr/>
        </p:nvGraphicFramePr>
        <p:xfrm>
          <a:off x="2438280" y="1066680"/>
          <a:ext cx="4068720" cy="1557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38280" y="1066680"/>
                    <a:ext cx="406872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914400" y="2743200"/>
          <a:ext cx="2438280" cy="9000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14400" y="2743200"/>
                    <a:ext cx="243828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6172200" y="2819520"/>
          <a:ext cx="2019240" cy="7729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72200" y="2819520"/>
                    <a:ext cx="2019240" cy="77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304920" y="4495680"/>
          <a:ext cx="4647960" cy="117648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218" name="" descr="">
                    <a:hlinkClick r:id="rId9" action="ppaction://hlinksldjump"/>
                  </p:cNvPr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4920" y="4495680"/>
                    <a:ext cx="4647960" cy="11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5029200" y="5459400"/>
          <a:ext cx="3695760" cy="90324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29200" y="5459400"/>
                    <a:ext cx="369576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3886200" y="3048120"/>
            <a:ext cx="6858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381880" y="3048120"/>
            <a:ext cx="76212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1219320" y="736560"/>
            <a:ext cx="6858000" cy="55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Libro1" descr=""/>
          <p:cNvPicPr/>
          <p:nvPr/>
        </p:nvPicPr>
        <p:blipFill>
          <a:blip r:embed="rId2"/>
          <a:stretch/>
        </p:blipFill>
        <p:spPr>
          <a:xfrm>
            <a:off x="1600200" y="-838080"/>
            <a:ext cx="6078600" cy="89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Libro2" descr=""/>
          <p:cNvPicPr/>
          <p:nvPr/>
        </p:nvPicPr>
        <p:blipFill>
          <a:blip r:embed="rId2"/>
          <a:stretch/>
        </p:blipFill>
        <p:spPr>
          <a:xfrm>
            <a:off x="914400" y="1330200"/>
            <a:ext cx="7162920" cy="42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04920" y="457200"/>
            <a:ext cx="8381880" cy="542016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CLASE A: 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Suelos con alta capacidad de infiltración. Arenas, gravas y loess profun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CLASE B:  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Suelos con capacidad de infiltración moderada. Loess poco profundos, marga arenos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CLASE C: 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Suelos con capacidad de infiltración bajas. Marga arcillosa, marga  arenosa poco profunda, suelos de bajo contenido orgánico y suelos generalmente con alto contenido de arcil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CLASE D: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Suelos con muy baja capacidad de infiltración o en los que el nivel freático está cerca de la superficie. Suelos que aumentan de volumen cuando están mojados, arcillas plásticas pesadas y algunos suelos salin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>
            <a:hlinkClick r:id="rId2" action="ppaction://hlinksldjump"/>
          </p:cNvPr>
          <p:cNvSpPr/>
          <p:nvPr/>
        </p:nvSpPr>
        <p:spPr>
          <a:xfrm>
            <a:off x="7391520" y="6324480"/>
            <a:ext cx="533160" cy="38124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199" h="21600">
                <a:moveTo>
                  <a:pt x="0" y="0"/>
                </a:moveTo>
                <a:lnTo>
                  <a:pt x="30199" y="0"/>
                </a:lnTo>
                <a:lnTo>
                  <a:pt x="30199" y="21600"/>
                </a:lnTo>
                <a:lnTo>
                  <a:pt x="0" y="21600"/>
                </a:lnTo>
                <a:close/>
              </a:path>
              <a:path fill="lightenLess" w="30199" h="21600">
                <a:moveTo>
                  <a:pt x="0" y="0"/>
                </a:moveTo>
                <a:lnTo>
                  <a:pt x="30199" y="0"/>
                </a:lnTo>
                <a:lnTo>
                  <a:pt x="28799" y="1400"/>
                </a:lnTo>
                <a:lnTo>
                  <a:pt x="1400" y="1400"/>
                </a:lnTo>
                <a:close/>
              </a:path>
              <a:path fill="darken" w="30199" h="21600">
                <a:moveTo>
                  <a:pt x="30199" y="0"/>
                </a:moveTo>
                <a:lnTo>
                  <a:pt x="30199" y="21600"/>
                </a:lnTo>
                <a:lnTo>
                  <a:pt x="28799" y="20200"/>
                </a:lnTo>
                <a:lnTo>
                  <a:pt x="28799" y="1400"/>
                </a:lnTo>
                <a:close/>
              </a:path>
              <a:path fill="darkenLess" w="30199" h="21600">
                <a:moveTo>
                  <a:pt x="30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99" y="20200"/>
                </a:lnTo>
                <a:close/>
              </a:path>
              <a:path fill="lighten" w="30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99" h="21600">
                <a:moveTo>
                  <a:pt x="8093" y="3794"/>
                </a:moveTo>
                <a:lnTo>
                  <a:pt x="22106" y="10800"/>
                </a:lnTo>
                <a:lnTo>
                  <a:pt x="809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533520" y="838080"/>
            <a:ext cx="8153280" cy="3485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Clasificación de las Condiciones de Humeda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      </a:t>
            </a:r>
            <a:r>
              <a:rPr b="1" lang="es-ES_tradnl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      </a:t>
            </a:r>
            <a:r>
              <a:rPr b="1" lang="es-E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Lluvia antecedente de 5 días (m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 </a:t>
            </a:r>
            <a:r>
              <a:rPr b="1" lang="es-E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Grupo AMC     Estación Latente     Estación de </a:t>
            </a:r>
            <a:r>
              <a:rPr b="1" lang="es-ES_tradnl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Crec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&lt;12.7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 &lt;35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II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12,7-27,9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     35,6 - 53,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III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&gt;27,9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 &gt;53,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rId3" action="ppaction://hlinksldjump"/>
          </p:cNvPr>
          <p:cNvSpPr/>
          <p:nvPr/>
        </p:nvSpPr>
        <p:spPr>
          <a:xfrm>
            <a:off x="4800600" y="4876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10800"/>
                </a:moveTo>
                <a:lnTo>
                  <a:pt x="17814" y="3794"/>
                </a:lnTo>
                <a:lnTo>
                  <a:pt x="17814" y="17806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295280" y="4648320"/>
            <a:ext cx="1905120" cy="1752480"/>
          </a:xfrm>
          <a:custGeom>
            <a:avLst/>
            <a:gdLst/>
            <a:ahLst/>
            <a:rect l="l" t="t" r="r" b="b"/>
            <a:pathLst>
              <a:path w="1200" h="1104">
                <a:moveTo>
                  <a:pt x="0" y="1104"/>
                </a:moveTo>
                <a:lnTo>
                  <a:pt x="0" y="720"/>
                </a:lnTo>
                <a:lnTo>
                  <a:pt x="192" y="720"/>
                </a:lnTo>
                <a:lnTo>
                  <a:pt x="192" y="288"/>
                </a:lnTo>
                <a:lnTo>
                  <a:pt x="432" y="288"/>
                </a:lnTo>
                <a:lnTo>
                  <a:pt x="432" y="0"/>
                </a:lnTo>
                <a:lnTo>
                  <a:pt x="720" y="0"/>
                </a:lnTo>
                <a:lnTo>
                  <a:pt x="720" y="672"/>
                </a:lnTo>
                <a:lnTo>
                  <a:pt x="960" y="672"/>
                </a:lnTo>
                <a:lnTo>
                  <a:pt x="960" y="480"/>
                </a:lnTo>
                <a:lnTo>
                  <a:pt x="1200" y="480"/>
                </a:lnTo>
                <a:lnTo>
                  <a:pt x="1200" y="1104"/>
                </a:lnTo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0880" y="914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Indice  </a:t>
            </a:r>
            <a:r>
              <a:rPr b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304920"/>
            <a:ext cx="41148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Indices de Infil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00600" y="990720"/>
            <a:ext cx="167652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ff"/>
                </a:solidFill>
                <a:latin typeface="Verdana"/>
              </a:rPr>
              <a:t>Indice </a:t>
            </a:r>
            <a:r>
              <a:rPr b="1" lang="es-ES_tradnl" sz="24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1" lang="es-ES_tradnl" sz="2400" spc="-1" strike="noStrike">
                <a:solidFill>
                  <a:srgbClr val="00ffff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3520" y="1600200"/>
            <a:ext cx="3504960" cy="1159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ffff"/>
                </a:solidFill>
                <a:latin typeface="Verdana"/>
              </a:rPr>
              <a:t>Se admite que para una tormenta dada y en las condiciones iniciales determinadas en la cuenca, el valor de recarga de la cuenca es constante durante toda la duración de la lluv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292400" y="4648320"/>
            <a:ext cx="1908000" cy="1379520"/>
          </a:xfrm>
          <a:custGeom>
            <a:avLst/>
            <a:gdLst/>
            <a:ahLst/>
            <a:rect l="l" t="t" r="r" b="b"/>
            <a:pathLst>
              <a:path w="1202" h="869">
                <a:moveTo>
                  <a:pt x="0" y="852"/>
                </a:moveTo>
                <a:lnTo>
                  <a:pt x="2" y="720"/>
                </a:lnTo>
                <a:lnTo>
                  <a:pt x="194" y="720"/>
                </a:lnTo>
                <a:lnTo>
                  <a:pt x="194" y="288"/>
                </a:lnTo>
                <a:lnTo>
                  <a:pt x="434" y="288"/>
                </a:lnTo>
                <a:lnTo>
                  <a:pt x="434" y="0"/>
                </a:lnTo>
                <a:lnTo>
                  <a:pt x="722" y="0"/>
                </a:lnTo>
                <a:lnTo>
                  <a:pt x="722" y="672"/>
                </a:lnTo>
                <a:lnTo>
                  <a:pt x="962" y="672"/>
                </a:lnTo>
                <a:lnTo>
                  <a:pt x="962" y="480"/>
                </a:lnTo>
                <a:lnTo>
                  <a:pt x="1202" y="480"/>
                </a:lnTo>
                <a:lnTo>
                  <a:pt x="1200" y="869"/>
                </a:lnTo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304920" y="3352680"/>
            <a:ext cx="3962160" cy="3447000"/>
            <a:chOff x="304920" y="3352680"/>
            <a:chExt cx="3962160" cy="3447000"/>
          </a:xfrm>
        </p:grpSpPr>
        <p:sp>
          <p:nvSpPr>
            <p:cNvPr id="237" name=""/>
            <p:cNvSpPr/>
            <p:nvPr/>
          </p:nvSpPr>
          <p:spPr>
            <a:xfrm flipV="1">
              <a:off x="914400" y="3504960"/>
              <a:ext cx="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14400" y="6400800"/>
              <a:ext cx="281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04920" y="335268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Verdana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Verdana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429000" y="640080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Verdana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Verdana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1066680" y="6019920"/>
            <a:ext cx="243864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76720" y="6019920"/>
            <a:ext cx="60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66"/>
                </a:solidFill>
                <a:latin typeface="Symbol"/>
                <a:ea typeface="Symbol"/>
              </a:rPr>
              <a:t>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95280" y="6019920"/>
            <a:ext cx="1905120" cy="3808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2209680" y="4648320"/>
            <a:ext cx="685800" cy="457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895480" y="4343400"/>
            <a:ext cx="990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P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715000" y="2666880"/>
            <a:ext cx="1219320" cy="440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=F/t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91320" y="1523880"/>
            <a:ext cx="304560" cy="106704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410080" y="4419720"/>
            <a:ext cx="1909800" cy="1785960"/>
          </a:xfrm>
          <a:custGeom>
            <a:avLst/>
            <a:gdLst/>
            <a:ahLst/>
            <a:rect l="l" t="t" r="r" b="b"/>
            <a:pathLst>
              <a:path w="1203" h="1125">
                <a:moveTo>
                  <a:pt x="3" y="1125"/>
                </a:moveTo>
                <a:lnTo>
                  <a:pt x="0" y="720"/>
                </a:lnTo>
                <a:lnTo>
                  <a:pt x="192" y="720"/>
                </a:lnTo>
                <a:lnTo>
                  <a:pt x="192" y="288"/>
                </a:lnTo>
                <a:lnTo>
                  <a:pt x="432" y="288"/>
                </a:lnTo>
                <a:lnTo>
                  <a:pt x="432" y="0"/>
                </a:lnTo>
                <a:lnTo>
                  <a:pt x="720" y="0"/>
                </a:lnTo>
                <a:lnTo>
                  <a:pt x="720" y="672"/>
                </a:lnTo>
                <a:lnTo>
                  <a:pt x="960" y="672"/>
                </a:lnTo>
                <a:lnTo>
                  <a:pt x="960" y="480"/>
                </a:lnTo>
                <a:lnTo>
                  <a:pt x="1200" y="480"/>
                </a:lnTo>
                <a:lnTo>
                  <a:pt x="1203" y="1116"/>
                </a:lnTo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4419720" y="3124080"/>
            <a:ext cx="3962160" cy="3447000"/>
            <a:chOff x="4419720" y="3124080"/>
            <a:chExt cx="3962160" cy="3447000"/>
          </a:xfrm>
        </p:grpSpPr>
        <p:sp>
          <p:nvSpPr>
            <p:cNvPr id="250" name=""/>
            <p:cNvSpPr/>
            <p:nvPr/>
          </p:nvSpPr>
          <p:spPr>
            <a:xfrm flipV="1">
              <a:off x="5029200" y="3276360"/>
              <a:ext cx="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029200" y="6172200"/>
              <a:ext cx="281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419720" y="312408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Verdana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Verdana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543800" y="617220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Verdana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Verdana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5181480" y="5410080"/>
            <a:ext cx="243864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467480" y="56386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66"/>
                </a:solidFill>
                <a:latin typeface="Symbol"/>
                <a:ea typeface="Symbol"/>
              </a:rPr>
              <a:t>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3276720" y="6019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7467480" y="54097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467480" y="40384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F</a:t>
            </a:r>
            <a:r>
              <a:rPr b="1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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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781320" y="304812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162920" y="2743200"/>
            <a:ext cx="144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Tiempo de lluvia efecti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791320" y="6400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10280" y="6400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181480" y="6400800"/>
            <a:ext cx="2590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1" lang="es-ES_tradnl" sz="1400" spc="-1" strike="noStrike" baseline="-25000">
                <a:solidFill>
                  <a:srgbClr val="000000"/>
                </a:solidFill>
                <a:latin typeface="Verdana"/>
              </a:rPr>
              <a:t>e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=       t</a:t>
            </a:r>
            <a:r>
              <a:rPr b="1" lang="es-ES_tradnl" sz="1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        +    t</a:t>
            </a:r>
            <a:r>
              <a:rPr b="1" lang="es-ES_tradnl" sz="1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715000" y="4419720"/>
            <a:ext cx="838080" cy="990360"/>
          </a:xfrm>
          <a:custGeom>
            <a:avLst/>
            <a:gdLst/>
            <a:ahLst/>
            <a:rect l="l" t="t" r="r" b="b"/>
            <a:pathLst>
              <a:path w="528" h="624">
                <a:moveTo>
                  <a:pt x="0" y="624"/>
                </a:moveTo>
                <a:lnTo>
                  <a:pt x="0" y="288"/>
                </a:lnTo>
                <a:lnTo>
                  <a:pt x="240" y="288"/>
                </a:lnTo>
                <a:lnTo>
                  <a:pt x="240" y="0"/>
                </a:lnTo>
                <a:lnTo>
                  <a:pt x="528" y="0"/>
                </a:lnTo>
                <a:lnTo>
                  <a:pt x="528" y="624"/>
                </a:lnTo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934320" y="5181480"/>
            <a:ext cx="38088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3352680" y="4647960"/>
            <a:ext cx="2819520" cy="5331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905120" y="1981080"/>
            <a:ext cx="4343400" cy="1600200"/>
          </a:xfrm>
          <a:custGeom>
            <a:avLst/>
            <a:gdLst/>
            <a:ahLst/>
            <a:rect l="l" t="t" r="r" b="b"/>
            <a:pathLst>
              <a:path w="2736" h="1008">
                <a:moveTo>
                  <a:pt x="0" y="48"/>
                </a:moveTo>
                <a:lnTo>
                  <a:pt x="672" y="48"/>
                </a:lnTo>
                <a:lnTo>
                  <a:pt x="672" y="1008"/>
                </a:lnTo>
                <a:lnTo>
                  <a:pt x="1968" y="1008"/>
                </a:lnTo>
                <a:lnTo>
                  <a:pt x="1968" y="0"/>
                </a:lnTo>
                <a:lnTo>
                  <a:pt x="2688" y="0"/>
                </a:lnTo>
                <a:lnTo>
                  <a:pt x="2736" y="0"/>
                </a:lnTo>
              </a:path>
            </a:pathLst>
          </a:custGeom>
          <a:noFill/>
          <a:ln w="381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9880" y="38862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2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971800" y="4114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4340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590920" y="20570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90920" y="3200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2362320"/>
            <a:ext cx="20574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57760" y="2367000"/>
            <a:ext cx="347400" cy="252360"/>
          </a:xfrm>
          <a:custGeom>
            <a:avLst/>
            <a:gdLst/>
            <a:ahLst/>
            <a:rect l="l" t="t" r="r" b="b"/>
            <a:pathLst>
              <a:path w="219" h="159">
                <a:moveTo>
                  <a:pt x="39" y="0"/>
                </a:moveTo>
                <a:cubicBezTo>
                  <a:pt x="0" y="39"/>
                  <a:pt x="21" y="50"/>
                  <a:pt x="64" y="60"/>
                </a:cubicBezTo>
                <a:cubicBezTo>
                  <a:pt x="70" y="66"/>
                  <a:pt x="74" y="74"/>
                  <a:pt x="81" y="78"/>
                </a:cubicBezTo>
                <a:cubicBezTo>
                  <a:pt x="105" y="92"/>
                  <a:pt x="127" y="79"/>
                  <a:pt x="81" y="95"/>
                </a:cubicBezTo>
                <a:cubicBezTo>
                  <a:pt x="118" y="106"/>
                  <a:pt x="156" y="111"/>
                  <a:pt x="193" y="120"/>
                </a:cubicBezTo>
                <a:cubicBezTo>
                  <a:pt x="179" y="123"/>
                  <a:pt x="155" y="115"/>
                  <a:pt x="150" y="129"/>
                </a:cubicBezTo>
                <a:cubicBezTo>
                  <a:pt x="146" y="141"/>
                  <a:pt x="172" y="141"/>
                  <a:pt x="184" y="146"/>
                </a:cubicBezTo>
                <a:cubicBezTo>
                  <a:pt x="192" y="150"/>
                  <a:pt x="219" y="154"/>
                  <a:pt x="210" y="155"/>
                </a:cubicBezTo>
                <a:cubicBezTo>
                  <a:pt x="179" y="159"/>
                  <a:pt x="147" y="155"/>
                  <a:pt x="116" y="155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4724280" y="23619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2438280"/>
            <a:ext cx="2514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Sup. Infilt.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2</a:t>
            </a:r>
            <a:r>
              <a:rPr b="1" lang="es-ES_tradnl" sz="20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R(x+R/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45720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PORCH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2743200"/>
            <a:ext cx="53316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0" y="2971800"/>
            <a:ext cx="30492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Verdan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609480" y="4572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Indices de Sat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62120" y="1219320"/>
            <a:ext cx="7391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1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P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1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+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2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P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2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+.....+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n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P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2133720"/>
            <a:ext cx="2133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aP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1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(K-t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a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581280" y="2819520"/>
            <a:ext cx="3962520" cy="336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Tiempo en días sin llover cuando ocurre P</a:t>
            </a:r>
            <a:r>
              <a:rPr b="1" lang="es-ES_tradnl" sz="1400" spc="-1" strike="noStrike" baseline="-25000">
                <a:solidFill>
                  <a:srgbClr val="3333cc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3276720" y="2590920"/>
            <a:ext cx="304560" cy="4572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43000" y="3962520"/>
            <a:ext cx="2971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I=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P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(k-t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)/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429000" y="4648320"/>
            <a:ext cx="3657600" cy="307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tiempo entre lluvia i y la anteri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2590920" y="4343400"/>
            <a:ext cx="761760" cy="4572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0880" y="548640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cc"/>
                </a:solidFill>
                <a:latin typeface="Verdana"/>
              </a:rPr>
              <a:t>COEFICIENTES DE ESCORRENTIA: 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rot="1180200">
            <a:off x="5409720" y="540972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57150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cc"/>
                </a:solidFill>
                <a:latin typeface="Verdana"/>
              </a:rPr>
              <a:t>Pe=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838080" y="609480"/>
            <a:ext cx="66294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Indice de Precipitación Antecedente (IP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438280" y="1600200"/>
            <a:ext cx="2895840" cy="510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IPA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t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=IPA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o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K</a:t>
            </a:r>
            <a:r>
              <a:rPr b="1" lang="es-ES_tradnl" sz="2400" spc="-1" strike="noStrike" baseline="30000">
                <a:solidFill>
                  <a:srgbClr val="3333cc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334120" y="2362320"/>
            <a:ext cx="3504960" cy="733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Cuando ocurre P1, ésta se agrega a la humedad existente para definir un nuevo IP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914400" y="2742840"/>
            <a:ext cx="0" cy="33526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14400" y="6095880"/>
            <a:ext cx="533412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914400" y="4724280"/>
            <a:ext cx="609480" cy="914400"/>
          </a:xfrm>
          <a:custGeom>
            <a:avLst/>
            <a:gdLst/>
            <a:ahLst/>
            <a:rect l="l" t="t" r="r" b="b"/>
            <a:pathLst>
              <a:path w="384" h="576">
                <a:moveTo>
                  <a:pt x="0" y="0"/>
                </a:moveTo>
                <a:cubicBezTo>
                  <a:pt x="16" y="120"/>
                  <a:pt x="32" y="240"/>
                  <a:pt x="96" y="336"/>
                </a:cubicBezTo>
                <a:cubicBezTo>
                  <a:pt x="160" y="432"/>
                  <a:pt x="336" y="536"/>
                  <a:pt x="384" y="57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1523880" y="4343400"/>
            <a:ext cx="0" cy="12952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523880" y="4343400"/>
            <a:ext cx="685800" cy="990720"/>
          </a:xfrm>
          <a:custGeom>
            <a:avLst/>
            <a:gdLst/>
            <a:ahLst/>
            <a:rect l="l" t="t" r="r" b="b"/>
            <a:pathLst>
              <a:path w="432" h="624">
                <a:moveTo>
                  <a:pt x="0" y="0"/>
                </a:moveTo>
                <a:cubicBezTo>
                  <a:pt x="12" y="116"/>
                  <a:pt x="24" y="232"/>
                  <a:pt x="96" y="336"/>
                </a:cubicBezTo>
                <a:cubicBezTo>
                  <a:pt x="168" y="440"/>
                  <a:pt x="300" y="532"/>
                  <a:pt x="432" y="624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2209680" y="3505320"/>
            <a:ext cx="0" cy="18288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09680" y="3505320"/>
            <a:ext cx="1828800" cy="1218960"/>
          </a:xfrm>
          <a:custGeom>
            <a:avLst/>
            <a:gdLst/>
            <a:ahLst/>
            <a:rect l="l" t="t" r="r" b="b"/>
            <a:pathLst>
              <a:path w="1152" h="768">
                <a:moveTo>
                  <a:pt x="0" y="0"/>
                </a:moveTo>
                <a:cubicBezTo>
                  <a:pt x="8" y="136"/>
                  <a:pt x="16" y="272"/>
                  <a:pt x="144" y="384"/>
                </a:cubicBezTo>
                <a:cubicBezTo>
                  <a:pt x="272" y="496"/>
                  <a:pt x="600" y="608"/>
                  <a:pt x="768" y="672"/>
                </a:cubicBezTo>
                <a:cubicBezTo>
                  <a:pt x="936" y="736"/>
                  <a:pt x="1044" y="752"/>
                  <a:pt x="1152" y="768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438280" y="464832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P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90720" y="4572000"/>
            <a:ext cx="533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P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19320" y="4952880"/>
            <a:ext cx="228600" cy="152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2209320" y="4495680"/>
            <a:ext cx="304920" cy="457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52280" y="4495680"/>
            <a:ext cx="762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IPA</a:t>
            </a:r>
            <a:r>
              <a:rPr b="1" lang="es-ES_tradnl" sz="1400" spc="-1" strike="noStrike" baseline="-25000">
                <a:solidFill>
                  <a:srgbClr val="3333cc"/>
                </a:solidFill>
                <a:latin typeface="Verdana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914040" y="4343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" y="4114800"/>
            <a:ext cx="762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IPA</a:t>
            </a:r>
            <a:r>
              <a:rPr b="1" lang="es-ES_tradnl" sz="1400" spc="-1" strike="noStrike" baseline="-25000">
                <a:solidFill>
                  <a:srgbClr val="3333cc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371600" y="617220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t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828800" y="617220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t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1981080" y="5181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914040" y="5181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52280" y="5029200"/>
            <a:ext cx="762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IPA</a:t>
            </a:r>
            <a:r>
              <a:rPr b="1" lang="es-ES_tradnl" sz="1400" spc="-1" strike="noStrike" baseline="-25000">
                <a:solidFill>
                  <a:srgbClr val="3333cc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267080" y="5105520"/>
            <a:ext cx="2895840" cy="510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IPA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t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=IPA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1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K</a:t>
            </a:r>
            <a:r>
              <a:rPr b="1" lang="es-ES_tradnl" sz="2400" spc="-1" strike="noStrike" baseline="30000">
                <a:solidFill>
                  <a:srgbClr val="3333cc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1066320" y="2133720"/>
            <a:ext cx="1676520" cy="29718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 flipV="1">
            <a:off x="1828440" y="4876920"/>
            <a:ext cx="2438280" cy="457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762120" y="380880"/>
            <a:ext cx="78483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Mecanismos de Producción de la Escorrent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9480" y="12193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Tipo Hor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295280" y="23623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295280" y="23623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04920" y="46483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Profund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741320" y="2381400"/>
            <a:ext cx="1341720" cy="2300040"/>
          </a:xfrm>
          <a:custGeom>
            <a:avLst/>
            <a:gdLst/>
            <a:ahLst/>
            <a:rect l="l" t="t" r="r" b="b"/>
            <a:pathLst>
              <a:path w="845" h="1449">
                <a:moveTo>
                  <a:pt x="0" y="0"/>
                </a:moveTo>
                <a:cubicBezTo>
                  <a:pt x="3" y="43"/>
                  <a:pt x="3" y="86"/>
                  <a:pt x="9" y="129"/>
                </a:cubicBezTo>
                <a:cubicBezTo>
                  <a:pt x="18" y="191"/>
                  <a:pt x="70" y="249"/>
                  <a:pt x="112" y="291"/>
                </a:cubicBezTo>
                <a:cubicBezTo>
                  <a:pt x="145" y="324"/>
                  <a:pt x="184" y="351"/>
                  <a:pt x="223" y="377"/>
                </a:cubicBezTo>
                <a:cubicBezTo>
                  <a:pt x="232" y="383"/>
                  <a:pt x="249" y="394"/>
                  <a:pt x="249" y="394"/>
                </a:cubicBezTo>
                <a:cubicBezTo>
                  <a:pt x="295" y="465"/>
                  <a:pt x="235" y="384"/>
                  <a:pt x="292" y="429"/>
                </a:cubicBezTo>
                <a:cubicBezTo>
                  <a:pt x="300" y="435"/>
                  <a:pt x="302" y="447"/>
                  <a:pt x="309" y="454"/>
                </a:cubicBezTo>
                <a:cubicBezTo>
                  <a:pt x="322" y="467"/>
                  <a:pt x="337" y="478"/>
                  <a:pt x="352" y="489"/>
                </a:cubicBezTo>
                <a:cubicBezTo>
                  <a:pt x="412" y="534"/>
                  <a:pt x="467" y="574"/>
                  <a:pt x="514" y="634"/>
                </a:cubicBezTo>
                <a:cubicBezTo>
                  <a:pt x="567" y="702"/>
                  <a:pt x="647" y="772"/>
                  <a:pt x="686" y="849"/>
                </a:cubicBezTo>
                <a:cubicBezTo>
                  <a:pt x="717" y="909"/>
                  <a:pt x="768" y="1056"/>
                  <a:pt x="806" y="1114"/>
                </a:cubicBezTo>
                <a:cubicBezTo>
                  <a:pt x="845" y="1322"/>
                  <a:pt x="827" y="1379"/>
                  <a:pt x="832" y="1449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4191120"/>
            <a:ext cx="762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581280" y="3657600"/>
            <a:ext cx="190512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Verdana"/>
              </a:rPr>
              <a:t>Nivel freá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581280" y="39625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3048120" y="236196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19810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981080" y="2381400"/>
            <a:ext cx="209520" cy="514080"/>
          </a:xfrm>
          <a:custGeom>
            <a:avLst/>
            <a:gdLst/>
            <a:ahLst/>
            <a:rect l="l" t="t" r="r" b="b"/>
            <a:pathLst>
              <a:path w="132" h="324">
                <a:moveTo>
                  <a:pt x="132" y="0"/>
                </a:moveTo>
                <a:cubicBezTo>
                  <a:pt x="128" y="22"/>
                  <a:pt x="113" y="96"/>
                  <a:pt x="96" y="132"/>
                </a:cubicBezTo>
                <a:cubicBezTo>
                  <a:pt x="79" y="168"/>
                  <a:pt x="45" y="182"/>
                  <a:pt x="29" y="214"/>
                </a:cubicBezTo>
                <a:cubicBezTo>
                  <a:pt x="13" y="246"/>
                  <a:pt x="6" y="301"/>
                  <a:pt x="0" y="324"/>
                </a:cubicBezTo>
              </a:path>
            </a:pathLst>
          </a:custGeom>
          <a:noFill/>
          <a:ln w="2844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73400" y="2367000"/>
            <a:ext cx="304560" cy="757080"/>
          </a:xfrm>
          <a:custGeom>
            <a:avLst/>
            <a:gdLst/>
            <a:ahLst/>
            <a:rect l="l" t="t" r="r" b="b"/>
            <a:pathLst>
              <a:path w="192" h="477">
                <a:moveTo>
                  <a:pt x="179" y="0"/>
                </a:moveTo>
                <a:cubicBezTo>
                  <a:pt x="176" y="30"/>
                  <a:pt x="192" y="133"/>
                  <a:pt x="171" y="180"/>
                </a:cubicBezTo>
                <a:cubicBezTo>
                  <a:pt x="150" y="227"/>
                  <a:pt x="83" y="244"/>
                  <a:pt x="56" y="285"/>
                </a:cubicBezTo>
                <a:cubicBezTo>
                  <a:pt x="29" y="326"/>
                  <a:pt x="16" y="397"/>
                  <a:pt x="8" y="429"/>
                </a:cubicBezTo>
                <a:cubicBezTo>
                  <a:pt x="0" y="461"/>
                  <a:pt x="4" y="469"/>
                  <a:pt x="8" y="47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666880" y="2362320"/>
            <a:ext cx="406440" cy="1143000"/>
          </a:xfrm>
          <a:custGeom>
            <a:avLst/>
            <a:gdLst/>
            <a:ahLst/>
            <a:rect l="l" t="t" r="r" b="b"/>
            <a:pathLst>
              <a:path w="256" h="720">
                <a:moveTo>
                  <a:pt x="240" y="0"/>
                </a:moveTo>
                <a:cubicBezTo>
                  <a:pt x="240" y="52"/>
                  <a:pt x="240" y="104"/>
                  <a:pt x="240" y="144"/>
                </a:cubicBezTo>
                <a:cubicBezTo>
                  <a:pt x="240" y="184"/>
                  <a:pt x="256" y="208"/>
                  <a:pt x="240" y="240"/>
                </a:cubicBezTo>
                <a:cubicBezTo>
                  <a:pt x="224" y="272"/>
                  <a:pt x="176" y="296"/>
                  <a:pt x="144" y="336"/>
                </a:cubicBezTo>
                <a:cubicBezTo>
                  <a:pt x="112" y="376"/>
                  <a:pt x="72" y="416"/>
                  <a:pt x="48" y="480"/>
                </a:cubicBezTo>
                <a:cubicBezTo>
                  <a:pt x="24" y="544"/>
                  <a:pt x="12" y="632"/>
                  <a:pt x="0" y="72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828800" y="342900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t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2133720" y="3352320"/>
            <a:ext cx="304560" cy="22860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209680" y="19051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24080" y="2590920"/>
            <a:ext cx="1905120" cy="152280"/>
          </a:xfrm>
          <a:prstGeom prst="line">
            <a:avLst/>
          </a:prstGeom>
          <a:ln w="1908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029200" y="2286000"/>
            <a:ext cx="4114800" cy="1228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t</a:t>
            </a:r>
            <a:r>
              <a:rPr b="1" lang="es-ES_tradnl" sz="1800" spc="-1" strike="noStrike" baseline="-25000">
                <a:solidFill>
                  <a:srgbClr val="3333cc"/>
                </a:solidFill>
                <a:latin typeface="Verdana"/>
              </a:rPr>
              <a:t>3</a:t>
            </a: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 tiempo de empapamiento. La infiltración empieza a disminuir (antes todo infiltra) y se genera el flujo superf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648320" y="44956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648320" y="647712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114800" y="4876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648320" y="5105520"/>
            <a:ext cx="228600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648320" y="5105520"/>
            <a:ext cx="16002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248520" y="5105520"/>
            <a:ext cx="663480" cy="541080"/>
          </a:xfrm>
          <a:custGeom>
            <a:avLst/>
            <a:gdLst/>
            <a:ahLst/>
            <a:rect l="l" t="t" r="r" b="b"/>
            <a:pathLst>
              <a:path w="418" h="341">
                <a:moveTo>
                  <a:pt x="0" y="0"/>
                </a:moveTo>
                <a:cubicBezTo>
                  <a:pt x="11" y="32"/>
                  <a:pt x="30" y="145"/>
                  <a:pt x="67" y="195"/>
                </a:cubicBezTo>
                <a:cubicBezTo>
                  <a:pt x="104" y="245"/>
                  <a:pt x="162" y="274"/>
                  <a:pt x="221" y="298"/>
                </a:cubicBezTo>
                <a:cubicBezTo>
                  <a:pt x="280" y="322"/>
                  <a:pt x="377" y="332"/>
                  <a:pt x="418" y="341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086600" y="533412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Verdana"/>
              </a:rPr>
              <a:t>infilt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648320" y="6477120"/>
            <a:ext cx="1676160" cy="0"/>
          </a:xfrm>
          <a:prstGeom prst="line">
            <a:avLst/>
          </a:prstGeom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311880" y="5891040"/>
            <a:ext cx="627120" cy="586080"/>
          </a:xfrm>
          <a:custGeom>
            <a:avLst/>
            <a:gdLst/>
            <a:ahLst/>
            <a:rect l="l" t="t" r="r" b="b"/>
            <a:pathLst>
              <a:path w="395" h="369">
                <a:moveTo>
                  <a:pt x="8" y="369"/>
                </a:moveTo>
                <a:cubicBezTo>
                  <a:pt x="4" y="337"/>
                  <a:pt x="0" y="305"/>
                  <a:pt x="8" y="273"/>
                </a:cubicBezTo>
                <a:cubicBezTo>
                  <a:pt x="16" y="241"/>
                  <a:pt x="40" y="201"/>
                  <a:pt x="56" y="177"/>
                </a:cubicBezTo>
                <a:cubicBezTo>
                  <a:pt x="72" y="153"/>
                  <a:pt x="72" y="153"/>
                  <a:pt x="104" y="129"/>
                </a:cubicBezTo>
                <a:cubicBezTo>
                  <a:pt x="136" y="105"/>
                  <a:pt x="200" y="55"/>
                  <a:pt x="248" y="33"/>
                </a:cubicBezTo>
                <a:cubicBezTo>
                  <a:pt x="296" y="11"/>
                  <a:pt x="365" y="7"/>
                  <a:pt x="395" y="0"/>
                </a:cubicBezTo>
              </a:path>
            </a:pathLst>
          </a:custGeom>
          <a:noFill/>
          <a:ln w="2844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934320" y="61722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996633"/>
                </a:solidFill>
                <a:latin typeface="Verdana"/>
              </a:rPr>
              <a:t>Flujo super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172200" y="647712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5029200"/>
            <a:ext cx="4038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En zonas de alta pendiente y cuando K &lt;i. Suelo Congelado</a:t>
            </a:r>
            <a:r>
              <a:rPr b="1" lang="es-ES" sz="1400" spc="-1" strike="noStrike">
                <a:solidFill>
                  <a:srgbClr val="3333cc"/>
                </a:solidFill>
                <a:latin typeface="Verdana"/>
              </a:rPr>
              <a:t> e hidrofóbicos. Si suelo desnudo, porque sobre superficies vegetadas, la materia orgánica y la actividad biológica contribuyen a aumentar k y 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191120" y="563868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" y="4876920"/>
            <a:ext cx="31240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609480" y="12193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Tipo Dun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95280" y="23623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95280" y="23623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04920" y="46483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Profund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741320" y="2381400"/>
            <a:ext cx="1349640" cy="1755720"/>
          </a:xfrm>
          <a:custGeom>
            <a:avLst/>
            <a:gdLst/>
            <a:ahLst/>
            <a:rect l="l" t="t" r="r" b="b"/>
            <a:pathLst>
              <a:path w="850" h="1106">
                <a:moveTo>
                  <a:pt x="0" y="0"/>
                </a:moveTo>
                <a:cubicBezTo>
                  <a:pt x="3" y="43"/>
                  <a:pt x="37" y="17"/>
                  <a:pt x="43" y="60"/>
                </a:cubicBezTo>
                <a:cubicBezTo>
                  <a:pt x="52" y="122"/>
                  <a:pt x="52" y="69"/>
                  <a:pt x="94" y="111"/>
                </a:cubicBezTo>
                <a:cubicBezTo>
                  <a:pt x="127" y="144"/>
                  <a:pt x="150" y="128"/>
                  <a:pt x="189" y="154"/>
                </a:cubicBezTo>
                <a:cubicBezTo>
                  <a:pt x="198" y="160"/>
                  <a:pt x="300" y="206"/>
                  <a:pt x="300" y="206"/>
                </a:cubicBezTo>
                <a:cubicBezTo>
                  <a:pt x="360" y="240"/>
                  <a:pt x="372" y="195"/>
                  <a:pt x="429" y="240"/>
                </a:cubicBezTo>
                <a:cubicBezTo>
                  <a:pt x="437" y="246"/>
                  <a:pt x="645" y="276"/>
                  <a:pt x="652" y="283"/>
                </a:cubicBezTo>
                <a:cubicBezTo>
                  <a:pt x="665" y="296"/>
                  <a:pt x="757" y="332"/>
                  <a:pt x="772" y="343"/>
                </a:cubicBezTo>
                <a:cubicBezTo>
                  <a:pt x="832" y="388"/>
                  <a:pt x="814" y="541"/>
                  <a:pt x="832" y="591"/>
                </a:cubicBezTo>
                <a:cubicBezTo>
                  <a:pt x="850" y="641"/>
                  <a:pt x="824" y="384"/>
                  <a:pt x="823" y="420"/>
                </a:cubicBezTo>
                <a:cubicBezTo>
                  <a:pt x="820" y="443"/>
                  <a:pt x="823" y="660"/>
                  <a:pt x="814" y="729"/>
                </a:cubicBezTo>
                <a:cubicBezTo>
                  <a:pt x="814" y="798"/>
                  <a:pt x="814" y="840"/>
                  <a:pt x="814" y="840"/>
                </a:cubicBezTo>
                <a:cubicBezTo>
                  <a:pt x="814" y="907"/>
                  <a:pt x="818" y="1065"/>
                  <a:pt x="814" y="1106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048120" y="3124080"/>
            <a:ext cx="761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86200" y="2514600"/>
            <a:ext cx="190512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Verdana"/>
              </a:rPr>
              <a:t>Nivel freá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3657240" y="289548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3048120" y="236196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895480" y="19810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057400" y="2381400"/>
            <a:ext cx="133200" cy="209520"/>
          </a:xfrm>
          <a:custGeom>
            <a:avLst/>
            <a:gdLst/>
            <a:ahLst/>
            <a:rect l="l" t="t" r="r" b="b"/>
            <a:pathLst>
              <a:path w="132" h="324">
                <a:moveTo>
                  <a:pt x="132" y="0"/>
                </a:moveTo>
                <a:cubicBezTo>
                  <a:pt x="128" y="22"/>
                  <a:pt x="113" y="96"/>
                  <a:pt x="96" y="132"/>
                </a:cubicBezTo>
                <a:cubicBezTo>
                  <a:pt x="79" y="168"/>
                  <a:pt x="45" y="182"/>
                  <a:pt x="29" y="214"/>
                </a:cubicBezTo>
                <a:cubicBezTo>
                  <a:pt x="13" y="246"/>
                  <a:pt x="6" y="301"/>
                  <a:pt x="0" y="324"/>
                </a:cubicBezTo>
              </a:path>
            </a:pathLst>
          </a:custGeom>
          <a:noFill/>
          <a:ln w="2844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389320" y="2362320"/>
            <a:ext cx="115920" cy="414360"/>
          </a:xfrm>
          <a:custGeom>
            <a:avLst/>
            <a:gdLst/>
            <a:ahLst/>
            <a:rect l="l" t="t" r="r" b="b"/>
            <a:pathLst>
              <a:path w="73" h="261">
                <a:moveTo>
                  <a:pt x="14" y="0"/>
                </a:moveTo>
                <a:cubicBezTo>
                  <a:pt x="12" y="15"/>
                  <a:pt x="0" y="67"/>
                  <a:pt x="8" y="89"/>
                </a:cubicBezTo>
                <a:cubicBezTo>
                  <a:pt x="16" y="111"/>
                  <a:pt x="55" y="112"/>
                  <a:pt x="64" y="132"/>
                </a:cubicBezTo>
                <a:cubicBezTo>
                  <a:pt x="73" y="152"/>
                  <a:pt x="64" y="188"/>
                  <a:pt x="64" y="209"/>
                </a:cubicBezTo>
                <a:cubicBezTo>
                  <a:pt x="64" y="230"/>
                  <a:pt x="64" y="250"/>
                  <a:pt x="64" y="26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652840" y="2381400"/>
            <a:ext cx="395280" cy="556920"/>
          </a:xfrm>
          <a:custGeom>
            <a:avLst/>
            <a:gdLst/>
            <a:ahLst/>
            <a:rect l="l" t="t" r="r" b="b"/>
            <a:pathLst>
              <a:path w="249" h="351">
                <a:moveTo>
                  <a:pt x="9" y="0"/>
                </a:moveTo>
                <a:cubicBezTo>
                  <a:pt x="10" y="4"/>
                  <a:pt x="8" y="13"/>
                  <a:pt x="9" y="26"/>
                </a:cubicBezTo>
                <a:cubicBezTo>
                  <a:pt x="10" y="39"/>
                  <a:pt x="0" y="57"/>
                  <a:pt x="18" y="77"/>
                </a:cubicBezTo>
                <a:cubicBezTo>
                  <a:pt x="36" y="97"/>
                  <a:pt x="94" y="129"/>
                  <a:pt x="120" y="146"/>
                </a:cubicBezTo>
                <a:cubicBezTo>
                  <a:pt x="146" y="163"/>
                  <a:pt x="153" y="146"/>
                  <a:pt x="174" y="180"/>
                </a:cubicBezTo>
                <a:cubicBezTo>
                  <a:pt x="195" y="214"/>
                  <a:pt x="239" y="342"/>
                  <a:pt x="249" y="351"/>
                </a:cubicBezTo>
                <a:lnTo>
                  <a:pt x="232" y="231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447920" y="2895480"/>
            <a:ext cx="533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t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1600200" y="2666520"/>
            <a:ext cx="304920" cy="22860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209680" y="19051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648320" y="41911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648320" y="647712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14800" y="4876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648320" y="5105520"/>
            <a:ext cx="228600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648320" y="5105520"/>
            <a:ext cx="16002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086600" y="533412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Verdana"/>
              </a:rPr>
              <a:t>infilt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648320" y="6477120"/>
            <a:ext cx="1676160" cy="0"/>
          </a:xfrm>
          <a:prstGeom prst="line">
            <a:avLst/>
          </a:prstGeom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934320" y="61722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996633"/>
                </a:solidFill>
                <a:latin typeface="Verdana"/>
              </a:rPr>
              <a:t>Flujo super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172200" y="647712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Verdan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124080" y="2819520"/>
            <a:ext cx="3812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3505320" y="2666880"/>
            <a:ext cx="304560" cy="152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952880" y="838080"/>
            <a:ext cx="4191120" cy="1067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cc"/>
                </a:solidFill>
                <a:latin typeface="Verdana"/>
              </a:rPr>
              <a:t>La saturación de l suelo ocurre por el ascenso del nivel freático. Cuando todo está saturado (no hay almacenamiento disponible) se genera flujo superfi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6781320" y="2209680"/>
            <a:ext cx="304920" cy="21337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248520" y="5105520"/>
            <a:ext cx="0" cy="1371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248520" y="6477120"/>
            <a:ext cx="7617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6248520" y="5105520"/>
            <a:ext cx="0" cy="13716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248520" y="5105520"/>
            <a:ext cx="99036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57200" y="594360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erca de vegas y ca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114800" y="449568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228600" y="0"/>
            <a:ext cx="838188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Flujo Superficial y Erosión. Los flujos tipo Horton  y por saturación mueven sedimento pendiente abajo. Esto da como resultado el lavado superficial del suelo (sheetwash) y la formación de canalículos (rills)y cárcavas (gullie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El lavado superficial es fomentado por la erosión producida por el impacto de las gotas de lluvia que remueven las partículas superficiales (más efectivo en suelos sin cubierta vegetal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En todos los casos, el movimiento del suelo y partículas de roca debido al escurrimiento del agua es la EROS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gullies" descr=""/>
          <p:cNvPicPr/>
          <p:nvPr/>
        </p:nvPicPr>
        <p:blipFill>
          <a:blip r:embed="rId2"/>
          <a:stretch/>
        </p:blipFill>
        <p:spPr>
          <a:xfrm>
            <a:off x="4572000" y="3917880"/>
            <a:ext cx="4378320" cy="2746440"/>
          </a:xfrm>
          <a:prstGeom prst="rect">
            <a:avLst/>
          </a:prstGeom>
          <a:ln w="0">
            <a:noFill/>
          </a:ln>
        </p:spPr>
      </p:pic>
      <p:pic>
        <p:nvPicPr>
          <p:cNvPr id="373" name="rills" descr=""/>
          <p:cNvPicPr/>
          <p:nvPr/>
        </p:nvPicPr>
        <p:blipFill>
          <a:blip r:embed="rId3"/>
          <a:stretch/>
        </p:blipFill>
        <p:spPr>
          <a:xfrm>
            <a:off x="152280" y="3962520"/>
            <a:ext cx="4572000" cy="26924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1828800" y="403848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Canalícu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410080" y="41148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Cárca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838080" y="609480"/>
            <a:ext cx="70106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Tasa de almacenamiento superfic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2895480" y="1676520"/>
                <a:ext cx="335916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k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sup>
                    </m:sSup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3052800" y="3098880"/>
                <a:ext cx="319572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  <m:r>
                      <m:t xml:space="preserve">≡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sup>
                    </m:sSup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9" name=""/>
          <p:cNvSpPr/>
          <p:nvPr/>
        </p:nvSpPr>
        <p:spPr>
          <a:xfrm>
            <a:off x="762120" y="4419720"/>
            <a:ext cx="67816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Tasa de escurrimiento super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609480" y="5486400"/>
                <a:ext cx="775044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−</m:t>
                    </m:r>
                    <m:r>
                      <m:t xml:space="preserve">ν</m:t>
                    </m:r>
                    <m:r>
                      <m:t xml:space="preserve">≡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685800" y="4572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Verdana"/>
              </a:rPr>
              <a:t>Diagrama de Distribución de la Llu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1143000" y="974880"/>
          <a:ext cx="6629400" cy="5083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974880"/>
                    <a:ext cx="6629400" cy="50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>
            <a:hlinkClick r:id="" action="ppaction://hlinkshowjump?jump=previousslide"/>
          </p:cNvPr>
          <p:cNvSpPr/>
          <p:nvPr/>
        </p:nvSpPr>
        <p:spPr>
          <a:xfrm>
            <a:off x="8305920" y="59436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19320" y="762120"/>
            <a:ext cx="6629400" cy="3473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las presiones negativas son mayores de 15 bar, la planta (raíces) no puede extraer el agua.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Punto de Marchitez Perman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áxima cantidad de agua que el suelo puede almacenar en contra de la acción de la gravedad: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Capacidad de ca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El agua en exceso (por sobre CC) perco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GyA2" descr=""/>
          <p:cNvPicPr/>
          <p:nvPr/>
        </p:nvPicPr>
        <p:blipFill>
          <a:blip r:embed="rId2"/>
          <a:stretch/>
        </p:blipFill>
        <p:spPr>
          <a:xfrm>
            <a:off x="609480" y="457200"/>
            <a:ext cx="8001000" cy="600084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179000" y="0"/>
            <a:ext cx="517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http://www.aquarien.com/sptutor/pdeb3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>
            <a:hlinkClick r:id="" action="ppaction://hlinkshowjump?jump=previousslide"/>
          </p:cNvPr>
          <p:cNvSpPr/>
          <p:nvPr/>
        </p:nvSpPr>
        <p:spPr>
          <a:xfrm>
            <a:off x="8686800" y="64771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  <a:path fill="darken" w="21600" h="26975">
                <a:moveTo>
                  <a:pt x="3794" y="10180"/>
                </a:moveTo>
                <a:lnTo>
                  <a:pt x="7301" y="10180"/>
                </a:lnTo>
                <a:lnTo>
                  <a:pt x="7301" y="15515"/>
                </a:lnTo>
                <a:cubicBezTo>
                  <a:pt x="7301" y="16438"/>
                  <a:pt x="8102" y="17169"/>
                  <a:pt x="9138" y="17169"/>
                </a:cubicBezTo>
                <a:lnTo>
                  <a:pt x="10800" y="17169"/>
                </a:lnTo>
                <a:cubicBezTo>
                  <a:pt x="11836" y="17169"/>
                  <a:pt x="12636" y="16438"/>
                  <a:pt x="12636" y="15515"/>
                </a:cubicBezTo>
                <a:lnTo>
                  <a:pt x="12636" y="10180"/>
                </a:lnTo>
                <a:lnTo>
                  <a:pt x="10800" y="10180"/>
                </a:lnTo>
                <a:lnTo>
                  <a:pt x="14308" y="6672"/>
                </a:lnTo>
                <a:lnTo>
                  <a:pt x="17981" y="10180"/>
                </a:lnTo>
                <a:lnTo>
                  <a:pt x="16144" y="10180"/>
                </a:lnTo>
                <a:lnTo>
                  <a:pt x="16144" y="15515"/>
                </a:lnTo>
                <a:cubicBezTo>
                  <a:pt x="16144" y="18283"/>
                  <a:pt x="13568" y="20842"/>
                  <a:pt x="10800" y="20842"/>
                </a:cubicBezTo>
                <a:lnTo>
                  <a:pt x="9138" y="20842"/>
                </a:lnTo>
                <a:cubicBezTo>
                  <a:pt x="6370" y="20842"/>
                  <a:pt x="3794" y="18283"/>
                  <a:pt x="3794" y="15515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GyA3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925640" y="0"/>
            <a:ext cx="529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GyA4" descr=""/>
          <p:cNvPicPr/>
          <p:nvPr/>
        </p:nvPicPr>
        <p:blipFill>
          <a:blip r:embed="rId2"/>
          <a:stretch/>
        </p:blipFill>
        <p:spPr>
          <a:xfrm>
            <a:off x="685800" y="51444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GyA5" descr=""/>
          <p:cNvPicPr/>
          <p:nvPr/>
        </p:nvPicPr>
        <p:blipFill>
          <a:blip r:embed="rId2"/>
          <a:stretch/>
        </p:blipFill>
        <p:spPr>
          <a:xfrm>
            <a:off x="1066680" y="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392" name="GyA6" descr=""/>
          <p:cNvPicPr/>
          <p:nvPr/>
        </p:nvPicPr>
        <p:blipFill>
          <a:blip r:embed="rId3"/>
          <a:stretch/>
        </p:blipFill>
        <p:spPr>
          <a:xfrm>
            <a:off x="990720" y="388620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GyA7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GyA8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GyA9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GyA10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GyA11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GyA12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GyA13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GyA14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990720" y="1371600"/>
          <a:ext cx="7010280" cy="4195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371600"/>
                    <a:ext cx="7010280" cy="419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533520" y="6858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PARCELAS EXPERIMEN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943240" y="1143000"/>
            <a:ext cx="1066680" cy="2895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24280" y="2057400"/>
            <a:ext cx="83844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553080" y="609480"/>
            <a:ext cx="2286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Verdana"/>
              </a:rPr>
              <a:t>D</a:t>
            </a:r>
            <a:r>
              <a:rPr b="1" lang="es-ES_tradnl" sz="1400" spc="-1" strike="noStrike" baseline="-25000">
                <a:solidFill>
                  <a:srgbClr val="000099"/>
                </a:solidFill>
                <a:latin typeface="Verdana"/>
              </a:rPr>
              <a:t>a</a:t>
            </a:r>
            <a:r>
              <a:rPr b="1" lang="es-ES_tradnl" sz="1400" spc="-1" strike="noStrike">
                <a:solidFill>
                  <a:srgbClr val="000099"/>
                </a:solidFill>
                <a:latin typeface="Verdana"/>
              </a:rPr>
              <a:t>: Volumen de detención super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4876560" y="3657240"/>
            <a:ext cx="1600200" cy="2438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6095880"/>
            <a:ext cx="31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Verdana"/>
              </a:rPr>
              <a:t>Da+ V depresiones super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4724280" y="1447920"/>
            <a:ext cx="3200400" cy="3657600"/>
            <a:chOff x="4724280" y="1447920"/>
            <a:chExt cx="3200400" cy="3657600"/>
          </a:xfrm>
        </p:grpSpPr>
        <p:sp>
          <p:nvSpPr>
            <p:cNvPr id="86" name=""/>
            <p:cNvSpPr/>
            <p:nvPr/>
          </p:nvSpPr>
          <p:spPr>
            <a:xfrm>
              <a:off x="4724280" y="1447920"/>
              <a:ext cx="3200400" cy="365760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876560" y="2209680"/>
              <a:ext cx="266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Verdana"/>
                </a:rPr>
                <a:t>Prueb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gyA15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GyA16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GyA17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GyA18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gyA19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406" name="">
            <a:hlinkClick r:id="rId3" action="ppaction://hlinksldjump"/>
          </p:cNvPr>
          <p:cNvSpPr/>
          <p:nvPr/>
        </p:nvSpPr>
        <p:spPr>
          <a:xfrm>
            <a:off x="8153280" y="60958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Webdings"/>
                <a:ea typeface="Webdings"/>
              </a:rPr>
              <a:t>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228600" y="2666520"/>
            <a:ext cx="4267080" cy="2667600"/>
            <a:chOff x="228600" y="2666520"/>
            <a:chExt cx="4267080" cy="2667600"/>
          </a:xfrm>
        </p:grpSpPr>
        <p:sp>
          <p:nvSpPr>
            <p:cNvPr id="89" name=""/>
            <p:cNvSpPr/>
            <p:nvPr/>
          </p:nvSpPr>
          <p:spPr>
            <a:xfrm flipV="1">
              <a:off x="762120" y="2666520"/>
              <a:ext cx="0" cy="266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62120" y="533412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62120" y="3581280"/>
              <a:ext cx="3276360" cy="1600200"/>
            </a:xfrm>
            <a:custGeom>
              <a:avLst/>
              <a:gdLst/>
              <a:ahLst/>
              <a:rect l="l" t="t" r="r" b="b"/>
              <a:pathLst>
                <a:path w="2064" h="1008">
                  <a:moveTo>
                    <a:pt x="0" y="0"/>
                  </a:moveTo>
                  <a:cubicBezTo>
                    <a:pt x="4" y="128"/>
                    <a:pt x="8" y="256"/>
                    <a:pt x="96" y="384"/>
                  </a:cubicBezTo>
                  <a:cubicBezTo>
                    <a:pt x="184" y="512"/>
                    <a:pt x="328" y="672"/>
                    <a:pt x="528" y="768"/>
                  </a:cubicBezTo>
                  <a:cubicBezTo>
                    <a:pt x="728" y="864"/>
                    <a:pt x="1040" y="920"/>
                    <a:pt x="1296" y="960"/>
                  </a:cubicBezTo>
                  <a:cubicBezTo>
                    <a:pt x="1552" y="1000"/>
                    <a:pt x="1808" y="1004"/>
                    <a:pt x="2064" y="100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8600" y="335268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Verdana"/>
                </a:rPr>
                <a:t>f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Verdan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28600" y="4800600"/>
              <a:ext cx="609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Verdana"/>
                </a:rPr>
                <a:t>f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990720" y="68580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cuaciones Empíricas para Estimar la Infil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6765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Hor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8153280" y="3123720"/>
            <a:ext cx="15264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467480" y="487692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Verdana"/>
              </a:rPr>
              <a:t>constante de decaimien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5486400"/>
            <a:ext cx="853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 Cyr"/>
              </a:rPr>
              <a:t>corresponde a la solución de la ecuación de Richards para la tasa de difusión de humedad (D(</a:t>
            </a:r>
            <a:r>
              <a:rPr b="0" lang="es-ES_tradnl" sz="2000" spc="-1" strike="noStrike">
                <a:solidFill>
                  <a:srgbClr val="000099"/>
                </a:solidFill>
                <a:latin typeface="Symbol"/>
                <a:ea typeface="Symbol"/>
              </a:rPr>
              <a:t></a:t>
            </a:r>
            <a:r>
              <a:rPr b="0" lang="es-ES_tradnl" sz="2000" spc="-1" strike="noStrike">
                <a:solidFill>
                  <a:srgbClr val="000099"/>
                </a:solidFill>
                <a:latin typeface="Times New Roman"/>
              </a:rPr>
              <a:t>θ</a:t>
            </a:r>
            <a:r>
              <a:rPr b="1" lang="es-ES_tradnl" sz="2000" spc="-1" strike="noStrike">
                <a:solidFill>
                  <a:srgbClr val="000099"/>
                </a:solidFill>
                <a:latin typeface="Times New Roman Cyr"/>
              </a:rPr>
              <a:t>/</a:t>
            </a:r>
            <a:r>
              <a:rPr b="0" lang="es-ES_tradnl" sz="2000" spc="-1" strike="noStrike">
                <a:solidFill>
                  <a:srgbClr val="000099"/>
                </a:solidFill>
                <a:latin typeface="Symbol"/>
                <a:ea typeface="Symbol"/>
              </a:rPr>
              <a:t></a:t>
            </a:r>
            <a:r>
              <a:rPr b="1" lang="es-ES_tradnl" sz="2000" spc="-1" strike="noStrike">
                <a:solidFill>
                  <a:srgbClr val="000099"/>
                </a:solidFill>
                <a:latin typeface="Times New Roman Cyr"/>
              </a:rPr>
              <a:t>z)) en la superficie del suelo, cuando se considera que K y D son constantes independientes de la humedad del suel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143000" y="2438280"/>
          <a:ext cx="7391520" cy="1239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2438280"/>
                    <a:ext cx="7391520" cy="12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5335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Philip (1957,196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14479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resolvió la ec. de Richards en condiciones menos restrictivas, considerando que K y D podían variar con el contenido de humedad 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32004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transformación de Boltzman B(</a:t>
            </a:r>
            <a:r>
              <a:rPr b="0" lang="es-ES_tradnl" sz="2400" spc="-1" strike="noStrike">
                <a:solidFill>
                  <a:srgbClr val="000099"/>
                </a:solidFill>
                <a:latin typeface="Verdana"/>
              </a:rPr>
              <a:t>θ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) =zt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Verdana"/>
              </a:rPr>
              <a:t>-1/2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666880"/>
            <a:ext cx="914400" cy="38124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43434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infiltración acumulada F(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486400" y="4648320"/>
          <a:ext cx="3352680" cy="788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4648320"/>
                    <a:ext cx="3352680" cy="78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4724280" y="61722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Sorptividad o Adsor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6095880" y="5409720"/>
            <a:ext cx="762120" cy="7621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85800" y="5600880"/>
          <a:ext cx="2590920" cy="965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5600880"/>
                    <a:ext cx="259092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 rot="19980000">
            <a:off x="3886200" y="5181480"/>
            <a:ext cx="1371600" cy="990720"/>
          </a:xfrm>
          <a:prstGeom prst="leftArrow">
            <a:avLst>
              <a:gd name="adj1" fmla="val 50000"/>
              <a:gd name="adj2" fmla="val 34611"/>
            </a:avLst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F/d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666880" y="5715000"/>
            <a:ext cx="1295640" cy="5806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Verdana"/>
              </a:rPr>
              <a:t>Columna horizo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838080" y="2133720"/>
          <a:ext cx="6705720" cy="1352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2133720"/>
                    <a:ext cx="670572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762120" y="762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Phil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200400" y="1600200"/>
            <a:ext cx="914400" cy="6858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14800" y="12193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perme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396252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viscos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1981080" y="3352680"/>
            <a:ext cx="914400" cy="6098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10080" y="3808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Potencial capilar en el frente de hum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095880" y="990720"/>
            <a:ext cx="1067040" cy="12952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3809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Verdana"/>
              </a:rPr>
              <a:t>Profundidad de agua sobre el sue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6934320" y="2666520"/>
            <a:ext cx="380880" cy="12193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5105520"/>
            <a:ext cx="472464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4724280"/>
            <a:ext cx="4572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257800" y="4267080"/>
            <a:ext cx="380880" cy="6098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480060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00400" y="4876920"/>
            <a:ext cx="1522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057400" y="51055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66880" y="5105520"/>
            <a:ext cx="1447920" cy="1447560"/>
          </a:xfrm>
          <a:custGeom>
            <a:avLst/>
            <a:gdLst/>
            <a:ahLst/>
            <a:rect l="l" t="t" r="r" b="b"/>
            <a:pathLst>
              <a:path w="912" h="912">
                <a:moveTo>
                  <a:pt x="912" y="0"/>
                </a:moveTo>
                <a:lnTo>
                  <a:pt x="912" y="480"/>
                </a:lnTo>
                <a:lnTo>
                  <a:pt x="912" y="576"/>
                </a:lnTo>
                <a:lnTo>
                  <a:pt x="816" y="576"/>
                </a:lnTo>
                <a:lnTo>
                  <a:pt x="0" y="576"/>
                </a:lnTo>
                <a:lnTo>
                  <a:pt x="0" y="912"/>
                </a:ln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14600" y="5410080"/>
            <a:ext cx="1219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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81480" y="54100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Verdana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29200" y="5105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15000" y="57913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Verdana"/>
              </a:rPr>
              <a:t>Frente húme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60199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57400" y="6019920"/>
            <a:ext cx="609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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45720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MÉTODO DE HUGGINS Y MONKE (196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43000" y="12952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e considera f=f(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81080" y="2209680"/>
            <a:ext cx="3353040" cy="510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f=f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c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+A(S’/</a:t>
            </a:r>
            <a:r>
              <a:rPr b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)</a:t>
            </a:r>
            <a:r>
              <a:rPr b="1" lang="es-ES_tradnl" sz="2400" spc="-1" strike="noStrike" baseline="30000">
                <a:solidFill>
                  <a:srgbClr val="3333cc"/>
                </a:solidFill>
                <a:latin typeface="Verdan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429000" y="1828800"/>
            <a:ext cx="1981080" cy="457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572000" y="1905120"/>
            <a:ext cx="762120" cy="457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1523880"/>
            <a:ext cx="29718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coefici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4267080" y="2742840"/>
            <a:ext cx="457200" cy="76212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34290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ffff"/>
                </a:solidFill>
                <a:latin typeface="Verdana"/>
              </a:rPr>
              <a:t>Porosidad capa superior su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3124080" y="2590920"/>
            <a:ext cx="457200" cy="121896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71600" y="3733920"/>
            <a:ext cx="4191120" cy="680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Potencial de almacenamiento. Inicialmente </a:t>
            </a:r>
            <a:r>
              <a:rPr b="1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-</a:t>
            </a:r>
            <a:r>
              <a:rPr b="1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1" lang="es-ES_tradnl" sz="1800" spc="-1" strike="noStrike" baseline="-25000">
                <a:solidFill>
                  <a:srgbClr val="3333cc"/>
                </a:solidFill>
                <a:latin typeface="Verdan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464832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Ecuación se resuelve iterativ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057400" y="5181480"/>
            <a:ext cx="548640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Inicio tormenta: F=0    S’= </a:t>
            </a:r>
            <a:r>
              <a:rPr b="1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-</a:t>
            </a:r>
            <a:r>
              <a:rPr b="1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1" lang="es-ES_tradnl" sz="1800" spc="-1" strike="noStrike" baseline="-25000">
                <a:solidFill>
                  <a:srgbClr val="3333cc"/>
                </a:solidFill>
                <a:latin typeface="Verdan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nextslide"/>
          </p:cNvPr>
          <p:cNvSpPr/>
          <p:nvPr/>
        </p:nvSpPr>
        <p:spPr>
          <a:xfrm>
            <a:off x="1981080" y="5562720"/>
            <a:ext cx="2286000" cy="440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i 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-S’&lt;CC =f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257800" y="5791320"/>
            <a:ext cx="1523880" cy="398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ccff"/>
                </a:solidFill>
                <a:latin typeface="Verdana"/>
              </a:rPr>
              <a:t>Si S’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" action="ppaction://hlinkshowjump?jump=nextslide"/>
          </p:cNvPr>
          <p:cNvSpPr/>
          <p:nvPr/>
        </p:nvSpPr>
        <p:spPr>
          <a:xfrm>
            <a:off x="609480" y="6248520"/>
            <a:ext cx="3962520" cy="440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i CC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&lt;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-S’&lt; satu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238880" y="4191120"/>
            <a:ext cx="129564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0066"/>
                </a:solidFill>
                <a:latin typeface="Verdana"/>
              </a:rPr>
              <a:t>F=</a:t>
            </a:r>
            <a:r>
              <a:rPr b="0" lang="es-ES_tradnl" sz="2000" spc="-1" strike="noStrike">
                <a:solidFill>
                  <a:srgbClr val="ff0066"/>
                </a:solidFill>
                <a:latin typeface="Symbol"/>
                <a:ea typeface="Symbol"/>
              </a:rPr>
              <a:t></a:t>
            </a:r>
            <a:r>
              <a:rPr b="0" lang="es-ES_tradnl" sz="2000" spc="-1" strike="noStrike">
                <a:solidFill>
                  <a:srgbClr val="ff0066"/>
                </a:solidFill>
                <a:latin typeface="Verdana"/>
              </a:rPr>
              <a:t>fd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2" action="ppaction://hlinksldjump"/>
          </p:cNvPr>
          <p:cNvSpPr/>
          <p:nvPr/>
        </p:nvSpPr>
        <p:spPr>
          <a:xfrm>
            <a:off x="838080" y="2895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143000" y="6858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Percolación D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2496600">
            <a:off x="3580920" y="914400"/>
            <a:ext cx="609840" cy="68580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ccff"/>
              </a:gs>
              <a:gs pos="50000">
                <a:srgbClr val="cccc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33920" y="1905120"/>
            <a:ext cx="2286000" cy="510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S’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t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=S’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t-1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-f</a:t>
            </a:r>
            <a:r>
              <a:rPr b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8229600" y="20574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19320" y="2895480"/>
            <a:ext cx="50292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31240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uelo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atu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352680" y="3124080"/>
            <a:ext cx="990720" cy="685800"/>
          </a:xfrm>
          <a:prstGeom prst="rightArrow">
            <a:avLst>
              <a:gd name="adj1" fmla="val 50000"/>
              <a:gd name="adj2" fmla="val 36115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24280" y="32004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ff"/>
                </a:solidFill>
                <a:latin typeface="Verdana"/>
              </a:rPr>
              <a:t>D=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403848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i i&gt;f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971800" y="4114800"/>
            <a:ext cx="838080" cy="457200"/>
          </a:xfrm>
          <a:prstGeom prst="rightArrow">
            <a:avLst>
              <a:gd name="adj1" fmla="val 50000"/>
              <a:gd name="adj2" fmla="val 45827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62520" y="41148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ff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00ffff"/>
                </a:solidFill>
                <a:latin typeface="Verdana"/>
              </a:rPr>
              <a:t>f=f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4038480"/>
            <a:ext cx="3124440" cy="510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S’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t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=S’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t-1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-f</a:t>
            </a:r>
            <a:r>
              <a:rPr b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t+D</a:t>
            </a:r>
            <a:r>
              <a:rPr b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71600" y="4952880"/>
            <a:ext cx="5257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257800"/>
            <a:ext cx="2514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D=f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c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(1-S’/G)</a:t>
            </a:r>
            <a:r>
              <a:rPr b="1" lang="es-ES_tradnl" sz="2000" spc="-1" strike="noStrike" baseline="30000">
                <a:solidFill>
                  <a:srgbClr val="3333cc"/>
                </a:solidFill>
                <a:latin typeface="Verdan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05520" y="5334120"/>
            <a:ext cx="3124080" cy="510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S’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t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=S’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t-1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-f</a:t>
            </a:r>
            <a:r>
              <a:rPr b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t+D</a:t>
            </a:r>
            <a:r>
              <a:rPr b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3124080" y="5638320"/>
            <a:ext cx="152640" cy="3812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00200" y="617220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Contenido de agua máxima gravitacional=</a:t>
            </a:r>
            <a:r>
              <a:rPr b="1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-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4T00:26:34Z</dcterms:created>
  <dc:creator>Guillermo Osses</dc:creator>
  <dc:description/>
  <dc:language>en-US</dc:language>
  <cp:lastModifiedBy>xv</cp:lastModifiedBy>
  <dcterms:modified xsi:type="dcterms:W3CDTF">2005-09-05T13:01:29Z</dcterms:modified>
  <cp:revision>26</cp:revision>
  <dc:subject/>
  <dc:title>Presentación de PowerPoint</dc:title>
</cp:coreProperties>
</file>