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DEC-C337-4198-B88E-BAD732C2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531-4030-4922-B90E-D70A98D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9C0-D769-4678-9BBA-D1DFC34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F10-334F-4BC0-8E82-B16D5463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C89-C25F-4DBC-B105-161BC5B7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669-D4CE-4118-A10D-E5741145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97C-97EF-4D30-90CC-E188B53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BAA-B94A-4529-B1EB-0579F2C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22E-3F5E-4563-9863-EABD108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82A-D97D-410B-A474-838BF17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878-2F0B-482D-A193-7AD2D61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714-DDCA-4807-8932-AF9D1C2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C482-9E97-4B56-92E0-9786296B8D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9-05T13:01:29Z</dcterms:modified>
  <cp:revision>26</cp:revision>
  <dc:subject/>
  <dc:title>Presentación de PowerPoint</dc:title>
</cp:coreProperties>
</file>