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908-01B2-4EA8-8320-CB3B4B4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5E4-3226-4ED6-BA2C-FA4CBF29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9BC-F614-4696-96F5-C9F696DA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D6E-DF47-4099-A0AD-17CA4529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DEE-68CB-4C13-BD05-F3054F71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098-4F35-42FD-8729-F3A206EA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04E-6093-4C96-8A06-5CCCD7A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102-D725-4C60-8BE9-8F5ABE3F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73B-9B2D-4BBC-A26D-B21F1BF0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90F-9C11-4C4B-82D8-21762A4F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957-D03F-43FB-B55C-2C37FFA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D34-063A-4E1B-B84A-E9B79CF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EFD-0B43-47EC-8880-7785117723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9-05T13:01:29Z</dcterms:modified>
  <cp:revision>26</cp:revision>
  <dc:subject/>
  <dc:title>Presentación de PowerPoint</dc:title>
</cp:coreProperties>
</file>