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16D-330A-445C-9F15-5544D857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A3D-A6D7-48ED-BB52-25ED96C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FFB-5BD0-4299-A2DF-AD9FB454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D7C-E742-44C0-A136-3D9E877E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46E-86C6-42A3-88D4-F611003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609-2D65-4428-BD38-84D51B9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350-EB15-40FE-91EC-1FAF6A0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2D8-0AEE-49B7-B61B-B26463D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2D9-0218-44F2-B323-BA149861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DA9-B599-46A9-8CB0-AE968186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3F7-85F3-40B1-8967-9C8F3EB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844-B327-4B1A-8E2B-1B1D969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1046-8133-442F-AA83-59BFE5BE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Fig5-2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5-3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ig5-5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nfdisco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infiltrom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infiltrometro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Fig5-1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xv</cp:lastModifiedBy>
  <dcterms:modified xsi:type="dcterms:W3CDTF">2005-08-29T16:01:20Z</dcterms:modified>
  <cp:revision>13</cp:revision>
  <dc:subject/>
  <dc:title>Sin título de diapositiva</dc:title>
</cp:coreProperties>
</file>