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F77-4776-4E3C-B905-05F1A5E6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A05-DC9B-4D06-98C1-C9D8764B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4FB-4650-4908-8E02-3327FFFA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9E9-0299-4853-B409-66077C8D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D90-700D-427F-948F-34A33AC7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951-3836-477C-A188-20722665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A8A-4130-4729-A98F-12AB0BB6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A04-F055-48AA-9C21-B6E522C2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713-F2C2-4D39-9389-67D8EC11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B7E-2A67-4A8E-8088-1FF2A41A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4AE-056B-4967-9ACA-FB9BDA3F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607-3ECA-4E7E-9EBA-7660BCBD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C3D3-1958-409E-9E3B-6EAAC15C4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7696080" cy="192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Cuando la precipitación (P) llega a la superficie en  áreas con vegetación, un cierto porcentaje de ella es retenida o interceptada por la vegetación. La lluvia que no es interceptada se denomina “throughfall” (T). El agua que llega al suelo a trav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é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s de las ramas y troncos se llama “stemflow” (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724280"/>
            <a:ext cx="36576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INTERCEP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878440" y="3559320"/>
            <a:ext cx="2720880" cy="2550960"/>
            <a:chOff x="5878440" y="3559320"/>
            <a:chExt cx="2720880" cy="2550960"/>
          </a:xfrm>
        </p:grpSpPr>
        <p:sp>
          <p:nvSpPr>
            <p:cNvPr id="44" name=""/>
            <p:cNvSpPr/>
            <p:nvPr/>
          </p:nvSpPr>
          <p:spPr>
            <a:xfrm>
              <a:off x="6462720" y="4667400"/>
              <a:ext cx="1647720" cy="1442880"/>
            </a:xfrm>
            <a:custGeom>
              <a:avLst/>
              <a:gdLst/>
              <a:ahLst/>
              <a:rect l="l" t="t" r="r" b="b"/>
              <a:pathLst>
                <a:path w="1038" h="909">
                  <a:moveTo>
                    <a:pt x="403" y="900"/>
                  </a:moveTo>
                  <a:cubicBezTo>
                    <a:pt x="429" y="861"/>
                    <a:pt x="447" y="851"/>
                    <a:pt x="489" y="823"/>
                  </a:cubicBezTo>
                  <a:cubicBezTo>
                    <a:pt x="498" y="817"/>
                    <a:pt x="515" y="806"/>
                    <a:pt x="515" y="806"/>
                  </a:cubicBezTo>
                  <a:cubicBezTo>
                    <a:pt x="510" y="786"/>
                    <a:pt x="498" y="767"/>
                    <a:pt x="498" y="746"/>
                  </a:cubicBezTo>
                  <a:cubicBezTo>
                    <a:pt x="498" y="720"/>
                    <a:pt x="523" y="693"/>
                    <a:pt x="532" y="669"/>
                  </a:cubicBezTo>
                  <a:cubicBezTo>
                    <a:pt x="521" y="637"/>
                    <a:pt x="513" y="624"/>
                    <a:pt x="523" y="591"/>
                  </a:cubicBezTo>
                  <a:cubicBezTo>
                    <a:pt x="519" y="565"/>
                    <a:pt x="525" y="533"/>
                    <a:pt x="506" y="514"/>
                  </a:cubicBezTo>
                  <a:cubicBezTo>
                    <a:pt x="492" y="500"/>
                    <a:pt x="455" y="480"/>
                    <a:pt x="455" y="480"/>
                  </a:cubicBezTo>
                  <a:cubicBezTo>
                    <a:pt x="449" y="463"/>
                    <a:pt x="444" y="446"/>
                    <a:pt x="438" y="429"/>
                  </a:cubicBezTo>
                  <a:cubicBezTo>
                    <a:pt x="435" y="420"/>
                    <a:pt x="429" y="403"/>
                    <a:pt x="429" y="403"/>
                  </a:cubicBezTo>
                  <a:cubicBezTo>
                    <a:pt x="497" y="299"/>
                    <a:pt x="313" y="267"/>
                    <a:pt x="249" y="249"/>
                  </a:cubicBezTo>
                  <a:cubicBezTo>
                    <a:pt x="175" y="228"/>
                    <a:pt x="286" y="253"/>
                    <a:pt x="180" y="231"/>
                  </a:cubicBezTo>
                  <a:cubicBezTo>
                    <a:pt x="172" y="225"/>
                    <a:pt x="161" y="222"/>
                    <a:pt x="155" y="214"/>
                  </a:cubicBezTo>
                  <a:cubicBezTo>
                    <a:pt x="141" y="197"/>
                    <a:pt x="149" y="151"/>
                    <a:pt x="120" y="146"/>
                  </a:cubicBezTo>
                  <a:cubicBezTo>
                    <a:pt x="81" y="139"/>
                    <a:pt x="40" y="140"/>
                    <a:pt x="0" y="137"/>
                  </a:cubicBezTo>
                  <a:cubicBezTo>
                    <a:pt x="61" y="131"/>
                    <a:pt x="106" y="125"/>
                    <a:pt x="163" y="146"/>
                  </a:cubicBezTo>
                  <a:cubicBezTo>
                    <a:pt x="169" y="154"/>
                    <a:pt x="170" y="171"/>
                    <a:pt x="180" y="171"/>
                  </a:cubicBezTo>
                  <a:cubicBezTo>
                    <a:pt x="189" y="171"/>
                    <a:pt x="188" y="155"/>
                    <a:pt x="189" y="146"/>
                  </a:cubicBezTo>
                  <a:cubicBezTo>
                    <a:pt x="194" y="98"/>
                    <a:pt x="195" y="49"/>
                    <a:pt x="198" y="0"/>
                  </a:cubicBezTo>
                  <a:cubicBezTo>
                    <a:pt x="215" y="54"/>
                    <a:pt x="222" y="43"/>
                    <a:pt x="232" y="111"/>
                  </a:cubicBezTo>
                  <a:cubicBezTo>
                    <a:pt x="268" y="100"/>
                    <a:pt x="298" y="80"/>
                    <a:pt x="335" y="69"/>
                  </a:cubicBezTo>
                  <a:cubicBezTo>
                    <a:pt x="293" y="109"/>
                    <a:pt x="317" y="83"/>
                    <a:pt x="275" y="146"/>
                  </a:cubicBezTo>
                  <a:cubicBezTo>
                    <a:pt x="269" y="154"/>
                    <a:pt x="258" y="171"/>
                    <a:pt x="258" y="171"/>
                  </a:cubicBezTo>
                  <a:cubicBezTo>
                    <a:pt x="274" y="222"/>
                    <a:pt x="328" y="209"/>
                    <a:pt x="378" y="214"/>
                  </a:cubicBezTo>
                  <a:cubicBezTo>
                    <a:pt x="406" y="257"/>
                    <a:pt x="434" y="249"/>
                    <a:pt x="480" y="266"/>
                  </a:cubicBezTo>
                  <a:cubicBezTo>
                    <a:pt x="518" y="230"/>
                    <a:pt x="521" y="183"/>
                    <a:pt x="566" y="154"/>
                  </a:cubicBezTo>
                  <a:cubicBezTo>
                    <a:pt x="569" y="146"/>
                    <a:pt x="568" y="134"/>
                    <a:pt x="575" y="129"/>
                  </a:cubicBezTo>
                  <a:cubicBezTo>
                    <a:pt x="600" y="111"/>
                    <a:pt x="666" y="100"/>
                    <a:pt x="695" y="94"/>
                  </a:cubicBezTo>
                  <a:cubicBezTo>
                    <a:pt x="702" y="48"/>
                    <a:pt x="690" y="43"/>
                    <a:pt x="729" y="26"/>
                  </a:cubicBezTo>
                  <a:cubicBezTo>
                    <a:pt x="745" y="19"/>
                    <a:pt x="780" y="9"/>
                    <a:pt x="780" y="9"/>
                  </a:cubicBezTo>
                  <a:cubicBezTo>
                    <a:pt x="789" y="12"/>
                    <a:pt x="799" y="11"/>
                    <a:pt x="806" y="17"/>
                  </a:cubicBezTo>
                  <a:cubicBezTo>
                    <a:pt x="837" y="47"/>
                    <a:pt x="791" y="73"/>
                    <a:pt x="772" y="86"/>
                  </a:cubicBezTo>
                  <a:cubicBezTo>
                    <a:pt x="752" y="141"/>
                    <a:pt x="734" y="218"/>
                    <a:pt x="798" y="240"/>
                  </a:cubicBezTo>
                  <a:cubicBezTo>
                    <a:pt x="831" y="228"/>
                    <a:pt x="850" y="197"/>
                    <a:pt x="875" y="171"/>
                  </a:cubicBezTo>
                  <a:cubicBezTo>
                    <a:pt x="902" y="174"/>
                    <a:pt x="949" y="174"/>
                    <a:pt x="978" y="189"/>
                  </a:cubicBezTo>
                  <a:cubicBezTo>
                    <a:pt x="1038" y="220"/>
                    <a:pt x="969" y="195"/>
                    <a:pt x="1029" y="214"/>
                  </a:cubicBezTo>
                  <a:cubicBezTo>
                    <a:pt x="998" y="304"/>
                    <a:pt x="924" y="285"/>
                    <a:pt x="840" y="291"/>
                  </a:cubicBezTo>
                  <a:cubicBezTo>
                    <a:pt x="779" y="313"/>
                    <a:pt x="858" y="286"/>
                    <a:pt x="780" y="309"/>
                  </a:cubicBezTo>
                  <a:cubicBezTo>
                    <a:pt x="763" y="314"/>
                    <a:pt x="729" y="326"/>
                    <a:pt x="729" y="326"/>
                  </a:cubicBezTo>
                  <a:cubicBezTo>
                    <a:pt x="691" y="382"/>
                    <a:pt x="695" y="450"/>
                    <a:pt x="678" y="514"/>
                  </a:cubicBezTo>
                  <a:cubicBezTo>
                    <a:pt x="673" y="532"/>
                    <a:pt x="666" y="549"/>
                    <a:pt x="660" y="566"/>
                  </a:cubicBezTo>
                  <a:cubicBezTo>
                    <a:pt x="657" y="574"/>
                    <a:pt x="652" y="591"/>
                    <a:pt x="652" y="591"/>
                  </a:cubicBezTo>
                  <a:cubicBezTo>
                    <a:pt x="657" y="659"/>
                    <a:pt x="665" y="707"/>
                    <a:pt x="678" y="771"/>
                  </a:cubicBezTo>
                  <a:cubicBezTo>
                    <a:pt x="681" y="788"/>
                    <a:pt x="677" y="808"/>
                    <a:pt x="686" y="823"/>
                  </a:cubicBezTo>
                  <a:cubicBezTo>
                    <a:pt x="698" y="844"/>
                    <a:pt x="721" y="857"/>
                    <a:pt x="738" y="874"/>
                  </a:cubicBezTo>
                  <a:cubicBezTo>
                    <a:pt x="753" y="888"/>
                    <a:pt x="789" y="909"/>
                    <a:pt x="789" y="909"/>
                  </a:cubicBezTo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78440" y="3559320"/>
              <a:ext cx="2720880" cy="1842840"/>
            </a:xfrm>
            <a:custGeom>
              <a:avLst/>
              <a:gdLst/>
              <a:ahLst/>
              <a:rect l="l" t="t" r="r" b="b"/>
              <a:pathLst>
                <a:path w="1714" h="1161">
                  <a:moveTo>
                    <a:pt x="566" y="947"/>
                  </a:moveTo>
                  <a:cubicBezTo>
                    <a:pt x="485" y="972"/>
                    <a:pt x="548" y="975"/>
                    <a:pt x="428" y="964"/>
                  </a:cubicBezTo>
                  <a:cubicBezTo>
                    <a:pt x="388" y="937"/>
                    <a:pt x="352" y="949"/>
                    <a:pt x="308" y="964"/>
                  </a:cubicBezTo>
                  <a:cubicBezTo>
                    <a:pt x="280" y="961"/>
                    <a:pt x="250" y="964"/>
                    <a:pt x="223" y="955"/>
                  </a:cubicBezTo>
                  <a:cubicBezTo>
                    <a:pt x="151" y="930"/>
                    <a:pt x="252" y="931"/>
                    <a:pt x="197" y="904"/>
                  </a:cubicBezTo>
                  <a:cubicBezTo>
                    <a:pt x="179" y="895"/>
                    <a:pt x="157" y="898"/>
                    <a:pt x="137" y="895"/>
                  </a:cubicBezTo>
                  <a:cubicBezTo>
                    <a:pt x="161" y="805"/>
                    <a:pt x="70" y="803"/>
                    <a:pt x="0" y="792"/>
                  </a:cubicBezTo>
                  <a:cubicBezTo>
                    <a:pt x="7" y="715"/>
                    <a:pt x="1" y="682"/>
                    <a:pt x="51" y="629"/>
                  </a:cubicBezTo>
                  <a:cubicBezTo>
                    <a:pt x="58" y="569"/>
                    <a:pt x="48" y="477"/>
                    <a:pt x="103" y="441"/>
                  </a:cubicBezTo>
                  <a:cubicBezTo>
                    <a:pt x="117" y="444"/>
                    <a:pt x="133" y="456"/>
                    <a:pt x="146" y="449"/>
                  </a:cubicBezTo>
                  <a:cubicBezTo>
                    <a:pt x="164" y="439"/>
                    <a:pt x="180" y="398"/>
                    <a:pt x="180" y="398"/>
                  </a:cubicBezTo>
                  <a:cubicBezTo>
                    <a:pt x="191" y="341"/>
                    <a:pt x="206" y="280"/>
                    <a:pt x="266" y="261"/>
                  </a:cubicBezTo>
                  <a:cubicBezTo>
                    <a:pt x="352" y="281"/>
                    <a:pt x="352" y="220"/>
                    <a:pt x="403" y="175"/>
                  </a:cubicBezTo>
                  <a:cubicBezTo>
                    <a:pt x="442" y="140"/>
                    <a:pt x="446" y="143"/>
                    <a:pt x="488" y="132"/>
                  </a:cubicBezTo>
                  <a:cubicBezTo>
                    <a:pt x="529" y="139"/>
                    <a:pt x="555" y="137"/>
                    <a:pt x="583" y="167"/>
                  </a:cubicBezTo>
                  <a:cubicBezTo>
                    <a:pt x="597" y="161"/>
                    <a:pt x="613" y="158"/>
                    <a:pt x="626" y="149"/>
                  </a:cubicBezTo>
                  <a:cubicBezTo>
                    <a:pt x="651" y="131"/>
                    <a:pt x="668" y="89"/>
                    <a:pt x="703" y="64"/>
                  </a:cubicBezTo>
                  <a:cubicBezTo>
                    <a:pt x="715" y="56"/>
                    <a:pt x="725" y="46"/>
                    <a:pt x="737" y="38"/>
                  </a:cubicBezTo>
                  <a:cubicBezTo>
                    <a:pt x="754" y="26"/>
                    <a:pt x="788" y="4"/>
                    <a:pt x="788" y="4"/>
                  </a:cubicBezTo>
                  <a:cubicBezTo>
                    <a:pt x="882" y="12"/>
                    <a:pt x="882" y="0"/>
                    <a:pt x="926" y="64"/>
                  </a:cubicBezTo>
                  <a:cubicBezTo>
                    <a:pt x="962" y="54"/>
                    <a:pt x="989" y="41"/>
                    <a:pt x="1020" y="21"/>
                  </a:cubicBezTo>
                  <a:cubicBezTo>
                    <a:pt x="1101" y="36"/>
                    <a:pt x="1106" y="18"/>
                    <a:pt x="1148" y="72"/>
                  </a:cubicBezTo>
                  <a:cubicBezTo>
                    <a:pt x="1162" y="91"/>
                    <a:pt x="1205" y="171"/>
                    <a:pt x="1208" y="184"/>
                  </a:cubicBezTo>
                  <a:cubicBezTo>
                    <a:pt x="1211" y="195"/>
                    <a:pt x="1210" y="209"/>
                    <a:pt x="1217" y="218"/>
                  </a:cubicBezTo>
                  <a:cubicBezTo>
                    <a:pt x="1223" y="225"/>
                    <a:pt x="1234" y="224"/>
                    <a:pt x="1243" y="227"/>
                  </a:cubicBezTo>
                  <a:cubicBezTo>
                    <a:pt x="1267" y="217"/>
                    <a:pt x="1287" y="202"/>
                    <a:pt x="1311" y="192"/>
                  </a:cubicBezTo>
                  <a:cubicBezTo>
                    <a:pt x="1338" y="181"/>
                    <a:pt x="1377" y="174"/>
                    <a:pt x="1406" y="167"/>
                  </a:cubicBezTo>
                  <a:cubicBezTo>
                    <a:pt x="1458" y="180"/>
                    <a:pt x="1489" y="175"/>
                    <a:pt x="1517" y="218"/>
                  </a:cubicBezTo>
                  <a:cubicBezTo>
                    <a:pt x="1534" y="283"/>
                    <a:pt x="1532" y="305"/>
                    <a:pt x="1526" y="381"/>
                  </a:cubicBezTo>
                  <a:cubicBezTo>
                    <a:pt x="1572" y="400"/>
                    <a:pt x="1621" y="422"/>
                    <a:pt x="1663" y="449"/>
                  </a:cubicBezTo>
                  <a:cubicBezTo>
                    <a:pt x="1674" y="466"/>
                    <a:pt x="1686" y="484"/>
                    <a:pt x="1697" y="501"/>
                  </a:cubicBezTo>
                  <a:cubicBezTo>
                    <a:pt x="1707" y="516"/>
                    <a:pt x="1714" y="552"/>
                    <a:pt x="1714" y="552"/>
                  </a:cubicBezTo>
                  <a:cubicBezTo>
                    <a:pt x="1706" y="612"/>
                    <a:pt x="1712" y="632"/>
                    <a:pt x="1654" y="647"/>
                  </a:cubicBezTo>
                  <a:cubicBezTo>
                    <a:pt x="1665" y="690"/>
                    <a:pt x="1680" y="731"/>
                    <a:pt x="1688" y="775"/>
                  </a:cubicBezTo>
                  <a:cubicBezTo>
                    <a:pt x="1685" y="815"/>
                    <a:pt x="1685" y="855"/>
                    <a:pt x="1680" y="895"/>
                  </a:cubicBezTo>
                  <a:cubicBezTo>
                    <a:pt x="1673" y="956"/>
                    <a:pt x="1549" y="986"/>
                    <a:pt x="1500" y="1007"/>
                  </a:cubicBezTo>
                  <a:cubicBezTo>
                    <a:pt x="1467" y="1073"/>
                    <a:pt x="1472" y="1116"/>
                    <a:pt x="1406" y="1161"/>
                  </a:cubicBezTo>
                  <a:cubicBezTo>
                    <a:pt x="1386" y="1084"/>
                    <a:pt x="1439" y="947"/>
                    <a:pt x="1354" y="921"/>
                  </a:cubicBezTo>
                  <a:cubicBezTo>
                    <a:pt x="1325" y="902"/>
                    <a:pt x="1318" y="880"/>
                    <a:pt x="1286" y="869"/>
                  </a:cubicBezTo>
                  <a:cubicBezTo>
                    <a:pt x="1277" y="872"/>
                    <a:pt x="1266" y="872"/>
                    <a:pt x="1260" y="878"/>
                  </a:cubicBezTo>
                  <a:cubicBezTo>
                    <a:pt x="1254" y="884"/>
                    <a:pt x="1260" y="901"/>
                    <a:pt x="1251" y="904"/>
                  </a:cubicBezTo>
                  <a:cubicBezTo>
                    <a:pt x="1227" y="913"/>
                    <a:pt x="1200" y="909"/>
                    <a:pt x="1174" y="912"/>
                  </a:cubicBezTo>
                  <a:cubicBezTo>
                    <a:pt x="1132" y="927"/>
                    <a:pt x="1128" y="918"/>
                    <a:pt x="1114" y="878"/>
                  </a:cubicBezTo>
                  <a:cubicBezTo>
                    <a:pt x="1124" y="838"/>
                    <a:pt x="1132" y="823"/>
                    <a:pt x="1166" y="801"/>
                  </a:cubicBezTo>
                  <a:cubicBezTo>
                    <a:pt x="1178" y="762"/>
                    <a:pt x="1203" y="755"/>
                    <a:pt x="1157" y="741"/>
                  </a:cubicBezTo>
                  <a:cubicBezTo>
                    <a:pt x="1104" y="757"/>
                    <a:pt x="1066" y="743"/>
                    <a:pt x="1028" y="707"/>
                  </a:cubicBezTo>
                  <a:cubicBezTo>
                    <a:pt x="1010" y="762"/>
                    <a:pt x="1063" y="748"/>
                    <a:pt x="1028" y="801"/>
                  </a:cubicBezTo>
                  <a:cubicBezTo>
                    <a:pt x="1026" y="804"/>
                    <a:pt x="975" y="816"/>
                    <a:pt x="968" y="818"/>
                  </a:cubicBezTo>
                  <a:cubicBezTo>
                    <a:pt x="958" y="860"/>
                    <a:pt x="948" y="864"/>
                    <a:pt x="908" y="878"/>
                  </a:cubicBezTo>
                  <a:cubicBezTo>
                    <a:pt x="784" y="859"/>
                    <a:pt x="884" y="854"/>
                    <a:pt x="840" y="904"/>
                  </a:cubicBezTo>
                  <a:cubicBezTo>
                    <a:pt x="826" y="920"/>
                    <a:pt x="788" y="938"/>
                    <a:pt x="788" y="938"/>
                  </a:cubicBezTo>
                  <a:cubicBezTo>
                    <a:pt x="768" y="935"/>
                    <a:pt x="743" y="942"/>
                    <a:pt x="728" y="929"/>
                  </a:cubicBezTo>
                  <a:cubicBezTo>
                    <a:pt x="631" y="843"/>
                    <a:pt x="796" y="898"/>
                    <a:pt x="686" y="869"/>
                  </a:cubicBezTo>
                  <a:cubicBezTo>
                    <a:pt x="650" y="835"/>
                    <a:pt x="674" y="821"/>
                    <a:pt x="703" y="792"/>
                  </a:cubicBezTo>
                  <a:cubicBezTo>
                    <a:pt x="680" y="789"/>
                    <a:pt x="657" y="789"/>
                    <a:pt x="634" y="784"/>
                  </a:cubicBezTo>
                  <a:cubicBezTo>
                    <a:pt x="616" y="780"/>
                    <a:pt x="583" y="767"/>
                    <a:pt x="583" y="767"/>
                  </a:cubicBezTo>
                  <a:cubicBezTo>
                    <a:pt x="580" y="758"/>
                    <a:pt x="574" y="750"/>
                    <a:pt x="574" y="741"/>
                  </a:cubicBezTo>
                  <a:cubicBezTo>
                    <a:pt x="574" y="732"/>
                    <a:pt x="592" y="715"/>
                    <a:pt x="583" y="715"/>
                  </a:cubicBezTo>
                  <a:cubicBezTo>
                    <a:pt x="571" y="715"/>
                    <a:pt x="567" y="733"/>
                    <a:pt x="557" y="741"/>
                  </a:cubicBezTo>
                  <a:cubicBezTo>
                    <a:pt x="519" y="771"/>
                    <a:pt x="509" y="773"/>
                    <a:pt x="471" y="792"/>
                  </a:cubicBezTo>
                  <a:cubicBezTo>
                    <a:pt x="333" y="776"/>
                    <a:pt x="417" y="768"/>
                    <a:pt x="420" y="809"/>
                  </a:cubicBezTo>
                  <a:cubicBezTo>
                    <a:pt x="422" y="835"/>
                    <a:pt x="414" y="861"/>
                    <a:pt x="411" y="887"/>
                  </a:cubicBezTo>
                  <a:cubicBezTo>
                    <a:pt x="466" y="894"/>
                    <a:pt x="533" y="899"/>
                    <a:pt x="566" y="94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248520" y="5486400"/>
            <a:ext cx="15228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 P-T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00400" y="3505320"/>
            <a:ext cx="3200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505320" y="5257440"/>
            <a:ext cx="2666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038480" y="5410080"/>
            <a:ext cx="3200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Fig5-2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547704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2666880" y="2971800"/>
            <a:ext cx="0" cy="1752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724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ire atrap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181480"/>
            <a:ext cx="7238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huecos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(0,25 a 0,75 según textura sue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1219320"/>
            <a:ext cx="167652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A medida que se agrega mas agua el aire es eliminado y desaparece la fuerza de succión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380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tenido de humedad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676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agua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aría entre 0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Fig5-3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457200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2200" y="1450800"/>
                <a:ext cx="2743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*q*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3429000"/>
                <a:ext cx="3047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4648320"/>
                <a:ext cx="250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 dz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19920" y="7621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entra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505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sal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800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ariación de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1219320"/>
          <a:ext cx="2971800" cy="14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219320"/>
                    <a:ext cx="29718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553080" y="3886200"/>
          <a:ext cx="259092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3886200"/>
                    <a:ext cx="2590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85800" y="2971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siderando el medio poroso como una estructura de pequeños conductos interconectados, de diámetro medio D, entonces el flujo laminar queda descrito por la ecu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mo el área real de escurrimiento (A) no se conoce, se define q=Q/A como el flujo de Darcy. La ley de Darcy, válida sólo en régimen laminar, estable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800600" y="6019920"/>
          <a:ext cx="2190600" cy="709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6019920"/>
                    <a:ext cx="21906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094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ductividad hidráu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5931000"/>
            <a:ext cx="2819520" cy="469800"/>
          </a:xfrm>
          <a:custGeom>
            <a:avLst/>
            <a:gdLst/>
            <a:ahLst/>
            <a:rect l="l" t="t" r="r" b="b"/>
            <a:pathLst>
              <a:path w="1776" h="296">
                <a:moveTo>
                  <a:pt x="0" y="296"/>
                </a:moveTo>
                <a:cubicBezTo>
                  <a:pt x="44" y="224"/>
                  <a:pt x="88" y="152"/>
                  <a:pt x="192" y="104"/>
                </a:cubicBezTo>
                <a:cubicBezTo>
                  <a:pt x="296" y="56"/>
                  <a:pt x="360" y="0"/>
                  <a:pt x="624" y="8"/>
                </a:cubicBezTo>
                <a:cubicBezTo>
                  <a:pt x="888" y="16"/>
                  <a:pt x="1332" y="84"/>
                  <a:pt x="1776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715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endiente del plano de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686800" y="4800600"/>
            <a:ext cx="152280" cy="990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457200"/>
            <a:ext cx="7467480" cy="271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onductividad Hidráulica y Porosidad de Medios Por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aterial              K(cm/s)  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Grav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1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25-4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en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                25-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Limo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7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3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35-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cilla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9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40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03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velocidad media real puede expresarse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q/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ara el flujo en la dirección vertical z, si h es la carg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416560"/>
                <a:ext cx="1371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-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760" y="6019920"/>
            <a:ext cx="1308240" cy="558720"/>
          </a:xfrm>
          <a:custGeom>
            <a:avLst/>
            <a:gdLst/>
            <a:ahLst/>
            <a:rect l="l" t="t" r="r" b="b"/>
            <a:pathLst>
              <a:path w="824" h="352">
                <a:moveTo>
                  <a:pt x="56" y="0"/>
                </a:moveTo>
                <a:cubicBezTo>
                  <a:pt x="28" y="44"/>
                  <a:pt x="0" y="88"/>
                  <a:pt x="56" y="144"/>
                </a:cubicBezTo>
                <a:cubicBezTo>
                  <a:pt x="112" y="200"/>
                  <a:pt x="264" y="320"/>
                  <a:pt x="392" y="336"/>
                </a:cubicBezTo>
                <a:cubicBezTo>
                  <a:pt x="520" y="352"/>
                  <a:pt x="672" y="296"/>
                  <a:pt x="82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7150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la carga es decreciente en la dirección del flujo debido a la fri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457200"/>
            <a:ext cx="3581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Dar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581280" y="914400"/>
          <a:ext cx="5369040" cy="121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914400"/>
                    <a:ext cx="5369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0880" y="2590920"/>
            <a:ext cx="8382240" cy="3019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el flujo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no confinado, las únicas fuerzas que actúan sobre el elemento fluido son la gravedad y la fricción; cuando el flujo es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no 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debe incluirse además el efecto de la fuerza de succión que ejercen las láminas de agua adheridas a las partículas de suelo, provocada por la tens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57200"/>
            <a:ext cx="80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h se mide en dimensiones de altura (energía por unidad de peso). Si medio no saturado, la energía que posee el fluido debido a las fuerzas de succión del suelo, se denomina carga de succión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ésta varía con la humedad del suelo. La carga hidráulica es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57600" y="2514600"/>
          <a:ext cx="1971720" cy="67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14600"/>
                    <a:ext cx="1971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676520" y="3784680"/>
          <a:ext cx="2590560" cy="1009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784680"/>
                    <a:ext cx="2590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67080" y="3809880"/>
          <a:ext cx="4800600" cy="990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3809880"/>
                    <a:ext cx="4800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flipV="1">
            <a:off x="7010280" y="4495320"/>
            <a:ext cx="60984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fusividad agua suelo que tiene dimensiones de L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/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5840280"/>
          <a:ext cx="3200400" cy="1017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5840280"/>
                    <a:ext cx="32004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2860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60958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cuación de Richards para flujo unidimen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álculo del Flujo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7619760" cy="1191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se conocen las cargas de succión,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 diferentes profundidades, z, y la relación entre la conductividad hidráulica K y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fig5-5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0988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838080" y="2719440"/>
          <a:ext cx="4800600" cy="108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19440"/>
                    <a:ext cx="48006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143000" y="4495680"/>
            <a:ext cx="1828800" cy="4597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=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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250(- Ψ)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2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304920"/>
          <a:ext cx="4632120" cy="355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463212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458200" y="1676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3411360"/>
          <a:ext cx="4495680" cy="3446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411360"/>
                    <a:ext cx="449568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380880"/>
            <a:ext cx="2895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 el paso del agua a través de la superficie del terreno hacia el interior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666880"/>
            <a:ext cx="685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Factores que afectan la Infil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581280"/>
            <a:ext cx="7086600" cy="20235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trad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misión a partir del suelo y acumulación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s características del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medio permeabl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las del fl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73152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33520"/>
            <a:ext cx="5105160" cy="253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Medidas han mostrado que hasta 8 mm de lluvia pueden ser interceptadas por la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El agua interceptada se evapora posteriormente  a tasas que dependen de las condiciones meteorol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gicas existentes  y var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í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an según el tipo de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343400"/>
            <a:ext cx="7543800" cy="2228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En áreas húmedas, la evapor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del agua interceptada puede ser un importante componente del balance (250 mm anuales); áreas forestadas han mostrado tener mayores pérdidas por intercep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que áreas de pasto.  Esto se debe a la mayor rugosidad de la cubierta forestal que resulta en una eficiente transferencia de vapor de agua de la superfi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19720" y="380880"/>
            <a:ext cx="2581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380880"/>
            <a:ext cx="86104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 superficie del suelo puede estar cerrada por la acumulación de finos u otras partículas  que pueden impedir o retrasar la entrada de agua a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610480" y="2438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gua no puede entrar al suelo con mayor rapidez que la de su transmisión hacia 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114720"/>
            <a:ext cx="838188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lmacenamiento disponible en cualquier horizonte de suelo, depende de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, e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existente. La porosidad, tamaño y disposición de los poros  tiene incidencia significativa en la disponibilidad de almacenamiento. Al inicio de la tormenta la infiltración es en gran medida controlada por el volumen, tamaño y continuidad de los poros de mayor tamaño ya que proporcionan caminos fáciles para el movimient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6858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espacial y temporal de poros (algunos suelos se hinchan con el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egetación: raíces lo mantienen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114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gua contaminada, tu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238880" y="28195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7493"/>
                </a:moveTo>
                <a:lnTo>
                  <a:pt x="8853" y="7493"/>
                </a:lnTo>
                <a:lnTo>
                  <a:pt x="8853" y="12828"/>
                </a:lnTo>
                <a:cubicBezTo>
                  <a:pt x="8853" y="13751"/>
                  <a:pt x="9654" y="14482"/>
                  <a:pt x="10690" y="14482"/>
                </a:cubicBezTo>
                <a:lnTo>
                  <a:pt x="12352" y="14482"/>
                </a:lnTo>
                <a:cubicBezTo>
                  <a:pt x="13388" y="14482"/>
                  <a:pt x="14189" y="13751"/>
                  <a:pt x="14189" y="12828"/>
                </a:cubicBezTo>
                <a:lnTo>
                  <a:pt x="14189" y="7493"/>
                </a:lnTo>
                <a:lnTo>
                  <a:pt x="12352" y="7493"/>
                </a:lnTo>
                <a:lnTo>
                  <a:pt x="15860" y="3985"/>
                </a:lnTo>
                <a:lnTo>
                  <a:pt x="19533" y="7493"/>
                </a:lnTo>
                <a:lnTo>
                  <a:pt x="17696" y="7493"/>
                </a:lnTo>
                <a:lnTo>
                  <a:pt x="17696" y="12828"/>
                </a:lnTo>
                <a:cubicBezTo>
                  <a:pt x="17696" y="15596"/>
                  <a:pt x="15120" y="18155"/>
                  <a:pt x="12352" y="18155"/>
                </a:cubicBezTo>
                <a:lnTo>
                  <a:pt x="10690" y="18155"/>
                </a:lnTo>
                <a:cubicBezTo>
                  <a:pt x="7922" y="18155"/>
                  <a:pt x="5346" y="15596"/>
                  <a:pt x="5346" y="12828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infdisco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3657600" cy="558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380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6765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ilindros infiltró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9123200">
            <a:off x="2514600" y="4266720"/>
            <a:ext cx="762120" cy="76212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infiltrom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905120" cy="2647800"/>
          </a:xfrm>
          <a:prstGeom prst="rect">
            <a:avLst/>
          </a:prstGeom>
          <a:ln w="0">
            <a:noFill/>
          </a:ln>
        </p:spPr>
      </p:pic>
      <p:pic>
        <p:nvPicPr>
          <p:cNvPr id="228" name="infiltrometro" descr=""/>
          <p:cNvPicPr/>
          <p:nvPr/>
        </p:nvPicPr>
        <p:blipFill>
          <a:blip r:embed="rId3"/>
          <a:stretch/>
        </p:blipFill>
        <p:spPr>
          <a:xfrm>
            <a:off x="4952880" y="1066680"/>
            <a:ext cx="21272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219320"/>
            <a:ext cx="6705360" cy="2494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racterísticas de precipitación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intensidad, volumen de precipitación y lluvia antecedent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diciones climáticas 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eloc. vient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ipo y densidad de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eriodo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29200"/>
            <a:ext cx="7543800" cy="157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bos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lt;0,3 mm todo es inter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gt; 1mm 10 a 40% puede ser re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2280" y="914400"/>
            <a:ext cx="1905120" cy="3431520"/>
            <a:chOff x="152280" y="914400"/>
            <a:chExt cx="1905120" cy="3431520"/>
          </a:xfrm>
        </p:grpSpPr>
        <p:sp>
          <p:nvSpPr>
            <p:cNvPr id="61" name=""/>
            <p:cNvSpPr/>
            <p:nvPr/>
          </p:nvSpPr>
          <p:spPr>
            <a:xfrm flipV="1">
              <a:off x="380880" y="1371240"/>
              <a:ext cx="0" cy="243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3809880"/>
              <a:ext cx="1524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1523880"/>
              <a:ext cx="1523880" cy="1828800"/>
            </a:xfrm>
            <a:custGeom>
              <a:avLst/>
              <a:gdLst/>
              <a:ahLst/>
              <a:rect l="l" t="t" r="r" b="b"/>
              <a:pathLst>
                <a:path w="960" h="1152">
                  <a:moveTo>
                    <a:pt x="0" y="0"/>
                  </a:moveTo>
                  <a:cubicBezTo>
                    <a:pt x="10" y="61"/>
                    <a:pt x="17" y="241"/>
                    <a:pt x="58" y="369"/>
                  </a:cubicBezTo>
                  <a:cubicBezTo>
                    <a:pt x="99" y="497"/>
                    <a:pt x="145" y="656"/>
                    <a:pt x="247" y="771"/>
                  </a:cubicBezTo>
                  <a:cubicBezTo>
                    <a:pt x="349" y="886"/>
                    <a:pt x="553" y="992"/>
                    <a:pt x="672" y="1056"/>
                  </a:cubicBezTo>
                  <a:cubicBezTo>
                    <a:pt x="791" y="1120"/>
                    <a:pt x="880" y="1140"/>
                    <a:pt x="960" y="1152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1600200"/>
              <a:ext cx="1523880" cy="1981080"/>
            </a:xfrm>
            <a:custGeom>
              <a:avLst/>
              <a:gdLst/>
              <a:ahLst/>
              <a:rect l="l" t="t" r="r" b="b"/>
              <a:pathLst>
                <a:path w="960" h="1248">
                  <a:moveTo>
                    <a:pt x="0" y="0"/>
                  </a:moveTo>
                  <a:cubicBezTo>
                    <a:pt x="13" y="89"/>
                    <a:pt x="17" y="359"/>
                    <a:pt x="81" y="535"/>
                  </a:cubicBezTo>
                  <a:cubicBezTo>
                    <a:pt x="145" y="711"/>
                    <a:pt x="238" y="937"/>
                    <a:pt x="384" y="1056"/>
                  </a:cubicBezTo>
                  <a:cubicBezTo>
                    <a:pt x="530" y="1175"/>
                    <a:pt x="748" y="1220"/>
                    <a:pt x="960" y="1248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914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193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3276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&gt;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2120" y="3123720"/>
              <a:ext cx="1522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990360" y="281952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077320" y="5257800"/>
            <a:ext cx="944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80880"/>
            <a:ext cx="2286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i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+ (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A)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Horton (19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2133720"/>
            <a:ext cx="152280" cy="1295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4290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apacidad de almacenamiento por unidad de área (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20574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de veg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67080" y="914400"/>
            <a:ext cx="53352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685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600" y="1981080"/>
            <a:ext cx="53352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62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vaporación (m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5520" y="1295280"/>
            <a:ext cx="91440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uración Pp (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572000"/>
            <a:ext cx="5486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imit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No depende de la 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be conocerse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eriam (1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0532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K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06800" y="5334120"/>
            <a:ext cx="347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P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438280"/>
            <a:ext cx="1067040" cy="7621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2000" y="3886200"/>
            <a:ext cx="380880" cy="1447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57150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1600200"/>
            <a:ext cx="251460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=a + b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a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b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Bultot 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03848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pacidad máxima de almacenamiento según cobertura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mpo p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 o matorral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3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es o matorrales densos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31904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macenamiento en Depr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76520"/>
            <a:ext cx="327636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=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1-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k P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990720"/>
            <a:ext cx="45720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62320" y="2133360"/>
            <a:ext cx="0" cy="1066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124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apacidad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438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1/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2193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recipitación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85840" y="1447920"/>
            <a:ext cx="609480" cy="3045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343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 iniciarse la precipitación se satisfacen estos almacenamientos (Intercepción y depresiones superficiales) antes de iniciarse la infil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38080" y="304920"/>
            <a:ext cx="7794360" cy="4800600"/>
            <a:chOff x="838080" y="304920"/>
            <a:chExt cx="7794360" cy="4800600"/>
          </a:xfrm>
        </p:grpSpPr>
        <p:pic>
          <p:nvPicPr>
            <p:cNvPr id="109" name="Fig5-1" descr=""/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74678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464832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2819520"/>
              <a:ext cx="19047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Napa Freá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3581280"/>
              <a:ext cx="23619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terrá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2362320"/>
              <a:ext cx="167652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fil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4400" y="1828800"/>
              <a:ext cx="160020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uperficie de sue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133720"/>
              <a:ext cx="190512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superfi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67080" y="2816280"/>
              <a:ext cx="1067040" cy="460440"/>
            </a:xfrm>
            <a:custGeom>
              <a:avLst/>
              <a:gdLst/>
              <a:ahLst/>
              <a:rect l="l" t="t" r="r" b="b"/>
              <a:pathLst>
                <a:path w="672" h="290">
                  <a:moveTo>
                    <a:pt x="0" y="50"/>
                  </a:moveTo>
                  <a:lnTo>
                    <a:pt x="240" y="290"/>
                  </a:lnTo>
                  <a:lnTo>
                    <a:pt x="576" y="290"/>
                  </a:lnTo>
                  <a:lnTo>
                    <a:pt x="672" y="98"/>
                  </a:lnTo>
                  <a:lnTo>
                    <a:pt x="303" y="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486040" y="28195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609480"/>
              <a:ext cx="4876560" cy="8254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Flujo en Zona No Saturada del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36000">
              <a:off x="4506480" y="3962160"/>
              <a:ext cx="175284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de F. Sub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24800">
              <a:off x="6343560" y="3597120"/>
              <a:ext cx="227664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F. Subsu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038480" y="5334120"/>
            <a:ext cx="30481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03848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343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subterrá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242600">
            <a:off x="5257080" y="38858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42900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cap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213372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2209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pelicular y gravi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447920"/>
            <a:ext cx="457200" cy="2590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Zona de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038480" y="685800"/>
            <a:ext cx="3048120" cy="4876920"/>
            <a:chOff x="4038480" y="685800"/>
            <a:chExt cx="3048120" cy="4876920"/>
          </a:xfrm>
        </p:grpSpPr>
        <p:sp>
          <p:nvSpPr>
            <p:cNvPr id="133" name=""/>
            <p:cNvSpPr/>
            <p:nvPr/>
          </p:nvSpPr>
          <p:spPr>
            <a:xfrm>
              <a:off x="4038480" y="1447920"/>
              <a:ext cx="3048120" cy="411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324480" y="685800"/>
              <a:ext cx="603360" cy="1143000"/>
              <a:chOff x="6324480" y="685800"/>
              <a:chExt cx="603360" cy="1143000"/>
            </a:xfrm>
          </p:grpSpPr>
          <p:sp>
            <p:nvSpPr>
              <p:cNvPr id="135" name=""/>
              <p:cNvSpPr/>
              <p:nvPr/>
            </p:nvSpPr>
            <p:spPr>
              <a:xfrm>
                <a:off x="6553080" y="1600200"/>
                <a:ext cx="117720" cy="22860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476400" y="685800"/>
                <a:ext cx="75960" cy="27144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6324480" y="838080"/>
                <a:ext cx="603360" cy="990720"/>
                <a:chOff x="6324480" y="838080"/>
                <a:chExt cx="603360" cy="990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424560" y="849240"/>
                  <a:ext cx="258480" cy="842760"/>
                </a:xfrm>
                <a:custGeom>
                  <a:avLst/>
                  <a:gdLst/>
                  <a:ahLst/>
                  <a:rect l="l" t="t" r="r" b="b"/>
                  <a:pathLst>
                    <a:path w="163" h="531">
                      <a:moveTo>
                        <a:pt x="0" y="0"/>
                      </a:moveTo>
                      <a:cubicBezTo>
                        <a:pt x="25" y="76"/>
                        <a:pt x="11" y="34"/>
                        <a:pt x="60" y="86"/>
                      </a:cubicBezTo>
                      <a:cubicBezTo>
                        <a:pt x="75" y="155"/>
                        <a:pt x="57" y="106"/>
                        <a:pt x="86" y="146"/>
                      </a:cubicBezTo>
                      <a:cubicBezTo>
                        <a:pt x="98" y="162"/>
                        <a:pt x="120" y="197"/>
                        <a:pt x="120" y="197"/>
                      </a:cubicBezTo>
                      <a:cubicBezTo>
                        <a:pt x="150" y="311"/>
                        <a:pt x="163" y="413"/>
                        <a:pt x="163" y="531"/>
                      </a:cubicBezTo>
                    </a:path>
                  </a:pathLst>
                </a:custGeom>
                <a:noFill/>
                <a:ln w="2844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53160" y="990360"/>
                  <a:ext cx="410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00520" y="1447560"/>
                  <a:ext cx="1526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00520" y="838080"/>
                  <a:ext cx="152640" cy="11916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53160" y="1528560"/>
                  <a:ext cx="274680" cy="300240"/>
                </a:xfrm>
                <a:custGeom>
                  <a:avLst/>
                  <a:gdLst/>
                  <a:ahLst/>
                  <a:rect l="l" t="t" r="r" b="b"/>
                  <a:pathLst>
                    <a:path w="206" h="163">
                      <a:moveTo>
                        <a:pt x="206" y="78"/>
                      </a:moveTo>
                      <a:cubicBezTo>
                        <a:pt x="145" y="57"/>
                        <a:pt x="170" y="70"/>
                        <a:pt x="129" y="43"/>
                      </a:cubicBezTo>
                      <a:cubicBezTo>
                        <a:pt x="106" y="10"/>
                        <a:pt x="90" y="10"/>
                        <a:pt x="52" y="0"/>
                      </a:cubicBezTo>
                      <a:cubicBezTo>
                        <a:pt x="5" y="49"/>
                        <a:pt x="0" y="96"/>
                        <a:pt x="0" y="163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53160" y="1143000"/>
                  <a:ext cx="231480" cy="115920"/>
                </a:xfrm>
                <a:custGeom>
                  <a:avLst/>
                  <a:gdLst/>
                  <a:ahLst/>
                  <a:rect l="l" t="t" r="r" b="b"/>
                  <a:pathLst>
                    <a:path w="146" h="73">
                      <a:moveTo>
                        <a:pt x="0" y="70"/>
                      </a:moveTo>
                      <a:cubicBezTo>
                        <a:pt x="29" y="67"/>
                        <a:pt x="60" y="73"/>
                        <a:pt x="86" y="61"/>
                      </a:cubicBezTo>
                      <a:cubicBezTo>
                        <a:pt x="97" y="56"/>
                        <a:pt x="88" y="36"/>
                        <a:pt x="95" y="27"/>
                      </a:cubicBezTo>
                      <a:cubicBezTo>
                        <a:pt x="100" y="21"/>
                        <a:pt x="146" y="0"/>
                        <a:pt x="146" y="18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4480" y="988920"/>
                  <a:ext cx="195120" cy="77760"/>
                </a:xfrm>
                <a:custGeom>
                  <a:avLst/>
                  <a:gdLst/>
                  <a:ahLst/>
                  <a:rect l="l" t="t" r="r" b="b"/>
                  <a:pathLst>
                    <a:path w="123" h="49">
                      <a:moveTo>
                        <a:pt x="123" y="32"/>
                      </a:moveTo>
                      <a:cubicBezTo>
                        <a:pt x="0" y="40"/>
                        <a:pt x="3" y="0"/>
                        <a:pt x="3" y="49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" name=""/>
          <p:cNvSpPr/>
          <p:nvPr/>
        </p:nvSpPr>
        <p:spPr>
          <a:xfrm>
            <a:off x="380880" y="59436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http://www.agua.uji.es/pdf/leccionHQ05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0:19:12Z</dcterms:created>
  <dc:creator>Ximena Vargas</dc:creator>
  <dc:description/>
  <dc:language>en-US</dc:language>
  <cp:lastModifiedBy>xv</cp:lastModifiedBy>
  <dcterms:modified xsi:type="dcterms:W3CDTF">2005-08-29T16:01:20Z</dcterms:modified>
  <cp:revision>13</cp:revision>
  <dc:subject/>
  <dc:title>Sin título de diapositiva</dc:title>
</cp:coreProperties>
</file>