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5DE-B47E-4AA5-B8BF-6CBD618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DF1-A38E-48CF-BD78-5A43F264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AC7-98F6-4EF7-8018-A50CFE11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624-A78D-425B-8707-17197B1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F30-73CE-400B-8F8D-5E4F0C03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A79-FCE7-4F84-B007-9DABE31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AD2-7E41-4335-AFDD-BD0971A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8C2-AA6B-4FCD-95DC-7C0C740E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4D3-06AB-417B-9D0E-223D9A0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9E4-59BC-43AD-A3DB-C70A09D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598-3D99-434B-B04F-4EFE0DF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B4D-CE32-4E8B-ABF5-32E8F63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963-1027-4EC9-A0FB-BB820A0A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ig5-2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5-3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ig5-5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nfdisco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infiltrom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infiltrometro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Fig5-1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xv</cp:lastModifiedBy>
  <dcterms:modified xsi:type="dcterms:W3CDTF">2005-08-29T16:01:20Z</dcterms:modified>
  <cp:revision>13</cp:revision>
  <dc:subject/>
  <dc:title>Sin título de diapositiva</dc:title>
</cp:coreProperties>
</file>