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9.wmf" ContentType="image/x-wmf"/>
  <Override PartName="/ppt/media/image9.wmf" ContentType="image/x-wmf"/>
  <Override PartName="/ppt/media/image41.png" ContentType="image/png"/>
  <Override PartName="/ppt/media/image48.jpeg" ContentType="image/jpeg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4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1FB-A4F7-4498-9F43-FD18D669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01D-09AA-4B02-9D65-8C31BC2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DC8-017B-4EDB-BFB7-893F8748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423-9949-47C6-A65D-E92B438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719-E7E6-48AB-9BA7-0DC892C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AD5-2127-46CA-83A4-81A67EB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1EF-1F6D-44D3-8A24-A91736D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F7B-B0E4-47D7-83FC-752181FB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F02-9252-41A3-AA02-49169EE7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1A3-9AFD-4BDF-A672-33A8475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F27-CB96-4AED-BA07-6D4D87B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EB-2A40-4F3D-91F1-D2E2366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5A5-E701-43A4-A3CB-186DA881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37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792468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transportar el vapor lejos de la superficie 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gradiente de humedad 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44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181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22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25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34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298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07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25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347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362" name="images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3911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 una cubierta vegetal, para un PEA dado, cuando la disponibilidad de humedad no es 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366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75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82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98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15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22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39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5-08-30T16:05:06Z</dcterms:modified>
  <cp:revision>17</cp:revision>
  <dc:subject/>
  <dc:title>Sin título de diapositiva</dc:title>
</cp:coreProperties>
</file>