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49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30.wmf" ContentType="image/x-wmf"/>
  <Override PartName="/ppt/media/image31.wmf" ContentType="image/x-wmf"/>
  <Override PartName="/ppt/media/image46.png" ContentType="image/png"/>
  <Override PartName="/ppt/media/image32.wmf" ContentType="image/x-wmf"/>
  <Override PartName="/ppt/media/image7.wmf" ContentType="image/x-wmf"/>
  <Override PartName="/ppt/media/image12.png" ContentType="image/png"/>
  <Override PartName="/ppt/media/image36.png" ContentType="image/png"/>
  <Override PartName="/ppt/media/image42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39.wmf" ContentType="image/x-wmf"/>
  <Override PartName="/ppt/media/image9.wmf" ContentType="image/x-wmf"/>
  <Override PartName="/ppt/media/image41.png" ContentType="image/png"/>
  <Override PartName="/ppt/media/image48.jpeg" ContentType="image/jpeg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28.wmf" ContentType="image/x-wmf"/>
  <Override PartName="/ppt/media/image37.jpeg" ContentType="image/jpeg"/>
  <Override PartName="/ppt/media/image11.wmf" ContentType="image/x-wmf"/>
  <Override PartName="/ppt/media/image26.png" ContentType="image/png"/>
  <Override PartName="/ppt/media/image6.wmf" ContentType="image/x-wmf"/>
  <Override PartName="/ppt/media/image47.jpeg" ContentType="image/jpeg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087-A647-4921-9E33-C8A5F8DC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AEC-1E4E-41C3-9A4C-42775110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5FBC-03D9-4309-9913-BE263139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757-9049-4D38-A418-75D879AE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D17-C491-40BF-B7E8-719AED43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7FC-D0F2-4FDC-A5FE-38229F32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1982-8DCC-4CD1-B8F4-793C9FCA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42D-02FF-4133-9424-BC53591A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05C-1595-48D3-8AB6-C2192A57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EFC-0F3A-495B-8A6C-CD8DBFD8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648-37B6-467E-ABF8-FF2148D3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E8D-68F2-40BE-8541-6931967E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52EC-8998-4ECB-BA62-EEFBD65AA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9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0.wm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7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2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37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4479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666880"/>
            <a:ext cx="7924680" cy="3020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os principales factores que inciden en la evaporación desde una superficie libre son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radiación solar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, como fuente de energía para suministrar el calor latente de vaporización,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velocidad del viento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requerida para transportar el vapor lejos de la superficie evaporante y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l gradiente de humedad específica del aire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sobre la superf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447920"/>
            <a:ext cx="838188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53352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066680" y="1676520"/>
            <a:ext cx="7772040" cy="3666600"/>
            <a:chOff x="1066680" y="1676520"/>
            <a:chExt cx="7772040" cy="3666600"/>
          </a:xfrm>
        </p:grpSpPr>
        <p:sp>
          <p:nvSpPr>
            <p:cNvPr id="144" name=""/>
            <p:cNvSpPr/>
            <p:nvPr/>
          </p:nvSpPr>
          <p:spPr>
            <a:xfrm>
              <a:off x="1066680" y="1676520"/>
              <a:ext cx="0" cy="30826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66680" y="4808880"/>
              <a:ext cx="1159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0880" y="1809360"/>
              <a:ext cx="113400" cy="705960"/>
            </a:xfrm>
            <a:custGeom>
              <a:avLst/>
              <a:gdLst/>
              <a:ahLst/>
              <a:rect l="l" t="t" r="r" b="b"/>
              <a:pathLst>
                <a:path w="141" h="765">
                  <a:moveTo>
                    <a:pt x="18" y="0"/>
                  </a:moveTo>
                  <a:cubicBezTo>
                    <a:pt x="13" y="15"/>
                    <a:pt x="0" y="29"/>
                    <a:pt x="3" y="45"/>
                  </a:cubicBezTo>
                  <a:cubicBezTo>
                    <a:pt x="6" y="63"/>
                    <a:pt x="26" y="73"/>
                    <a:pt x="33" y="90"/>
                  </a:cubicBezTo>
                  <a:cubicBezTo>
                    <a:pt x="91" y="226"/>
                    <a:pt x="3" y="82"/>
                    <a:pt x="78" y="195"/>
                  </a:cubicBezTo>
                  <a:cubicBezTo>
                    <a:pt x="68" y="210"/>
                    <a:pt x="44" y="223"/>
                    <a:pt x="48" y="240"/>
                  </a:cubicBezTo>
                  <a:cubicBezTo>
                    <a:pt x="52" y="255"/>
                    <a:pt x="91" y="239"/>
                    <a:pt x="93" y="255"/>
                  </a:cubicBezTo>
                  <a:cubicBezTo>
                    <a:pt x="97" y="286"/>
                    <a:pt x="63" y="345"/>
                    <a:pt x="63" y="345"/>
                  </a:cubicBezTo>
                  <a:cubicBezTo>
                    <a:pt x="73" y="360"/>
                    <a:pt x="93" y="372"/>
                    <a:pt x="93" y="390"/>
                  </a:cubicBezTo>
                  <a:cubicBezTo>
                    <a:pt x="93" y="510"/>
                    <a:pt x="13" y="360"/>
                    <a:pt x="93" y="480"/>
                  </a:cubicBezTo>
                  <a:cubicBezTo>
                    <a:pt x="109" y="545"/>
                    <a:pt x="117" y="611"/>
                    <a:pt x="138" y="675"/>
                  </a:cubicBezTo>
                  <a:cubicBezTo>
                    <a:pt x="122" y="757"/>
                    <a:pt x="141" y="732"/>
                    <a:pt x="108" y="765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105640"/>
              <a:ext cx="811800" cy="2657160"/>
            </a:xfrm>
            <a:custGeom>
              <a:avLst/>
              <a:gdLst/>
              <a:ahLst/>
              <a:rect l="l" t="t" r="r" b="b"/>
              <a:pathLst>
                <a:path w="1008" h="2880">
                  <a:moveTo>
                    <a:pt x="0" y="2880"/>
                  </a:moveTo>
                  <a:cubicBezTo>
                    <a:pt x="276" y="2760"/>
                    <a:pt x="552" y="2640"/>
                    <a:pt x="720" y="2160"/>
                  </a:cubicBezTo>
                  <a:cubicBezTo>
                    <a:pt x="888" y="1680"/>
                    <a:pt x="960" y="360"/>
                    <a:pt x="1008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94400" y="4812120"/>
              <a:ext cx="463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82600" y="17827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06560" y="2105640"/>
              <a:ext cx="3132000" cy="2790000"/>
            </a:xfrm>
            <a:prstGeom prst="rect">
              <a:avLst/>
            </a:pr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93800" y="4637520"/>
              <a:ext cx="3866760" cy="179640"/>
            </a:xfrm>
            <a:custGeom>
              <a:avLst/>
              <a:gdLst/>
              <a:ahLst/>
              <a:rect l="l" t="t" r="r" b="b"/>
              <a:pathLst>
                <a:path w="4800" h="195">
                  <a:moveTo>
                    <a:pt x="0" y="150"/>
                  </a:moveTo>
                  <a:cubicBezTo>
                    <a:pt x="110" y="136"/>
                    <a:pt x="138" y="145"/>
                    <a:pt x="195" y="60"/>
                  </a:cubicBezTo>
                  <a:cubicBezTo>
                    <a:pt x="210" y="65"/>
                    <a:pt x="228" y="65"/>
                    <a:pt x="240" y="75"/>
                  </a:cubicBezTo>
                  <a:cubicBezTo>
                    <a:pt x="312" y="133"/>
                    <a:pt x="222" y="113"/>
                    <a:pt x="315" y="165"/>
                  </a:cubicBezTo>
                  <a:cubicBezTo>
                    <a:pt x="343" y="180"/>
                    <a:pt x="405" y="195"/>
                    <a:pt x="405" y="195"/>
                  </a:cubicBezTo>
                  <a:cubicBezTo>
                    <a:pt x="435" y="185"/>
                    <a:pt x="474" y="176"/>
                    <a:pt x="495" y="150"/>
                  </a:cubicBezTo>
                  <a:cubicBezTo>
                    <a:pt x="505" y="138"/>
                    <a:pt x="500" y="117"/>
                    <a:pt x="510" y="105"/>
                  </a:cubicBezTo>
                  <a:cubicBezTo>
                    <a:pt x="521" y="91"/>
                    <a:pt x="541" y="87"/>
                    <a:pt x="555" y="75"/>
                  </a:cubicBezTo>
                  <a:cubicBezTo>
                    <a:pt x="630" y="13"/>
                    <a:pt x="566" y="41"/>
                    <a:pt x="645" y="15"/>
                  </a:cubicBezTo>
                  <a:cubicBezTo>
                    <a:pt x="660" y="30"/>
                    <a:pt x="676" y="44"/>
                    <a:pt x="690" y="60"/>
                  </a:cubicBezTo>
                  <a:cubicBezTo>
                    <a:pt x="702" y="74"/>
                    <a:pt x="706" y="93"/>
                    <a:pt x="720" y="105"/>
                  </a:cubicBezTo>
                  <a:cubicBezTo>
                    <a:pt x="747" y="129"/>
                    <a:pt x="810" y="165"/>
                    <a:pt x="810" y="165"/>
                  </a:cubicBezTo>
                  <a:cubicBezTo>
                    <a:pt x="931" y="135"/>
                    <a:pt x="975" y="40"/>
                    <a:pt x="1095" y="0"/>
                  </a:cubicBezTo>
                  <a:cubicBezTo>
                    <a:pt x="1110" y="10"/>
                    <a:pt x="1127" y="17"/>
                    <a:pt x="1140" y="30"/>
                  </a:cubicBezTo>
                  <a:cubicBezTo>
                    <a:pt x="1153" y="43"/>
                    <a:pt x="1156" y="63"/>
                    <a:pt x="1170" y="75"/>
                  </a:cubicBezTo>
                  <a:cubicBezTo>
                    <a:pt x="1197" y="99"/>
                    <a:pt x="1260" y="135"/>
                    <a:pt x="1260" y="135"/>
                  </a:cubicBezTo>
                  <a:cubicBezTo>
                    <a:pt x="1330" y="117"/>
                    <a:pt x="1385" y="83"/>
                    <a:pt x="1455" y="60"/>
                  </a:cubicBezTo>
                  <a:cubicBezTo>
                    <a:pt x="1470" y="55"/>
                    <a:pt x="1500" y="45"/>
                    <a:pt x="1500" y="45"/>
                  </a:cubicBezTo>
                  <a:cubicBezTo>
                    <a:pt x="1561" y="85"/>
                    <a:pt x="1552" y="112"/>
                    <a:pt x="1620" y="135"/>
                  </a:cubicBezTo>
                  <a:cubicBezTo>
                    <a:pt x="1650" y="130"/>
                    <a:pt x="1681" y="130"/>
                    <a:pt x="1710" y="120"/>
                  </a:cubicBezTo>
                  <a:cubicBezTo>
                    <a:pt x="1727" y="114"/>
                    <a:pt x="1737" y="92"/>
                    <a:pt x="1755" y="90"/>
                  </a:cubicBezTo>
                  <a:cubicBezTo>
                    <a:pt x="1790" y="86"/>
                    <a:pt x="1825" y="100"/>
                    <a:pt x="1860" y="105"/>
                  </a:cubicBezTo>
                  <a:cubicBezTo>
                    <a:pt x="1885" y="100"/>
                    <a:pt x="1910" y="96"/>
                    <a:pt x="1935" y="90"/>
                  </a:cubicBezTo>
                  <a:cubicBezTo>
                    <a:pt x="1950" y="86"/>
                    <a:pt x="1964" y="72"/>
                    <a:pt x="1980" y="75"/>
                  </a:cubicBezTo>
                  <a:cubicBezTo>
                    <a:pt x="1998" y="78"/>
                    <a:pt x="2010" y="95"/>
                    <a:pt x="2025" y="105"/>
                  </a:cubicBezTo>
                  <a:cubicBezTo>
                    <a:pt x="2030" y="120"/>
                    <a:pt x="2024" y="147"/>
                    <a:pt x="2040" y="150"/>
                  </a:cubicBezTo>
                  <a:cubicBezTo>
                    <a:pt x="2052" y="152"/>
                    <a:pt x="2201" y="147"/>
                    <a:pt x="2250" y="120"/>
                  </a:cubicBezTo>
                  <a:cubicBezTo>
                    <a:pt x="2282" y="102"/>
                    <a:pt x="2340" y="60"/>
                    <a:pt x="2340" y="60"/>
                  </a:cubicBezTo>
                  <a:cubicBezTo>
                    <a:pt x="2350" y="45"/>
                    <a:pt x="2353" y="22"/>
                    <a:pt x="2370" y="15"/>
                  </a:cubicBezTo>
                  <a:cubicBezTo>
                    <a:pt x="2385" y="9"/>
                    <a:pt x="2404" y="19"/>
                    <a:pt x="2415" y="30"/>
                  </a:cubicBezTo>
                  <a:cubicBezTo>
                    <a:pt x="2440" y="55"/>
                    <a:pt x="2441" y="109"/>
                    <a:pt x="2475" y="120"/>
                  </a:cubicBezTo>
                  <a:cubicBezTo>
                    <a:pt x="2505" y="130"/>
                    <a:pt x="2565" y="150"/>
                    <a:pt x="2565" y="150"/>
                  </a:cubicBezTo>
                  <a:cubicBezTo>
                    <a:pt x="2637" y="126"/>
                    <a:pt x="2675" y="68"/>
                    <a:pt x="2745" y="45"/>
                  </a:cubicBezTo>
                  <a:cubicBezTo>
                    <a:pt x="2780" y="50"/>
                    <a:pt x="2818" y="46"/>
                    <a:pt x="2850" y="60"/>
                  </a:cubicBezTo>
                  <a:cubicBezTo>
                    <a:pt x="2866" y="67"/>
                    <a:pt x="2868" y="91"/>
                    <a:pt x="2880" y="105"/>
                  </a:cubicBezTo>
                  <a:cubicBezTo>
                    <a:pt x="2923" y="157"/>
                    <a:pt x="2915" y="147"/>
                    <a:pt x="2970" y="165"/>
                  </a:cubicBezTo>
                  <a:cubicBezTo>
                    <a:pt x="3096" y="144"/>
                    <a:pt x="3035" y="167"/>
                    <a:pt x="3150" y="90"/>
                  </a:cubicBezTo>
                  <a:cubicBezTo>
                    <a:pt x="3165" y="80"/>
                    <a:pt x="3180" y="70"/>
                    <a:pt x="3195" y="60"/>
                  </a:cubicBezTo>
                  <a:cubicBezTo>
                    <a:pt x="3210" y="50"/>
                    <a:pt x="3240" y="30"/>
                    <a:pt x="3240" y="30"/>
                  </a:cubicBezTo>
                  <a:cubicBezTo>
                    <a:pt x="3292" y="65"/>
                    <a:pt x="3361" y="100"/>
                    <a:pt x="3420" y="120"/>
                  </a:cubicBezTo>
                  <a:cubicBezTo>
                    <a:pt x="3512" y="102"/>
                    <a:pt x="3581" y="82"/>
                    <a:pt x="3660" y="30"/>
                  </a:cubicBezTo>
                  <a:cubicBezTo>
                    <a:pt x="3730" y="53"/>
                    <a:pt x="3788" y="102"/>
                    <a:pt x="3855" y="135"/>
                  </a:cubicBezTo>
                  <a:cubicBezTo>
                    <a:pt x="3965" y="130"/>
                    <a:pt x="4076" y="137"/>
                    <a:pt x="4185" y="120"/>
                  </a:cubicBezTo>
                  <a:cubicBezTo>
                    <a:pt x="4206" y="117"/>
                    <a:pt x="4214" y="89"/>
                    <a:pt x="4230" y="75"/>
                  </a:cubicBezTo>
                  <a:cubicBezTo>
                    <a:pt x="4269" y="43"/>
                    <a:pt x="4275" y="45"/>
                    <a:pt x="4320" y="30"/>
                  </a:cubicBezTo>
                  <a:cubicBezTo>
                    <a:pt x="4430" y="67"/>
                    <a:pt x="4379" y="52"/>
                    <a:pt x="4470" y="75"/>
                  </a:cubicBezTo>
                  <a:cubicBezTo>
                    <a:pt x="4544" y="70"/>
                    <a:pt x="4724" y="29"/>
                    <a:pt x="4800" y="105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50560" y="4408560"/>
              <a:ext cx="347760" cy="39852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cubicBezTo>
                    <a:pt x="36" y="324"/>
                    <a:pt x="72" y="216"/>
                    <a:pt x="144" y="144"/>
                  </a:cubicBezTo>
                  <a:cubicBezTo>
                    <a:pt x="216" y="72"/>
                    <a:pt x="384" y="24"/>
                    <a:pt x="432" y="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82760" y="4139280"/>
              <a:ext cx="162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Evaporación 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5844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7488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86520" y="3190680"/>
              <a:ext cx="1855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Flujo de A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66840" y="1676520"/>
              <a:ext cx="57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R</a:t>
              </a:r>
              <a:r>
                <a:rPr b="1" lang="en-US" sz="1000" spc="-1" strike="noStrike" baseline="-25000">
                  <a:solidFill>
                    <a:srgbClr val="000080"/>
                  </a:solidFill>
                  <a:latin typeface="Verdana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518880" y="1946520"/>
              <a:ext cx="0" cy="29494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18880" y="4949280"/>
              <a:ext cx="6958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679160" y="2079720"/>
              <a:ext cx="0" cy="28166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79160" y="4949280"/>
              <a:ext cx="8118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79160" y="16765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34800" y="180936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34800" y="2323440"/>
              <a:ext cx="579960" cy="2391480"/>
            </a:xfrm>
            <a:custGeom>
              <a:avLst/>
              <a:gdLst/>
              <a:ahLst/>
              <a:rect l="l" t="t" r="r" b="b"/>
              <a:pathLst>
                <a:path w="720" h="2592">
                  <a:moveTo>
                    <a:pt x="720" y="2592"/>
                  </a:moveTo>
                  <a:cubicBezTo>
                    <a:pt x="564" y="2592"/>
                    <a:pt x="408" y="2592"/>
                    <a:pt x="288" y="2160"/>
                  </a:cubicBezTo>
                  <a:cubicBezTo>
                    <a:pt x="168" y="1728"/>
                    <a:pt x="48" y="360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11000" y="2105640"/>
              <a:ext cx="579960" cy="2701800"/>
            </a:xfrm>
            <a:custGeom>
              <a:avLst/>
              <a:gdLst/>
              <a:ahLst/>
              <a:rect l="l" t="t" r="r" b="b"/>
              <a:pathLst>
                <a:path w="720" h="2928">
                  <a:moveTo>
                    <a:pt x="720" y="2880"/>
                  </a:moveTo>
                  <a:cubicBezTo>
                    <a:pt x="636" y="2904"/>
                    <a:pt x="552" y="2928"/>
                    <a:pt x="432" y="2448"/>
                  </a:cubicBezTo>
                  <a:cubicBezTo>
                    <a:pt x="312" y="1968"/>
                    <a:pt x="72" y="408"/>
                    <a:pt x="0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98840" y="4812120"/>
              <a:ext cx="34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75040" y="4808880"/>
              <a:ext cx="4636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q</a:t>
              </a:r>
              <a:r>
                <a:rPr b="1" lang="en-US" sz="900" spc="-1" strike="noStrike" baseline="-25000">
                  <a:solidFill>
                    <a:srgbClr val="000080"/>
                  </a:solidFill>
                  <a:latin typeface="Verdana"/>
                </a:rPr>
                <a:t>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52280" y="5670720"/>
            <a:ext cx="5486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flujo de vapor dm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/dt que asciende por convección y que pasa a través de plano a cota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324480" y="5721480"/>
          <a:ext cx="2590920" cy="10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721480"/>
                    <a:ext cx="25909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5562720" y="6172200"/>
            <a:ext cx="609480" cy="457200"/>
          </a:xfrm>
          <a:custGeom>
            <a:avLst/>
            <a:gdLst>
              <a:gd name="textAreaLeft" fmla="*/ 7596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334120"/>
            <a:ext cx="358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cc"/>
                </a:solidFill>
                <a:latin typeface="Verdana"/>
              </a:rPr>
              <a:t>Coef. difusión turbulenta de m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924680" y="5638680"/>
            <a:ext cx="76320" cy="4572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4572000"/>
            <a:ext cx="838080" cy="1905120"/>
          </a:xfrm>
          <a:custGeom>
            <a:avLst/>
            <a:gdLst>
              <a:gd name="textAreaLeft" fmla="*/ 112320 w 838080"/>
              <a:gd name="textAreaRight" fmla="*/ 725760 w 8380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lujo de momentum o esfuerzo de corte a la altura 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743200" y="1371600"/>
          <a:ext cx="2871720" cy="1330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371600"/>
                    <a:ext cx="287172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2971800" y="3276720"/>
            <a:ext cx="6019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cc"/>
                </a:solidFill>
                <a:latin typeface="Verdana"/>
              </a:rPr>
              <a:t>coeficiente de difusión turbulenta de momen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343400" y="2437920"/>
            <a:ext cx="15228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880" y="3962520"/>
            <a:ext cx="8534520" cy="926280"/>
            <a:chOff x="380880" y="3962520"/>
            <a:chExt cx="8534520" cy="926280"/>
          </a:xfrm>
        </p:grpSpPr>
        <p:sp>
          <p:nvSpPr>
            <p:cNvPr id="181" name=""/>
            <p:cNvSpPr/>
            <p:nvPr/>
          </p:nvSpPr>
          <p:spPr>
            <a:xfrm>
              <a:off x="380880" y="3962520"/>
              <a:ext cx="8534520" cy="9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Escogiendo z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1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z</a:t>
              </a:r>
              <a:r>
                <a:rPr b="1" lang="es-CL" sz="2000" spc="-1" strike="noStrike" baseline="-25000">
                  <a:solidFill>
                    <a:srgbClr val="0000cc"/>
                  </a:solidFill>
                  <a:latin typeface="Verdana"/>
                </a:rPr>
                <a:t>2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lo suficientemente cerca como para considerar que no existen variaciones en m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</a:t>
              </a:r>
              <a:r>
                <a:rPr b="1" lang="es-CL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480" y="4724280"/>
              <a:ext cx="76320" cy="763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914400" y="5659560"/>
          <a:ext cx="3048120" cy="1019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5659560"/>
                    <a:ext cx="30481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410080" y="5745240"/>
          <a:ext cx="3048120" cy="97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5745240"/>
                    <a:ext cx="30481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8610480" y="4572000"/>
            <a:ext cx="533520" cy="2057400"/>
          </a:xfrm>
          <a:custGeom>
            <a:avLst/>
            <a:gdLst>
              <a:gd name="textAreaLeft" fmla="*/ 71280 w 533520"/>
              <a:gd name="textAreaRight" fmla="*/ 462240 w 53352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295280" y="533520"/>
          <a:ext cx="6324840" cy="1487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33520"/>
                    <a:ext cx="6324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52280" y="2514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c. de Thornthwaite-Holzman para el transporte de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1337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cc"/>
              </a:gs>
              <a:gs pos="50000">
                <a:srgbClr val="00005e"/>
              </a:gs>
              <a:gs pos="100000">
                <a:srgbClr val="0000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429000"/>
            <a:ext cx="8534520" cy="10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Cuando no se dispone de 2 medidas, se utiliza la ecuación anterior suponiendo que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1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coincide con la altura de aspereza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0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y que en esa posición el aire está 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4952880"/>
            <a:ext cx="8915400" cy="175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mo q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=0,622e/p (p es igual a ambas alturas), las medidas de presión de vapor pueden sustituir a las de humedad específica. En z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, la presión de vapor es e</a:t>
            </a:r>
            <a:r>
              <a:rPr b="1" lang="es-CL" sz="1800" spc="-1" strike="noStrike" baseline="-22000">
                <a:solidFill>
                  <a:srgbClr val="ffffff"/>
                </a:solidFill>
                <a:latin typeface="Verdana"/>
              </a:rPr>
              <a:t>a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 y la presión de vapor en la superficie es la presión de vapor saturado correspondiente a la temperatura del aire, e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441972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2590920" y="914400"/>
          <a:ext cx="3905280" cy="104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914400"/>
                    <a:ext cx="3905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2666880"/>
                <a:ext cx="2927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1523880" y="1371600"/>
            <a:ext cx="990720" cy="1981080"/>
          </a:xfrm>
          <a:custGeom>
            <a:avLst/>
            <a:gdLst>
              <a:gd name="textAreaLeft" fmla="*/ 132480 w 990720"/>
              <a:gd name="textAreaRight" fmla="*/ 858240 w 99072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648320" y="3809880"/>
                <a:ext cx="35812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3962520" y="3124080"/>
            <a:ext cx="990360" cy="68580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lton (18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638680" y="2971800"/>
            <a:ext cx="1067040" cy="0"/>
          </a:xfrm>
          <a:prstGeom prst="line">
            <a:avLst/>
          </a:prstGeom>
          <a:ln w="7632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62120" y="4572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3581280"/>
            <a:ext cx="358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438280" y="4876920"/>
                <a:ext cx="3962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6" name=""/>
          <p:cNvGraphicFramePr/>
          <p:nvPr/>
        </p:nvGraphicFramePr>
        <p:xfrm>
          <a:off x="2666880" y="1219320"/>
          <a:ext cx="2971800" cy="197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297180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228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Aerodinámico y de Balance de Energía Combi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486400" y="1066680"/>
          <a:ext cx="198108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066680"/>
                    <a:ext cx="19810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609480" y="1143000"/>
            <a:ext cx="41911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uociente de Bow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762120"/>
            <a:ext cx="1371600" cy="3045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297180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i G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3429000"/>
            <a:ext cx="2209680" cy="68580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48120" y="2743200"/>
          <a:ext cx="3806640" cy="725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2743200"/>
                    <a:ext cx="38066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33520" y="4800600"/>
          <a:ext cx="3429000" cy="1116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800600"/>
                    <a:ext cx="34290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181480" y="4800600"/>
          <a:ext cx="274320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4800600"/>
                    <a:ext cx="2743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838080" y="5638680"/>
            <a:ext cx="3276720" cy="1161000"/>
            <a:chOff x="838080" y="5638680"/>
            <a:chExt cx="3276720" cy="1161000"/>
          </a:xfrm>
        </p:grpSpPr>
        <p:sp>
          <p:nvSpPr>
            <p:cNvPr id="222" name=""/>
            <p:cNvSpPr/>
            <p:nvPr/>
          </p:nvSpPr>
          <p:spPr>
            <a:xfrm>
              <a:off x="838080" y="6095880"/>
              <a:ext cx="32767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cc"/>
                  </a:solidFill>
                  <a:latin typeface="Verdana"/>
                </a:rPr>
                <a:t>Coef. de difusión turbulento de ca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743200" y="5638680"/>
              <a:ext cx="304920" cy="457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05520" y="5562360"/>
            <a:ext cx="3581280" cy="1297800"/>
            <a:chOff x="5105520" y="5562360"/>
            <a:chExt cx="3581280" cy="1297800"/>
          </a:xfrm>
        </p:grpSpPr>
        <p:sp>
          <p:nvSpPr>
            <p:cNvPr id="225" name=""/>
            <p:cNvSpPr/>
            <p:nvPr/>
          </p:nvSpPr>
          <p:spPr>
            <a:xfrm>
              <a:off x="5105520" y="6156360"/>
              <a:ext cx="35812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cc"/>
                  </a:solidFill>
                  <a:latin typeface="Verdana"/>
                </a:rPr>
                <a:t>Coef. de difusión turbulenta de m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934320" y="5562360"/>
              <a:ext cx="0" cy="53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380880"/>
            <a:ext cx="79246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uponiendo que la tasa de transporte es constante entre 2 niveles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590920" y="1523880"/>
                <a:ext cx="33130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h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9" name=""/>
          <p:cNvGraphicFramePr/>
          <p:nvPr/>
        </p:nvGraphicFramePr>
        <p:xfrm>
          <a:off x="533520" y="3276720"/>
          <a:ext cx="369576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76720"/>
                    <a:ext cx="36957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5715000" y="3352680"/>
          <a:ext cx="2209680" cy="9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352680"/>
                    <a:ext cx="220968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4343400" y="4038480"/>
            <a:ext cx="4343400" cy="1526760"/>
            <a:chOff x="4343400" y="4038480"/>
            <a:chExt cx="4343400" cy="1526760"/>
          </a:xfrm>
        </p:grpSpPr>
        <p:sp>
          <p:nvSpPr>
            <p:cNvPr id="234" name=""/>
            <p:cNvSpPr/>
            <p:nvPr/>
          </p:nvSpPr>
          <p:spPr>
            <a:xfrm>
              <a:off x="4343400" y="5105520"/>
              <a:ext cx="4343400" cy="459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Verdana"/>
                </a:rPr>
                <a:t>constante psicrométr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4038480"/>
              <a:ext cx="304920" cy="9907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i los niveles 1 y 2 donde se efectúan las mediciones se toman en la superficie evaporante y en 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990720"/>
            <a:ext cx="380880" cy="1371600"/>
          </a:xfrm>
          <a:custGeom>
            <a:avLst/>
            <a:gdLst>
              <a:gd name="textAreaLeft" fmla="*/ 50760 w 380880"/>
              <a:gd name="textAreaRight" fmla="*/ 330120 w 3808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09680" y="1682640"/>
          <a:ext cx="3353040" cy="9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682640"/>
                    <a:ext cx="335304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28600" y="3203640"/>
          <a:ext cx="3686040" cy="69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203640"/>
                    <a:ext cx="36860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029200" y="3182760"/>
          <a:ext cx="3200400" cy="752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3182760"/>
                    <a:ext cx="320040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838080"/>
            <a:ext cx="8001000" cy="302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Hay que tener en cuenta que en el método del balance de energía se supone que existe un flujo permanente de energía y que los cambios de calor en el interior del sistema son despreciables, lo que limita la aplicación del método a períodos de tiempo diarios o mayores, y a situaciones que no posean grandes almacenamientos de calor, como son los grandes lag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4724280"/>
            <a:ext cx="77724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El método combinado es apropiado para aplicarlo en áreas pequeñas donde se dispone de medidas de radiación neta, temperatura del aire, humedad, velocidad de viento y presión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38080" y="457200"/>
            <a:ext cx="7315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Al estimar la evaporación en grandes áreas, donde se reconoce que la tasa de evaporación es dominada por los componentes rad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048120" y="2362320"/>
          <a:ext cx="2787480" cy="12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362320"/>
                    <a:ext cx="278748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295280" y="5105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=1,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4114800"/>
            <a:ext cx="556272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cuación de Priestley-Tay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0800000">
            <a:off x="2362320" y="2895480"/>
            <a:ext cx="457200" cy="1524240"/>
          </a:xfrm>
          <a:custGeom>
            <a:avLst/>
            <a:gdLst>
              <a:gd name="textAreaLeft" fmla="*/ 61200 w 457200"/>
              <a:gd name="textAreaRight" fmla="*/ 396000 w 45720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828800"/>
            <a:ext cx="8077320" cy="1557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vaporación desde el suelo y la vegetación sumada a la transpiración de las plantas a través de los estomas de sus hojas, del agua que éstas captan a través de sus raí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Evapotranspi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533412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isponibilidad de humedad en la superficie evapo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106668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657600"/>
            <a:ext cx="3733920" cy="1523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90720" y="914400"/>
            <a:ext cx="472428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LANCE HIDR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1447920"/>
            <a:ext cx="114300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2438280"/>
            <a:ext cx="57150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Conocidos todos los demás términos se despeja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evapor1" descr=""/>
          <p:cNvPicPr/>
          <p:nvPr/>
        </p:nvPicPr>
        <p:blipFill>
          <a:blip r:embed="rId3"/>
          <a:stretch/>
        </p:blipFill>
        <p:spPr>
          <a:xfrm>
            <a:off x="4648320" y="4191120"/>
            <a:ext cx="3352680" cy="20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800600" y="380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órmulas Empíricas en unidades métr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1523880"/>
            <a:ext cx="8229600" cy="12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diciones a 2m de altura, energía Q</a:t>
            </a:r>
            <a:r>
              <a:rPr b="1" lang="es-CL" sz="2400" spc="-1" strike="noStrike" baseline="-22000">
                <a:solidFill>
                  <a:srgbClr val="3333cc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en [Watt/m</a:t>
            </a:r>
            <a:r>
              <a:rPr b="1" lang="es-CL" sz="2000" spc="-1" strike="noStrike" baseline="-20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], presión de vapor e en [mb], temperatura T en [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], superficie A en [H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895480"/>
            <a:ext cx="678204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ago Hefner (datos del lago, 195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800600" y="3581280"/>
          <a:ext cx="3733920" cy="5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581280"/>
                    <a:ext cx="3733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0" y="4419720"/>
            <a:ext cx="800100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Meyer (estanque pequeño calentado, 19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838080" y="5146560"/>
          <a:ext cx="3114720" cy="403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5146560"/>
                    <a:ext cx="31147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0" y="579132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ara convertir a tasa de evaporación se debe dividir Q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por el calor latente 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la densidad del agua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219320" y="1219320"/>
            <a:ext cx="27432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y de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00600" y="14479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51460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251460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48320" y="243828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380988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&gt;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373392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281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5105520"/>
            <a:ext cx="2057400" cy="57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gua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502920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00600" y="5029200"/>
            <a:ext cx="2438280" cy="57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 -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6095880"/>
            <a:ext cx="4953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n espejos de agua poco profu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2876400">
            <a:off x="1980720" y="5715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8381880" y="3809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90720" y="533520"/>
            <a:ext cx="441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ólidos solubles en el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1066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335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16002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&gt;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8288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1905120"/>
            <a:ext cx="9907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&lt;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220968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48520" y="2286000"/>
            <a:ext cx="1371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enor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3657600"/>
            <a:ext cx="6858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: a menor presión se tiene menor interferencia para proceso de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05320" y="4572000"/>
            <a:ext cx="144756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5791320"/>
            <a:ext cx="62481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mayor altitud se tendría mayor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29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09520" y="3470400"/>
            <a:ext cx="5727960" cy="234720"/>
          </a:xfrm>
          <a:custGeom>
            <a:avLst/>
            <a:gdLst/>
            <a:ahLst/>
            <a:rect l="l" t="t" r="r" b="b"/>
            <a:pathLst>
              <a:path w="3608" h="148">
                <a:moveTo>
                  <a:pt x="0" y="41"/>
                </a:moveTo>
                <a:cubicBezTo>
                  <a:pt x="96" y="17"/>
                  <a:pt x="121" y="17"/>
                  <a:pt x="230" y="25"/>
                </a:cubicBezTo>
                <a:cubicBezTo>
                  <a:pt x="260" y="39"/>
                  <a:pt x="289" y="43"/>
                  <a:pt x="312" y="66"/>
                </a:cubicBezTo>
                <a:cubicBezTo>
                  <a:pt x="373" y="51"/>
                  <a:pt x="426" y="76"/>
                  <a:pt x="485" y="90"/>
                </a:cubicBezTo>
                <a:cubicBezTo>
                  <a:pt x="651" y="49"/>
                  <a:pt x="763" y="46"/>
                  <a:pt x="945" y="41"/>
                </a:cubicBezTo>
                <a:cubicBezTo>
                  <a:pt x="990" y="14"/>
                  <a:pt x="1025" y="10"/>
                  <a:pt x="1076" y="0"/>
                </a:cubicBezTo>
                <a:cubicBezTo>
                  <a:pt x="1131" y="10"/>
                  <a:pt x="1191" y="8"/>
                  <a:pt x="1241" y="33"/>
                </a:cubicBezTo>
                <a:cubicBezTo>
                  <a:pt x="1264" y="44"/>
                  <a:pt x="1283" y="63"/>
                  <a:pt x="1306" y="74"/>
                </a:cubicBezTo>
                <a:cubicBezTo>
                  <a:pt x="1317" y="79"/>
                  <a:pt x="1328" y="85"/>
                  <a:pt x="1339" y="90"/>
                </a:cubicBezTo>
                <a:cubicBezTo>
                  <a:pt x="1365" y="116"/>
                  <a:pt x="1380" y="119"/>
                  <a:pt x="1413" y="132"/>
                </a:cubicBezTo>
                <a:cubicBezTo>
                  <a:pt x="1457" y="127"/>
                  <a:pt x="1503" y="130"/>
                  <a:pt x="1545" y="115"/>
                </a:cubicBezTo>
                <a:cubicBezTo>
                  <a:pt x="1656" y="75"/>
                  <a:pt x="1511" y="102"/>
                  <a:pt x="1635" y="74"/>
                </a:cubicBezTo>
                <a:cubicBezTo>
                  <a:pt x="1674" y="65"/>
                  <a:pt x="1772" y="60"/>
                  <a:pt x="1800" y="58"/>
                </a:cubicBezTo>
                <a:cubicBezTo>
                  <a:pt x="1862" y="34"/>
                  <a:pt x="1913" y="17"/>
                  <a:pt x="1980" y="8"/>
                </a:cubicBezTo>
                <a:cubicBezTo>
                  <a:pt x="2081" y="25"/>
                  <a:pt x="2155" y="35"/>
                  <a:pt x="2260" y="41"/>
                </a:cubicBezTo>
                <a:cubicBezTo>
                  <a:pt x="2304" y="68"/>
                  <a:pt x="2349" y="85"/>
                  <a:pt x="2399" y="99"/>
                </a:cubicBezTo>
                <a:cubicBezTo>
                  <a:pt x="2464" y="93"/>
                  <a:pt x="2517" y="84"/>
                  <a:pt x="2580" y="74"/>
                </a:cubicBezTo>
                <a:cubicBezTo>
                  <a:pt x="2717" y="80"/>
                  <a:pt x="2840" y="99"/>
                  <a:pt x="2975" y="107"/>
                </a:cubicBezTo>
                <a:cubicBezTo>
                  <a:pt x="3063" y="137"/>
                  <a:pt x="3025" y="123"/>
                  <a:pt x="3090" y="148"/>
                </a:cubicBezTo>
                <a:cubicBezTo>
                  <a:pt x="3098" y="145"/>
                  <a:pt x="3108" y="145"/>
                  <a:pt x="3115" y="140"/>
                </a:cubicBezTo>
                <a:cubicBezTo>
                  <a:pt x="3122" y="136"/>
                  <a:pt x="3124" y="127"/>
                  <a:pt x="3131" y="123"/>
                </a:cubicBezTo>
                <a:cubicBezTo>
                  <a:pt x="3149" y="114"/>
                  <a:pt x="3169" y="113"/>
                  <a:pt x="3188" y="107"/>
                </a:cubicBezTo>
                <a:cubicBezTo>
                  <a:pt x="3205" y="96"/>
                  <a:pt x="3218" y="78"/>
                  <a:pt x="3238" y="74"/>
                </a:cubicBezTo>
                <a:cubicBezTo>
                  <a:pt x="3265" y="69"/>
                  <a:pt x="3320" y="58"/>
                  <a:pt x="3320" y="58"/>
                </a:cubicBezTo>
                <a:cubicBezTo>
                  <a:pt x="3395" y="63"/>
                  <a:pt x="3430" y="64"/>
                  <a:pt x="3493" y="82"/>
                </a:cubicBezTo>
                <a:cubicBezTo>
                  <a:pt x="3531" y="93"/>
                  <a:pt x="3569" y="123"/>
                  <a:pt x="3608" y="12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396252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1905120"/>
            <a:ext cx="6098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17960" y="369252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70240" y="384480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22880" y="3997440"/>
            <a:ext cx="522000" cy="5220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304920"/>
            <a:ext cx="2676240" cy="2872440"/>
            <a:chOff x="0" y="304920"/>
            <a:chExt cx="2676240" cy="2872440"/>
          </a:xfrm>
        </p:grpSpPr>
        <p:sp>
          <p:nvSpPr>
            <p:cNvPr id="298" name=""/>
            <p:cNvSpPr/>
            <p:nvPr/>
          </p:nvSpPr>
          <p:spPr>
            <a:xfrm flipV="1">
              <a:off x="609480" y="304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480" y="2590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1760" y="52560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209680" y="14475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09120" y="144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81080" y="2667240"/>
              <a:ext cx="60948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1295640"/>
              <a:ext cx="5331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962520" y="457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410080" y="4043160"/>
            <a:ext cx="2676240" cy="2872440"/>
            <a:chOff x="5410080" y="4043160"/>
            <a:chExt cx="2676240" cy="2872440"/>
          </a:xfrm>
        </p:grpSpPr>
        <p:grpSp>
          <p:nvGrpSpPr>
            <p:cNvPr id="307" name=""/>
            <p:cNvGrpSpPr/>
            <p:nvPr/>
          </p:nvGrpSpPr>
          <p:grpSpPr>
            <a:xfrm>
              <a:off x="5410080" y="4043160"/>
              <a:ext cx="2676240" cy="2872440"/>
              <a:chOff x="5410080" y="4043160"/>
              <a:chExt cx="2676240" cy="2872440"/>
            </a:xfrm>
          </p:grpSpPr>
          <p:sp>
            <p:nvSpPr>
              <p:cNvPr id="308" name=""/>
              <p:cNvSpPr/>
              <p:nvPr/>
            </p:nvSpPr>
            <p:spPr>
              <a:xfrm flipV="1">
                <a:off x="6019560" y="4043160"/>
                <a:ext cx="0" cy="2285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6329160"/>
                <a:ext cx="190512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171840" y="4263840"/>
                <a:ext cx="1914480" cy="1912680"/>
              </a:xfrm>
              <a:custGeom>
                <a:avLst/>
                <a:gdLst/>
                <a:ahLst/>
                <a:rect l="l" t="t" r="r" b="b"/>
                <a:pathLst>
                  <a:path w="1206" h="1205">
                    <a:moveTo>
                      <a:pt x="0" y="1205"/>
                    </a:moveTo>
                    <a:cubicBezTo>
                      <a:pt x="85" y="1167"/>
                      <a:pt x="356" y="1080"/>
                      <a:pt x="508" y="978"/>
                    </a:cubicBezTo>
                    <a:cubicBezTo>
                      <a:pt x="660" y="876"/>
                      <a:pt x="794" y="755"/>
                      <a:pt x="910" y="592"/>
                    </a:cubicBezTo>
                    <a:cubicBezTo>
                      <a:pt x="1026" y="429"/>
                      <a:pt x="1144" y="123"/>
                      <a:pt x="1206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7619760" y="51861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6019200" y="518616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391160" y="64054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10080" y="5033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6409080" y="6400800"/>
              <a:ext cx="38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44400" y="64008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315200" y="5562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019920" y="5562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705720" y="63241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7086600" y="5790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019560" y="5791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93960" y="52578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68480" y="5562720"/>
              <a:ext cx="36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486400" y="380880"/>
            <a:ext cx="2676600" cy="3177360"/>
            <a:chOff x="5486400" y="380880"/>
            <a:chExt cx="2676600" cy="3177360"/>
          </a:xfrm>
        </p:grpSpPr>
        <p:sp>
          <p:nvSpPr>
            <p:cNvPr id="325" name=""/>
            <p:cNvSpPr/>
            <p:nvPr/>
          </p:nvSpPr>
          <p:spPr>
            <a:xfrm flipV="1">
              <a:off x="6095880" y="380880"/>
              <a:ext cx="0" cy="228600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5880" y="2666880"/>
              <a:ext cx="190512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48520" y="60156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7696080" y="1523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095520" y="1523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67480" y="27432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86400" y="12193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4320" y="30481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29400" y="2666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086600" y="26668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7315200" y="1905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609552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62720" y="1600200"/>
              <a:ext cx="37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701028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095880" y="2133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70280" y="1981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752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914400" y="838080"/>
            <a:ext cx="57913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Factores que condicionan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1981080"/>
            <a:ext cx="8076960" cy="276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radiente de presión de vapor o déficit higrométrico 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mperatura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adiación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v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5375400">
            <a:off x="3904920" y="1214280"/>
            <a:ext cx="1257480" cy="7848720"/>
          </a:xfrm>
          <a:custGeom>
            <a:avLst/>
            <a:gdLst>
              <a:gd name="textAreaLeft" fmla="*/ 0 w 1257480"/>
              <a:gd name="textAreaRight" fmla="*/ 453960 w 1257480"/>
              <a:gd name="textAreaTop" fmla="*/ 204480 h 7848720"/>
              <a:gd name="textAreaBottom" fmla="*/ 7644240 h 784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5867280"/>
            <a:ext cx="6858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ER EVAPORANTE DE LA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evap%20class%20A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5105520" cy="2998800"/>
          </a:xfrm>
          <a:prstGeom prst="rect">
            <a:avLst/>
          </a:prstGeom>
          <a:ln w="0">
            <a:noFill/>
          </a:ln>
        </p:spPr>
      </p:pic>
      <p:pic>
        <p:nvPicPr>
          <p:cNvPr id="347" name="evapor1" descr=""/>
          <p:cNvPicPr/>
          <p:nvPr/>
        </p:nvPicPr>
        <p:blipFill>
          <a:blip r:embed="rId3"/>
          <a:stretch/>
        </p:blipFill>
        <p:spPr>
          <a:xfrm>
            <a:off x="3657600" y="3616200"/>
            <a:ext cx="5105520" cy="3097440"/>
          </a:xfrm>
          <a:prstGeom prst="rect">
            <a:avLst/>
          </a:prstGeom>
          <a:ln w="0">
            <a:noFill/>
          </a:ln>
        </p:spPr>
      </p:pic>
      <p:pic>
        <p:nvPicPr>
          <p:cNvPr id="348" name="hook%20gage" descr=""/>
          <p:cNvPicPr/>
          <p:nvPr/>
        </p:nvPicPr>
        <p:blipFill>
          <a:blip r:embed="rId4"/>
          <a:stretch/>
        </p:blipFill>
        <p:spPr>
          <a:xfrm>
            <a:off x="228600" y="3429000"/>
            <a:ext cx="2235240" cy="31748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9273800">
            <a:off x="720" y="1676160"/>
            <a:ext cx="30481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I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066680" y="685800"/>
            <a:ext cx="7086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ACION MEDIDA REPRESENTA PODER EVAPORANTE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2438280"/>
            <a:ext cx="777240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eficiente de Embal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0000">
                <a:solidFill>
                  <a:srgbClr val="000099"/>
                </a:solidFill>
                <a:latin typeface="Times New Roman"/>
              </a:rPr>
              <a:t>real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en Superficie Agu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medida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en Evaporímetro en = cond. meteorológ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95280" y="3505320"/>
            <a:ext cx="6934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191120"/>
            <a:ext cx="121932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14400" y="5486400"/>
            <a:ext cx="7696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ede variar según el tipo de instalación y época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533520"/>
            <a:ext cx="5562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 enterrado Tipo Col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80" y="4419720"/>
            <a:ext cx="5943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 de estanque flotante: agua al mismo nivel que la del lago o embalse.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 90 cm; h= 45 cm, Ce= 0,7 a 0,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Colorado1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2994120" cy="19778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676520" y="20574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10 cm sobre niv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57200" y="380880"/>
            <a:ext cx="7010280" cy="247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ímetro de porcelana porosa o atmómetro: esferas, placas o cilindros de porcelana porosa conectadas a fuentes de agua para mantenerlas satur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tmómetro de Livingstone: D= 5cm, e=3mm conectado a recipiente de agua desti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atmometer_modE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479520" cy="2046240"/>
          </a:xfrm>
          <a:prstGeom prst="rect">
            <a:avLst/>
          </a:prstGeom>
          <a:ln w="0">
            <a:noFill/>
          </a:ln>
        </p:spPr>
      </p:pic>
      <p:pic>
        <p:nvPicPr>
          <p:cNvPr id="362" name="images" descr=""/>
          <p:cNvPicPr/>
          <p:nvPr/>
        </p:nvPicPr>
        <p:blipFill>
          <a:blip r:embed="rId3"/>
          <a:stretch/>
        </p:blipFill>
        <p:spPr>
          <a:xfrm>
            <a:off x="3276720" y="3581280"/>
            <a:ext cx="617400" cy="12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1371600"/>
            <a:ext cx="739116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Aquella que ocurriría desde una cubierta vegetal, para un PEA dado, cuando la disponibilidad de humedad no es limita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19760" y="228600"/>
            <a:ext cx="4656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vapotranspiración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6483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evapotranspiración real disminuye por bajo el nivel potencial a medida que el suelo se se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990720" y="609480"/>
            <a:ext cx="716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s de papel poroso :de Piche   Ce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5029200"/>
            <a:ext cx="4114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s de bal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Evaporation_casella_piche" descr=""/>
          <p:cNvPicPr/>
          <p:nvPr/>
        </p:nvPicPr>
        <p:blipFill>
          <a:blip r:embed="rId2"/>
          <a:stretch/>
        </p:blipFill>
        <p:spPr>
          <a:xfrm>
            <a:off x="990720" y="1560600"/>
            <a:ext cx="5553000" cy="2897280"/>
          </a:xfrm>
          <a:prstGeom prst="rect">
            <a:avLst/>
          </a:prstGeom>
          <a:ln w="0">
            <a:noFill/>
          </a:ln>
        </p:spPr>
      </p:pic>
      <p:pic>
        <p:nvPicPr>
          <p:cNvPr id="366" name="images" descr=""/>
          <p:cNvPicPr/>
          <p:nvPr/>
        </p:nvPicPr>
        <p:blipFill>
          <a:blip r:embed="rId3"/>
          <a:stretch/>
        </p:blipFill>
        <p:spPr>
          <a:xfrm>
            <a:off x="1828800" y="5070600"/>
            <a:ext cx="1465200" cy="178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8800" y="3200400"/>
            <a:ext cx="5105520" cy="365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3276720"/>
            <a:ext cx="15264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3352680"/>
            <a:ext cx="152280" cy="152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038480" y="259056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648320" y="26668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05520" y="2819160"/>
            <a:ext cx="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36232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43828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838080"/>
            <a:ext cx="15228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9907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143000"/>
            <a:ext cx="15264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82880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4479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16002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2860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18288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133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ens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438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p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304920"/>
            <a:ext cx="5715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del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1828800"/>
            <a:ext cx="9143640" cy="4879440"/>
            <a:chOff x="0" y="1828800"/>
            <a:chExt cx="9143640" cy="4879440"/>
          </a:xfrm>
        </p:grpSpPr>
        <p:graphicFrame>
          <p:nvGraphicFramePr>
            <p:cNvPr id="75" name=""/>
            <p:cNvGraphicFramePr/>
            <p:nvPr/>
          </p:nvGraphicFramePr>
          <p:xfrm>
            <a:off x="0" y="1828800"/>
            <a:ext cx="7931160" cy="44197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7931160" cy="441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" name=""/>
            <p:cNvSpPr/>
            <p:nvPr/>
          </p:nvSpPr>
          <p:spPr>
            <a:xfrm>
              <a:off x="5088600" y="6248520"/>
              <a:ext cx="4055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G: flujo de calor hacia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47720" y="5486400"/>
              <a:ext cx="14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rea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 flipH="1">
            <a:off x="7315200" y="1676520"/>
            <a:ext cx="38088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38098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038480" y="1219320"/>
            <a:ext cx="5105520" cy="510120"/>
            <a:chOff x="4038480" y="1219320"/>
            <a:chExt cx="5105520" cy="510120"/>
          </a:xfrm>
        </p:grpSpPr>
        <p:sp>
          <p:nvSpPr>
            <p:cNvPr id="82" name=""/>
            <p:cNvSpPr/>
            <p:nvPr/>
          </p:nvSpPr>
          <p:spPr>
            <a:xfrm>
              <a:off x="4038480" y="121932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asa de masa evapor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38880" y="121932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=-dm</a:t>
              </a:r>
              <a:r>
                <a:rPr b="1" lang="es-CL" sz="2400" spc="-1" strike="noStrike" baseline="-25000">
                  <a:solidFill>
                    <a:srgbClr val="ffffff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/d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457200" y="3124080"/>
          <a:ext cx="4038480" cy="838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124080"/>
                    <a:ext cx="4038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 flipH="1">
            <a:off x="1294920" y="4114800"/>
            <a:ext cx="38124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876920"/>
            <a:ext cx="175248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(dh/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657240" y="3809880"/>
            <a:ext cx="152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4343400"/>
            <a:ext cx="8380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5486400"/>
          <a:ext cx="1524240" cy="436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486400"/>
                    <a:ext cx="1524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2362320"/>
            <a:ext cx="25146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líq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E=-dh/dt : tasa de 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791320"/>
            <a:ext cx="152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447920"/>
            <a:ext cx="33526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de calor 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1905120"/>
            <a:ext cx="129528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676520" y="1600200"/>
            <a:ext cx="5327640" cy="1039680"/>
            <a:chOff x="1676520" y="1600200"/>
            <a:chExt cx="5327640" cy="1039680"/>
          </a:xfrm>
        </p:grpSpPr>
        <p:graphicFrame>
          <p:nvGraphicFramePr>
            <p:cNvPr id="98" name=""/>
            <p:cNvGraphicFramePr/>
            <p:nvPr/>
          </p:nvGraphicFramePr>
          <p:xfrm>
            <a:off x="1676520" y="1600200"/>
            <a:ext cx="5327640" cy="10396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1600200"/>
                      <a:ext cx="5327640" cy="10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1676520" y="1905120"/>
              <a:ext cx="152280" cy="304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85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ase de va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733920" y="761760"/>
            <a:ext cx="380880" cy="11430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304920"/>
            <a:ext cx="472428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umedad específica de la masa de vapor de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200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514600"/>
            <a:ext cx="106704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9880" y="4343400"/>
          <a:ext cx="3353040" cy="893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343400"/>
                    <a:ext cx="335304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295280" y="41148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971800" y="5707080"/>
          <a:ext cx="4419720" cy="1150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5707080"/>
                    <a:ext cx="44197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066680" y="586728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5335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Ley de la Term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362320" y="1752480"/>
            <a:ext cx="5638680" cy="2097000"/>
            <a:chOff x="2362320" y="1752480"/>
            <a:chExt cx="5638680" cy="2097000"/>
          </a:xfrm>
        </p:grpSpPr>
        <p:graphicFrame>
          <p:nvGraphicFramePr>
            <p:cNvPr id="115" name=""/>
            <p:cNvGraphicFramePr/>
            <p:nvPr/>
          </p:nvGraphicFramePr>
          <p:xfrm>
            <a:off x="2362320" y="1752480"/>
            <a:ext cx="5638680" cy="10285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62320" y="1752480"/>
                      <a:ext cx="563868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4038480" y="2742840"/>
            <a:ext cx="3962520" cy="11066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38480" y="2742840"/>
                      <a:ext cx="3962520" cy="11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9" name=""/>
          <p:cNvGraphicFramePr/>
          <p:nvPr/>
        </p:nvGraphicFramePr>
        <p:xfrm>
          <a:off x="4495680" y="5638680"/>
          <a:ext cx="2971800" cy="1035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5638680"/>
                    <a:ext cx="29718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2743200" y="4114800"/>
            <a:ext cx="5715000" cy="1295280"/>
            <a:chOff x="2743200" y="4114800"/>
            <a:chExt cx="5715000" cy="1295280"/>
          </a:xfrm>
        </p:grpSpPr>
        <p:sp>
          <p:nvSpPr>
            <p:cNvPr id="122" name=""/>
            <p:cNvSpPr/>
            <p:nvPr/>
          </p:nvSpPr>
          <p:spPr>
            <a:xfrm>
              <a:off x="2743200" y="4114800"/>
              <a:ext cx="5715000" cy="1295280"/>
            </a:xfrm>
            <a:prstGeom prst="downArrowCallout">
              <a:avLst>
                <a:gd name="adj1" fmla="val 110314"/>
                <a:gd name="adj2" fmla="val 110304"/>
                <a:gd name="adj3" fmla="val 16667"/>
                <a:gd name="adj4" fmla="val 66667"/>
              </a:avLst>
            </a:prstGeom>
            <a:solidFill>
              <a:srgbClr val="3333cc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19520" y="4191120"/>
              <a:ext cx="5638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o hay trabajo, velocidad nula en interior V.C., variación z pequeñ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04920" y="5715000"/>
            <a:ext cx="35049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H/dt=R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H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304920"/>
            <a:ext cx="845820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 no se consideran variaciones temporales de la temperatura en el interior del fluido, la única variación de calor almacenado en el volumen de control corresponde a la variación de energía interna del agua evaporada= l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m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2971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calor latente de vap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486400" y="2209320"/>
            <a:ext cx="228600" cy="83844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038480"/>
            <a:ext cx="708660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= 2,501*10</a:t>
            </a:r>
            <a:r>
              <a:rPr b="1" lang="es-CL" sz="2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- 2370*T       (Joule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257440" y="4419360"/>
            <a:ext cx="685800" cy="53316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4800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temperatura en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715000"/>
            <a:ext cx="1676520" cy="11430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90920" y="5715000"/>
          <a:ext cx="4419360" cy="81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715000"/>
                    <a:ext cx="44193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447920" y="1143000"/>
          <a:ext cx="3581280" cy="112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143000"/>
                    <a:ext cx="3581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876920" y="4038480"/>
          <a:ext cx="2971800" cy="1973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4038480"/>
                    <a:ext cx="297180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" name=""/>
          <p:cNvGrpSpPr/>
          <p:nvPr/>
        </p:nvGrpSpPr>
        <p:grpSpPr>
          <a:xfrm>
            <a:off x="2880000" y="1838880"/>
            <a:ext cx="3383280" cy="2952360"/>
            <a:chOff x="2880000" y="1838880"/>
            <a:chExt cx="3383280" cy="2952360"/>
          </a:xfrm>
        </p:grpSpPr>
        <p:sp>
          <p:nvSpPr>
            <p:cNvPr id="139" name=""/>
            <p:cNvSpPr/>
            <p:nvPr/>
          </p:nvSpPr>
          <p:spPr>
            <a:xfrm rot="3628200">
              <a:off x="3695040" y="1866960"/>
              <a:ext cx="1752840" cy="2895480"/>
            </a:xfrm>
            <a:custGeom>
              <a:avLst/>
              <a:gdLst>
                <a:gd name="textAreaLeft" fmla="*/ 273600 w 1752840"/>
                <a:gd name="textAreaRight" fmla="*/ 1533960 w 1752840"/>
                <a:gd name="textAreaTop" fmla="*/ 723960 h 2895480"/>
                <a:gd name="textAreaBottom" fmla="*/ 217188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9812000">
              <a:off x="3970800" y="3025440"/>
              <a:ext cx="1371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i 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G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9:42:34Z</dcterms:created>
  <dc:creator>Ximena Vargas</dc:creator>
  <dc:description/>
  <dc:language>en-US</dc:language>
  <cp:lastModifiedBy>xv</cp:lastModifiedBy>
  <dcterms:modified xsi:type="dcterms:W3CDTF">2005-08-30T16:05:06Z</dcterms:modified>
  <cp:revision>17</cp:revision>
  <dc:subject/>
  <dc:title>Sin título de diapositiva</dc:title>
</cp:coreProperties>
</file>