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49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46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6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39.wmf" ContentType="image/x-wmf"/>
  <Override PartName="/ppt/media/image9.wmf" ContentType="image/x-wmf"/>
  <Override PartName="/ppt/media/image41.png" ContentType="image/png"/>
  <Override PartName="/ppt/media/image48.jpeg" ContentType="image/jpeg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47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C6C-5610-404A-A79B-3039CA9F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208-17A8-4F6E-90C6-33091FE9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931-92C5-4173-AF7A-68E2BB94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8F9-CCD0-423D-BD41-1B0A71FC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3BC-108A-4688-9D6F-E476083E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655-6B1F-4208-8340-C4ACC2FC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724-F6EA-436D-8FD8-53BAA3A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426-271D-4C9A-9281-C45A09DB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32D-7D17-4BA8-9282-198944DF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65F-8B8E-4BAB-9B63-05C133C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2AF-B80B-4E67-BB3D-0D9BD4E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BF-F182-48F5-944E-AB64761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721-3527-4964-9337-7380B4118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7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37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666880"/>
            <a:ext cx="792468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transportar el vapor lejos de la superficie 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gradiente de humedad 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44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181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22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25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34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298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07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25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347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348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362" name="images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371600"/>
            <a:ext cx="73911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 una cubierta vegetal, para un PEA dado, cuando la disponibilidad de humedad no es 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6483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366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75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82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98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15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9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22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39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5-08-30T16:05:06Z</dcterms:modified>
  <cp:revision>17</cp:revision>
  <dc:subject/>
  <dc:title>Sin título de diapositiva</dc:title>
</cp:coreProperties>
</file>