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481-29DA-4E6F-B976-A6013FC0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9AE-729E-47A2-9662-4F7E4FAB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A74-2873-42EF-862F-8DD0A620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E73-611B-440C-AFC1-25B03E56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64B-8617-4DCF-B177-EA9D35E3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31F-F906-426D-A420-5EC5E7F2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051-648B-4B9C-8D03-CAD5A9B5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F1F-5477-40DB-B3D9-DCDB494F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6AE-DF60-4F5E-B3BD-DF2C48CA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93E-8378-4D9C-B83F-223C13BE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1CD-2CE0-4EAD-9AAD-E23836A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A6-E045-41F8-82DE-C902F62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94B-515C-4934-AC22-EE42BD2B3F2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5-08-16T00:06:00Z</dcterms:modified>
  <cp:revision>10</cp:revision>
  <dc:subject/>
  <dc:title>CURVAS PDA</dc:title>
</cp:coreProperties>
</file>