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A42-752E-49EB-BEFA-588C9592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111-C66F-4EC1-9609-22859646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D9E-6941-408E-949E-DAE75E45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69E-7FD6-4D3E-A831-4D4A916C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DCD-DE47-4E89-A3F6-D95D28E7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D09-05FB-4CF5-AEA1-CCD2279A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23C-02BA-43C2-B70E-F2F30C4A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26B-9D51-473B-915D-14332241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DBE-E4BC-4A30-B203-CAC24F68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045-91B2-4D43-A7D6-BA0872F1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BBD-BAF6-49EB-BCE3-B64D9BD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BED-0471-49E2-9603-0CE063FF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1D53-8C4B-4EEC-BF7E-0FAA617F7D2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172200"/>
            <a:ext cx="670572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URVAS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cip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12573000" cy="1670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-3429000" y="3124080"/>
            <a:ext cx="12573000" cy="167004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6172200" y="5334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52280" y="3808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12420720" cy="1914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76720" y="3276720"/>
            <a:ext cx="12420720" cy="19144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7924680" y="56386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76280" cy="3429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4114800" y="3429000"/>
            <a:ext cx="1307628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380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609480" y="24382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880"/>
                </a:moveTo>
                <a:lnTo>
                  <a:pt x="7301" y="12880"/>
                </a:lnTo>
                <a:lnTo>
                  <a:pt x="7301" y="18215"/>
                </a:lnTo>
                <a:cubicBezTo>
                  <a:pt x="7301" y="19138"/>
                  <a:pt x="8102" y="19869"/>
                  <a:pt x="9138" y="19869"/>
                </a:cubicBezTo>
                <a:lnTo>
                  <a:pt x="10800" y="19869"/>
                </a:lnTo>
                <a:cubicBezTo>
                  <a:pt x="11836" y="19869"/>
                  <a:pt x="12636" y="19138"/>
                  <a:pt x="12636" y="18215"/>
                </a:cubicBezTo>
                <a:lnTo>
                  <a:pt x="12636" y="12880"/>
                </a:lnTo>
                <a:lnTo>
                  <a:pt x="10800" y="12880"/>
                </a:lnTo>
                <a:lnTo>
                  <a:pt x="14308" y="9372"/>
                </a:lnTo>
                <a:lnTo>
                  <a:pt x="17981" y="12880"/>
                </a:lnTo>
                <a:lnTo>
                  <a:pt x="16144" y="12880"/>
                </a:lnTo>
                <a:lnTo>
                  <a:pt x="16144" y="18215"/>
                </a:lnTo>
                <a:cubicBezTo>
                  <a:pt x="16144" y="20983"/>
                  <a:pt x="13568" y="23542"/>
                  <a:pt x="10800" y="23542"/>
                </a:cubicBezTo>
                <a:lnTo>
                  <a:pt x="9138" y="23542"/>
                </a:lnTo>
                <a:cubicBezTo>
                  <a:pt x="6370" y="23542"/>
                  <a:pt x="3794" y="20983"/>
                  <a:pt x="3794" y="1821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8862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7621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240" y="1447920"/>
            <a:ext cx="9113760" cy="377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762120" y="304920"/>
          <a:ext cx="7696080" cy="59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6960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457200"/>
            <a:ext cx="746748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mplean para analizar la distribución espacial y temporal de la precipitación caída durante una tormen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048120"/>
            <a:ext cx="7467480" cy="247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on familias de curvas que indican la precipitación (o intensidad) media máxima caída sobre distintas magnitudes de área de la cuenca, llevando como parámetro el intervalo de tiempo o duración de la lluv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838080"/>
            <a:ext cx="7315200" cy="192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Implican un trabajo laborioso y tedioso, aún con computador resulta a menudo impracticable por limitaciones en la calidad y cantidad de la información pluviométrica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962520"/>
            <a:ext cx="670536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étodo simplificado (algo arbitrario) que tiene ventaja de ser normalizado permitiendo comparar entre los distint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819520"/>
            <a:ext cx="152388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685800" y="685800"/>
            <a:ext cx="6553080" cy="1557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un plano de la cuenca, se ubican estaciones pluviométricas. Se indica cantidad total de precipitación caída durante tormenta en estu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1828800" y="2895480"/>
            <a:ext cx="6172200" cy="1191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ediante algún criterio (polígonos de Thiessen) se determina zona representativa de cada es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419720"/>
            <a:ext cx="8229600" cy="825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 dibuja un plano de isoyetas de la precipitación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61048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733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5181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72000" y="914400"/>
            <a:ext cx="533520" cy="1066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133720"/>
            <a:ext cx="7632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676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5960" cy="759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581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38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3434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502920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2438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3200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4114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38480" y="48769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2286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1981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648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1143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4956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867280"/>
            <a:ext cx="76320" cy="76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581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Verdana"/>
              </a:rPr>
              <a:t>1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971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3276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48769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5791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5410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990720"/>
            <a:ext cx="609840" cy="7617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133720" y="1752480"/>
            <a:ext cx="1143000" cy="14479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1752480"/>
            <a:ext cx="838080" cy="3812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048120" y="2590560"/>
            <a:ext cx="106668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114440" y="2590560"/>
            <a:ext cx="762120" cy="16002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81080"/>
            <a:ext cx="1905120" cy="9907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0" y="304920"/>
            <a:ext cx="838080" cy="16761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114800" y="1981080"/>
            <a:ext cx="457200" cy="15264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76920" y="2971440"/>
            <a:ext cx="1600200" cy="1143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23920" y="4419360"/>
            <a:ext cx="381240" cy="1523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24280" y="4114800"/>
            <a:ext cx="152640" cy="3808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43400"/>
            <a:ext cx="14475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477120" y="2895480"/>
            <a:ext cx="1218960" cy="763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200400"/>
            <a:ext cx="914400" cy="53352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343400"/>
            <a:ext cx="457200" cy="9144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733920"/>
            <a:ext cx="228600" cy="6094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85800" y="3200400"/>
            <a:ext cx="144792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42640" y="5028840"/>
            <a:ext cx="1676520" cy="2286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5257800"/>
            <a:ext cx="457200" cy="838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1680" y="3808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En tormentas simples la distribución de Pp tiende a forma gau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38862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isoyetas tienden a ser elí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5510400">
            <a:off x="7600680" y="2381040"/>
            <a:ext cx="1181160" cy="1295280"/>
          </a:xfrm>
          <a:custGeom>
            <a:avLst/>
            <a:gdLst>
              <a:gd name="textAreaLeft" fmla="*/ 184320 w 1181160"/>
              <a:gd name="textAreaRight" fmla="*/ 1033560 w 118116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27040" y="-647280"/>
            <a:ext cx="6863040" cy="7803720"/>
            <a:chOff x="527040" y="-647280"/>
            <a:chExt cx="6863040" cy="7803720"/>
          </a:xfrm>
        </p:grpSpPr>
        <p:sp>
          <p:nvSpPr>
            <p:cNvPr id="189" name=""/>
            <p:cNvSpPr/>
            <p:nvPr/>
          </p:nvSpPr>
          <p:spPr>
            <a:xfrm rot="17959800">
              <a:off x="649800" y="1177200"/>
              <a:ext cx="6616800" cy="41544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280" y="396252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84440" y="981360"/>
            <a:ext cx="4538880" cy="4897080"/>
            <a:chOff x="1684440" y="981360"/>
            <a:chExt cx="4538880" cy="4897080"/>
          </a:xfrm>
        </p:grpSpPr>
        <p:sp>
          <p:nvSpPr>
            <p:cNvPr id="192" name=""/>
            <p:cNvSpPr/>
            <p:nvPr/>
          </p:nvSpPr>
          <p:spPr>
            <a:xfrm rot="18298800">
              <a:off x="1895400" y="2099880"/>
              <a:ext cx="4116240" cy="265932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38480" y="1371600"/>
              <a:ext cx="53352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563560" y="2128320"/>
            <a:ext cx="2596320" cy="2867040"/>
            <a:chOff x="2563560" y="2128320"/>
            <a:chExt cx="2596320" cy="2867040"/>
          </a:xfrm>
        </p:grpSpPr>
        <p:sp>
          <p:nvSpPr>
            <p:cNvPr id="195" name=""/>
            <p:cNvSpPr/>
            <p:nvPr/>
          </p:nvSpPr>
          <p:spPr>
            <a:xfrm rot="18298800">
              <a:off x="2605680" y="2856240"/>
              <a:ext cx="2511720" cy="141120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76720" y="2514600"/>
              <a:ext cx="53316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505320" y="3291840"/>
            <a:ext cx="727920" cy="855360"/>
            <a:chOff x="3505320" y="3291840"/>
            <a:chExt cx="727920" cy="855360"/>
          </a:xfrm>
        </p:grpSpPr>
        <p:sp>
          <p:nvSpPr>
            <p:cNvPr id="198" name=""/>
            <p:cNvSpPr/>
            <p:nvPr/>
          </p:nvSpPr>
          <p:spPr>
            <a:xfrm rot="18298800">
              <a:off x="3657600" y="3429000"/>
              <a:ext cx="533520" cy="3808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809880"/>
              <a:ext cx="533160" cy="337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685800"/>
            <a:ext cx="7010280" cy="1557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e adoptan arbitrariamente como magnitudes de área para el análisis, las encerradas por las isoyetas. Se calcula P en cada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8305920" y="16002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10807"/>
                </a:moveTo>
                <a:lnTo>
                  <a:pt x="17806" y="3801"/>
                </a:lnTo>
                <a:lnTo>
                  <a:pt x="17806" y="1781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828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2743200"/>
            <a:ext cx="8153280" cy="4353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Zon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soyeta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rea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P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mm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25*110+65*105)/90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06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12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(90*106,4+1160*87,5)/1250 =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8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335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7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7010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      54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4419720"/>
            <a:ext cx="3962520" cy="2209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029200"/>
            <a:ext cx="4419360" cy="1676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99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28600"/>
            <a:ext cx="380880" cy="4572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00cc99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228600"/>
            <a:ext cx="5257800" cy="657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00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stación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or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219320"/>
            <a:ext cx="5181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838080"/>
            <a:ext cx="0" cy="586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838080"/>
            <a:ext cx="0" cy="579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7621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7924680" y="44956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9294"/>
                </a:moveTo>
                <a:lnTo>
                  <a:pt x="7301" y="9294"/>
                </a:lnTo>
                <a:lnTo>
                  <a:pt x="7301" y="14629"/>
                </a:lnTo>
                <a:cubicBezTo>
                  <a:pt x="7301" y="15552"/>
                  <a:pt x="8102" y="16283"/>
                  <a:pt x="9138" y="16283"/>
                </a:cubicBezTo>
                <a:lnTo>
                  <a:pt x="10800" y="16283"/>
                </a:lnTo>
                <a:cubicBezTo>
                  <a:pt x="11836" y="16283"/>
                  <a:pt x="12636" y="15552"/>
                  <a:pt x="12636" y="14629"/>
                </a:cubicBezTo>
                <a:lnTo>
                  <a:pt x="12636" y="9294"/>
                </a:lnTo>
                <a:lnTo>
                  <a:pt x="10800" y="9294"/>
                </a:lnTo>
                <a:lnTo>
                  <a:pt x="14308" y="5786"/>
                </a:lnTo>
                <a:lnTo>
                  <a:pt x="17981" y="9294"/>
                </a:lnTo>
                <a:lnTo>
                  <a:pt x="16144" y="9294"/>
                </a:lnTo>
                <a:lnTo>
                  <a:pt x="16144" y="14629"/>
                </a:lnTo>
                <a:cubicBezTo>
                  <a:pt x="16144" y="17397"/>
                  <a:pt x="13568" y="19956"/>
                  <a:pt x="10800" y="19956"/>
                </a:cubicBezTo>
                <a:lnTo>
                  <a:pt x="9138" y="19956"/>
                </a:lnTo>
                <a:cubicBezTo>
                  <a:pt x="6370" y="19956"/>
                  <a:pt x="3794" y="17397"/>
                  <a:pt x="3794" y="1462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1:14:08Z</dcterms:created>
  <dc:creator>Ximena Vargas</dc:creator>
  <dc:description/>
  <dc:language>en-US</dc:language>
  <cp:lastModifiedBy>xv</cp:lastModifiedBy>
  <dcterms:modified xsi:type="dcterms:W3CDTF">2005-08-16T00:06:00Z</dcterms:modified>
  <cp:revision>10</cp:revision>
  <dc:subject/>
  <dc:title>CURVAS PDA</dc:title>
</cp:coreProperties>
</file>