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C11C-285C-4A70-9EAA-E110945A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EF13-FE52-4717-AF1D-4E437F35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B164-F640-441F-B029-94F0F39C2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F411-624A-4000-B000-48507DD94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0E59-B595-4E4B-9621-5CCA94F8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E8A2-601D-48AF-9DD3-A91FA0F3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4429-AD40-44BC-8C58-847BCD0A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5269-CB08-4925-AFCF-08187D09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3C5B-05D2-4409-9C1B-3E52DE46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AED0-BB3B-4754-BEE2-77388D9C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B697-8348-4CFB-B49E-4094F61C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5D6E-2826-4AD8-8CB9-AF9B138E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DEAA-1DF6-4E32-9853-39B58B6FA05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172200"/>
            <a:ext cx="670572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URVAS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recipi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u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3808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12573000" cy="1670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-3429000" y="3124080"/>
            <a:ext cx="12573000" cy="1670040"/>
          </a:xfrm>
          <a:prstGeom prst="rect">
            <a:avLst/>
          </a:prstGeom>
          <a:ln w="0">
            <a:noFill/>
          </a:ln>
        </p:spPr>
      </p:pic>
      <p:sp>
        <p:nvSpPr>
          <p:cNvPr id="217" name="">
            <a:hlinkClick r:id="rId3" action="ppaction://hlinksldjump"/>
          </p:cNvPr>
          <p:cNvSpPr/>
          <p:nvPr/>
        </p:nvSpPr>
        <p:spPr>
          <a:xfrm>
            <a:off x="6172200" y="5334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52280" y="38088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12420720" cy="19144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-3276720" y="3276720"/>
            <a:ext cx="12420720" cy="1914480"/>
          </a:xfrm>
          <a:prstGeom prst="rect">
            <a:avLst/>
          </a:prstGeom>
          <a:ln w="0">
            <a:noFill/>
          </a:ln>
        </p:spPr>
      </p:pic>
      <p:sp>
        <p:nvSpPr>
          <p:cNvPr id="221" name="">
            <a:hlinkClick r:id="rId3" action="ppaction://hlinksldjump"/>
          </p:cNvPr>
          <p:cNvSpPr/>
          <p:nvPr/>
        </p:nvSpPr>
        <p:spPr>
          <a:xfrm>
            <a:off x="7924680" y="56386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7493"/>
                </a:moveTo>
                <a:lnTo>
                  <a:pt x="8845" y="7493"/>
                </a:lnTo>
                <a:lnTo>
                  <a:pt x="8845" y="12828"/>
                </a:lnTo>
                <a:cubicBezTo>
                  <a:pt x="8845" y="13751"/>
                  <a:pt x="9646" y="14482"/>
                  <a:pt x="10681" y="14482"/>
                </a:cubicBezTo>
                <a:lnTo>
                  <a:pt x="12344" y="14482"/>
                </a:lnTo>
                <a:cubicBezTo>
                  <a:pt x="13380" y="14482"/>
                  <a:pt x="14180" y="13751"/>
                  <a:pt x="14180" y="12828"/>
                </a:cubicBezTo>
                <a:lnTo>
                  <a:pt x="14180" y="7493"/>
                </a:lnTo>
                <a:lnTo>
                  <a:pt x="12344" y="7493"/>
                </a:lnTo>
                <a:lnTo>
                  <a:pt x="15851" y="3985"/>
                </a:lnTo>
                <a:lnTo>
                  <a:pt x="19524" y="7493"/>
                </a:lnTo>
                <a:lnTo>
                  <a:pt x="17688" y="7493"/>
                </a:lnTo>
                <a:lnTo>
                  <a:pt x="17688" y="12828"/>
                </a:lnTo>
                <a:cubicBezTo>
                  <a:pt x="17688" y="15596"/>
                  <a:pt x="15112" y="18155"/>
                  <a:pt x="12344" y="18155"/>
                </a:cubicBezTo>
                <a:lnTo>
                  <a:pt x="10681" y="18155"/>
                </a:lnTo>
                <a:cubicBezTo>
                  <a:pt x="7914" y="18155"/>
                  <a:pt x="5337" y="15596"/>
                  <a:pt x="5337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76280" cy="3429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-4114800" y="3429000"/>
            <a:ext cx="13076280" cy="3429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280" y="3808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3" action="ppaction://hlinksldjump"/>
          </p:cNvPr>
          <p:cNvSpPr/>
          <p:nvPr/>
        </p:nvSpPr>
        <p:spPr>
          <a:xfrm>
            <a:off x="609480" y="243828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" w="21600" h="32375">
                <a:moveTo>
                  <a:pt x="3794" y="12880"/>
                </a:moveTo>
                <a:lnTo>
                  <a:pt x="7301" y="12880"/>
                </a:lnTo>
                <a:lnTo>
                  <a:pt x="7301" y="18215"/>
                </a:lnTo>
                <a:cubicBezTo>
                  <a:pt x="7301" y="19138"/>
                  <a:pt x="8102" y="19869"/>
                  <a:pt x="9138" y="19869"/>
                </a:cubicBezTo>
                <a:lnTo>
                  <a:pt x="10800" y="19869"/>
                </a:lnTo>
                <a:cubicBezTo>
                  <a:pt x="11836" y="19869"/>
                  <a:pt x="12636" y="19138"/>
                  <a:pt x="12636" y="18215"/>
                </a:cubicBezTo>
                <a:lnTo>
                  <a:pt x="12636" y="12880"/>
                </a:lnTo>
                <a:lnTo>
                  <a:pt x="10800" y="12880"/>
                </a:lnTo>
                <a:lnTo>
                  <a:pt x="14308" y="9372"/>
                </a:lnTo>
                <a:lnTo>
                  <a:pt x="17981" y="12880"/>
                </a:lnTo>
                <a:lnTo>
                  <a:pt x="16144" y="12880"/>
                </a:lnTo>
                <a:lnTo>
                  <a:pt x="16144" y="18215"/>
                </a:lnTo>
                <a:cubicBezTo>
                  <a:pt x="16144" y="20983"/>
                  <a:pt x="13568" y="23542"/>
                  <a:pt x="10800" y="23542"/>
                </a:cubicBezTo>
                <a:lnTo>
                  <a:pt x="9138" y="23542"/>
                </a:lnTo>
                <a:cubicBezTo>
                  <a:pt x="6370" y="23542"/>
                  <a:pt x="3794" y="20983"/>
                  <a:pt x="3794" y="18215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38862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0880" y="76212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0240" y="1447920"/>
            <a:ext cx="9113760" cy="3771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762120" y="304920"/>
          <a:ext cx="7696080" cy="590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04920"/>
                    <a:ext cx="7696080" cy="59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457200"/>
            <a:ext cx="7467480" cy="1191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emplean para analizar la distribución espacial y temporal de la precipitación caída durante una tormen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048120"/>
            <a:ext cx="7467480" cy="2478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on familias de curvas que indican la precipitación (o intensidad) media máxima caída sobre distintas magnitudes de área de la cuenca, llevando como parámetro el intervalo de tiempo o duración de la lluv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838080"/>
            <a:ext cx="7315200" cy="1922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Implican un trabajo laborioso y tedioso, aún con computador resulta a menudo impracticable por limitaciones en la calidad y cantidad de la información pluviométrica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3962520"/>
            <a:ext cx="6705360" cy="1557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99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método simplificado (algo arbitrario) que tiene ventaja de ser normalizado permitiendo comparar entre los distintos resul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2819520"/>
            <a:ext cx="1523880" cy="9144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685800" y="685800"/>
            <a:ext cx="6553080" cy="1557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00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 un plano de la cuenca, se ubican estaciones pluviométricas. Se indica cantidad total de precipitación caída durante tormenta en estu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1828800" y="2895480"/>
            <a:ext cx="6172200" cy="11912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Mediante algún criterio (polígonos de Thiessen) se determina zona representativa de cada es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419720"/>
            <a:ext cx="8229600" cy="8254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3333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 dibuja un plano de isoyetas de la precipitación to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0" y="2133720"/>
            <a:ext cx="7632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1676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838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3434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50292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24382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3200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4876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1371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2286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1981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4648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4495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1143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44956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3124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5867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3733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43200" y="2971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3276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5181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0968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5410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8610480" y="5943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0" y="2133720"/>
            <a:ext cx="7632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91320" y="1676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838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43434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50292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24382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3200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4876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1371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2286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1981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4648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4495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1143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44956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124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5867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3733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2971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132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3276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5181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5410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990720"/>
            <a:ext cx="609840" cy="7617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133720" y="1752480"/>
            <a:ext cx="1143000" cy="1447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752480"/>
            <a:ext cx="838080" cy="381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048120" y="2590560"/>
            <a:ext cx="1066680" cy="1143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114800" y="2133720"/>
            <a:ext cx="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4114440" y="2590560"/>
            <a:ext cx="762120" cy="1600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1981080"/>
            <a:ext cx="1905120" cy="99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572000" y="914400"/>
            <a:ext cx="533520" cy="1066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114800" y="1981080"/>
            <a:ext cx="457200" cy="152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876920" y="2971440"/>
            <a:ext cx="1600200" cy="1143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723920" y="4419360"/>
            <a:ext cx="381240" cy="1523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24280" y="4114800"/>
            <a:ext cx="152640" cy="380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4343400"/>
            <a:ext cx="1447560" cy="76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477120" y="2895480"/>
            <a:ext cx="1218960" cy="76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3200400"/>
            <a:ext cx="914400" cy="533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819520" y="4343400"/>
            <a:ext cx="457200" cy="914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3733920"/>
            <a:ext cx="228600" cy="6094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85800" y="3200400"/>
            <a:ext cx="1447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142640" y="5028840"/>
            <a:ext cx="167652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5257800"/>
            <a:ext cx="45720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85345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0" y="2133720"/>
            <a:ext cx="7632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1676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86200" y="838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3434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9880" y="50292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6252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24382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3200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38480" y="4876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1371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2286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1981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4648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4495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57600" y="1143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44956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3124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5867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33920" y="3581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Verdana"/>
              </a:rPr>
              <a:t>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2971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3276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4876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6520" y="5410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990720"/>
            <a:ext cx="609840" cy="7617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133720" y="1752480"/>
            <a:ext cx="1143000" cy="14479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1752480"/>
            <a:ext cx="838080" cy="38124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048120" y="2590560"/>
            <a:ext cx="1066680" cy="11430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720"/>
            <a:ext cx="0" cy="4572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4114440" y="2590560"/>
            <a:ext cx="762120" cy="16002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81080"/>
            <a:ext cx="1905120" cy="9907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572000" y="304920"/>
            <a:ext cx="838080" cy="16761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114800" y="1981080"/>
            <a:ext cx="457200" cy="15264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76920" y="2971440"/>
            <a:ext cx="1600200" cy="11430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4723920" y="4419360"/>
            <a:ext cx="381240" cy="15238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24280" y="4114800"/>
            <a:ext cx="152640" cy="3808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4343400"/>
            <a:ext cx="1447560" cy="763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477120" y="2895480"/>
            <a:ext cx="1218960" cy="763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3200400"/>
            <a:ext cx="914400" cy="5335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819520" y="4343400"/>
            <a:ext cx="457200" cy="9144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8120" y="3733920"/>
            <a:ext cx="228600" cy="6094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85800" y="3200400"/>
            <a:ext cx="144792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1142640" y="5028840"/>
            <a:ext cx="1676520" cy="2286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5257800"/>
            <a:ext cx="457200" cy="8380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81680" y="3808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05720" y="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En tormentas simples la distribución de Pp tiende a forma gauss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388620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isoyetas tienden a ser elíp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5510400">
            <a:off x="7600680" y="2381040"/>
            <a:ext cx="1181160" cy="1295280"/>
          </a:xfrm>
          <a:custGeom>
            <a:avLst/>
            <a:gdLst>
              <a:gd name="textAreaLeft" fmla="*/ 184320 w 1181160"/>
              <a:gd name="textAreaRight" fmla="*/ 1033560 w 118116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99ccff"/>
              </a:gs>
            </a:gsLst>
            <a:lin ang="13500000"/>
          </a:gra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27040" y="-647280"/>
            <a:ext cx="6863040" cy="7803720"/>
            <a:chOff x="527040" y="-647280"/>
            <a:chExt cx="6863040" cy="7803720"/>
          </a:xfrm>
        </p:grpSpPr>
        <p:sp>
          <p:nvSpPr>
            <p:cNvPr id="189" name=""/>
            <p:cNvSpPr/>
            <p:nvPr/>
          </p:nvSpPr>
          <p:spPr>
            <a:xfrm rot="17959800">
              <a:off x="649800" y="1177200"/>
              <a:ext cx="6616800" cy="41544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95280" y="3962520"/>
              <a:ext cx="5335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684440" y="981360"/>
            <a:ext cx="4538880" cy="4897080"/>
            <a:chOff x="1684440" y="981360"/>
            <a:chExt cx="4538880" cy="4897080"/>
          </a:xfrm>
        </p:grpSpPr>
        <p:sp>
          <p:nvSpPr>
            <p:cNvPr id="192" name=""/>
            <p:cNvSpPr/>
            <p:nvPr/>
          </p:nvSpPr>
          <p:spPr>
            <a:xfrm rot="18298800">
              <a:off x="1895400" y="2099880"/>
              <a:ext cx="4116240" cy="26593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38480" y="1371600"/>
              <a:ext cx="5335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563560" y="2128320"/>
            <a:ext cx="2596320" cy="2867040"/>
            <a:chOff x="2563560" y="2128320"/>
            <a:chExt cx="2596320" cy="2867040"/>
          </a:xfrm>
        </p:grpSpPr>
        <p:sp>
          <p:nvSpPr>
            <p:cNvPr id="195" name=""/>
            <p:cNvSpPr/>
            <p:nvPr/>
          </p:nvSpPr>
          <p:spPr>
            <a:xfrm rot="18298800">
              <a:off x="2605680" y="2856240"/>
              <a:ext cx="2511720" cy="14112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76720" y="2514600"/>
              <a:ext cx="53316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505320" y="3291840"/>
            <a:ext cx="727920" cy="855360"/>
            <a:chOff x="3505320" y="3291840"/>
            <a:chExt cx="727920" cy="855360"/>
          </a:xfrm>
        </p:grpSpPr>
        <p:sp>
          <p:nvSpPr>
            <p:cNvPr id="198" name=""/>
            <p:cNvSpPr/>
            <p:nvPr/>
          </p:nvSpPr>
          <p:spPr>
            <a:xfrm rot="18298800">
              <a:off x="3657600" y="3429000"/>
              <a:ext cx="533520" cy="3808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05320" y="3809880"/>
              <a:ext cx="533160" cy="337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14400" y="685800"/>
            <a:ext cx="7010280" cy="1557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99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e adoptan arbitrariamente como magnitudes de área para el análisis, las encerradas por las isoyetas. Se calcula P en cada á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previousslide"/>
          </p:cNvPr>
          <p:cNvSpPr/>
          <p:nvPr/>
        </p:nvSpPr>
        <p:spPr>
          <a:xfrm>
            <a:off x="8305920" y="16002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10807"/>
                </a:moveTo>
                <a:lnTo>
                  <a:pt x="17806" y="3801"/>
                </a:lnTo>
                <a:lnTo>
                  <a:pt x="17806" y="1781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1828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2743200"/>
            <a:ext cx="8153280" cy="4353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Zona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soyeta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rea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P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mm)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Km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(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0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9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(25*110+65*105)/90=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06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75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25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(90*106,4+1160*87,5)/1250 =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88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335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71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V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701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54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4419720"/>
            <a:ext cx="3962520" cy="22096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9999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91120" y="5029200"/>
            <a:ext cx="4419360" cy="16765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9999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534520" y="228600"/>
            <a:ext cx="380880" cy="4572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219320" y="228600"/>
            <a:ext cx="5257800" cy="6577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stación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ora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8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4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1219320"/>
            <a:ext cx="5181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33920" y="83808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24280" y="838080"/>
            <a:ext cx="0" cy="586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38680" y="83808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7621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7924680" y="44956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9294"/>
                </a:moveTo>
                <a:lnTo>
                  <a:pt x="7301" y="9294"/>
                </a:lnTo>
                <a:lnTo>
                  <a:pt x="7301" y="14629"/>
                </a:lnTo>
                <a:cubicBezTo>
                  <a:pt x="7301" y="15552"/>
                  <a:pt x="8102" y="16283"/>
                  <a:pt x="9138" y="16283"/>
                </a:cubicBezTo>
                <a:lnTo>
                  <a:pt x="10800" y="16283"/>
                </a:lnTo>
                <a:cubicBezTo>
                  <a:pt x="11836" y="16283"/>
                  <a:pt x="12636" y="15552"/>
                  <a:pt x="12636" y="14629"/>
                </a:cubicBezTo>
                <a:lnTo>
                  <a:pt x="12636" y="9294"/>
                </a:lnTo>
                <a:lnTo>
                  <a:pt x="10800" y="9294"/>
                </a:lnTo>
                <a:lnTo>
                  <a:pt x="14308" y="5786"/>
                </a:lnTo>
                <a:lnTo>
                  <a:pt x="17981" y="9294"/>
                </a:lnTo>
                <a:lnTo>
                  <a:pt x="16144" y="9294"/>
                </a:lnTo>
                <a:lnTo>
                  <a:pt x="16144" y="14629"/>
                </a:lnTo>
                <a:cubicBezTo>
                  <a:pt x="16144" y="17397"/>
                  <a:pt x="13568" y="19956"/>
                  <a:pt x="10800" y="19956"/>
                </a:cubicBezTo>
                <a:lnTo>
                  <a:pt x="9138" y="19956"/>
                </a:lnTo>
                <a:cubicBezTo>
                  <a:pt x="6370" y="19956"/>
                  <a:pt x="3794" y="17397"/>
                  <a:pt x="3794" y="1462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21:14:08Z</dcterms:created>
  <dc:creator>Ximena Vargas</dc:creator>
  <dc:description/>
  <dc:language>en-US</dc:language>
  <cp:lastModifiedBy>xv</cp:lastModifiedBy>
  <dcterms:modified xsi:type="dcterms:W3CDTF">2005-08-16T00:06:00Z</dcterms:modified>
  <cp:revision>10</cp:revision>
  <dc:subject/>
  <dc:title>CURVAS PDA</dc:title>
</cp:coreProperties>
</file>