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7DA-38B3-4DAC-BECB-111F2CB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9D0-AEB1-4061-9FB3-2A156B46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6FA-2A03-4A3D-BF7F-638DEC3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D77-381D-48EB-874A-EE558031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970-5753-4508-B6C7-4F4C5B0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D96-A03A-4761-B3C2-E6A2B59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E3D-53B6-4608-8962-0ABF9E53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548-16B9-4559-AA0D-EC067296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E03-8FEE-4938-BE6C-7E01FE04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CF4-DE04-4044-ADC4-F59EE84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57B-4C8A-45BF-9F76-CF6AA0E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959-2EC2-4D90-9818-ECDEABC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5D0-6D66-4B4B-AD6C-9F51AFD7990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5-08-16T00:06:00Z</dcterms:modified>
  <cp:revision>10</cp:revision>
  <dc:subject/>
  <dc:title>CURVAS PDA</dc:title>
</cp:coreProperties>
</file>