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2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8.png" ContentType="image/png"/>
  <Override PartName="/ppt/media/image7.jpeg" ContentType="image/jpeg"/>
  <Override PartName="/ppt/media/image38.jpeg" ContentType="image/jpeg"/>
  <Override PartName="/ppt/media/image3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2.png" ContentType="image/png"/>
  <Override PartName="/ppt/media/image34.jpeg" ContentType="image/jpeg"/>
  <Override PartName="/ppt/media/image20.png" ContentType="image/png"/>
  <Override PartName="/ppt/media/image36.png" ContentType="image/png"/>
  <Override PartName="/ppt/media/image3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5.jpeg" ContentType="image/jpeg"/>
  <Override PartName="/ppt/media/image46.wmf" ContentType="image/x-wmf"/>
  <Override PartName="/ppt/media/image49.jpeg" ContentType="image/jpeg"/>
  <Override PartName="/ppt/media/image50.wmf" ContentType="image/x-wmf"/>
  <Override PartName="/ppt/media/image54.wmf" ContentType="image/x-wmf"/>
  <Override PartName="/ppt/media/image10.jpeg" ContentType="image/jpeg"/>
  <Override PartName="/ppt/media/image51.png" ContentType="image/png"/>
  <Override PartName="/ppt/media/image53.jpeg" ContentType="image/jpeg"/>
  <Override PartName="/ppt/media/image47.wmf" ContentType="image/x-wmf"/>
  <Override PartName="/ppt/media/image31.jpeg" ContentType="image/jpeg"/>
  <Override PartName="/ppt/media/image4.jpeg" ContentType="image/jpeg"/>
  <Override PartName="/ppt/media/image30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786-7F72-4D9F-A89B-54523D66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0F5-3E5C-4DA6-9EBA-9757158A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417-CCF3-4F3D-8590-BA59118B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50A-F3B5-4A04-9E2F-E23AA048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1BD-2B00-467B-AB17-3DA3D8F4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1D7-3BC2-464E-AAF7-A6481805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C1A-5E50-4A87-A86A-BB90709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BA8-4C71-4E58-859A-DB6B8A52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6CE-E053-4F4D-9B7F-DDD98C3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A71-9EC6-46A2-ADBF-3676D19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216-9C8D-4088-81E6-199C54DC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871-0826-49C4-A418-AF1BB6F3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9359-7A71-40A2-9B9C-45521280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hyperlink" Target="http://www.geology.buffalo.edu/courses/gly313/Lecture/2TIPBUK.HT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grometeorology.org/fileadmin/insam/images/draw31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agrometeorology.org/index.php?id=38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EDICION DE LA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971800" y="3200400"/>
            <a:ext cx="4723560" cy="2666520"/>
            <a:chOff x="2971800" y="3200400"/>
            <a:chExt cx="4723560" cy="2666520"/>
          </a:xfrm>
        </p:grpSpPr>
        <p:sp>
          <p:nvSpPr>
            <p:cNvPr id="43" name=""/>
            <p:cNvSpPr/>
            <p:nvPr/>
          </p:nvSpPr>
          <p:spPr>
            <a:xfrm>
              <a:off x="5071320" y="3200400"/>
              <a:ext cx="1311480" cy="10159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71800" y="3581280"/>
              <a:ext cx="2755440" cy="1397160"/>
            </a:xfrm>
            <a:prstGeom prst="cloudCallout">
              <a:avLst>
                <a:gd name="adj1" fmla="val 18152"/>
                <a:gd name="adj2" fmla="val -375379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39920" y="3581280"/>
              <a:ext cx="2624040" cy="1269720"/>
            </a:xfrm>
            <a:prstGeom prst="cloudCallout">
              <a:avLst>
                <a:gd name="adj1" fmla="val 21250"/>
                <a:gd name="adj2" fmla="val -420000"/>
              </a:avLst>
            </a:prstGeom>
            <a:gradFill rotWithShape="0">
              <a:gsLst>
                <a:gs pos="0">
                  <a:srgbClr val="454545"/>
                </a:gs>
                <a:gs pos="100000">
                  <a:srgbClr val="96969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64596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27240" y="4978440"/>
              <a:ext cx="1049400" cy="88848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518148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rebuchet MS"/>
              </a:rPr>
              <a:t>Pp se mide en altura de agua (mm): lámina de agua que se acumularía sobre superficie horizontal, si toda la precipitación caída permaneciera donde cay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4624200" cy="437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244680" cy="585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5040" y="6237360"/>
            <a:ext cx="72979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eology.buffalo.edu/courses/gly313/Lecture/2TIPBUK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14400" y="914400"/>
          <a:ext cx="7315200" cy="50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73152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09480" y="457200"/>
          <a:ext cx="7620120" cy="58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76201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nivometr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antalla%20viento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ntalla%20viento%20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814920" cy="2438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813040"/>
            <a:ext cx="38149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adartower" descr=""/>
          <p:cNvPicPr/>
          <p:nvPr/>
        </p:nvPicPr>
        <p:blipFill>
          <a:blip r:embed="rId1"/>
          <a:stretch/>
        </p:blipFill>
        <p:spPr>
          <a:xfrm>
            <a:off x="0" y="380880"/>
            <a:ext cx="452592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Radar3" descr=""/>
          <p:cNvPicPr/>
          <p:nvPr/>
        </p:nvPicPr>
        <p:blipFill>
          <a:blip r:embed="rId2"/>
          <a:stretch/>
        </p:blipFill>
        <p:spPr>
          <a:xfrm>
            <a:off x="3962520" y="14479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atellites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121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914400"/>
            <a:ext cx="152388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066680"/>
            <a:ext cx="1905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1447920"/>
            <a:ext cx="26672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M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200400"/>
            <a:ext cx="2666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3962520"/>
            <a:ext cx="182880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DI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0"/>
            <a:ext cx="3353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91320"/>
            <a:ext cx="2895840" cy="459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UPE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019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4920"/>
            <a:ext cx="685800" cy="45720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3800">
            <a:off x="2209680" y="10663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63800">
            <a:off x="5019840" y="126216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596800">
            <a:off x="6821280" y="2141280"/>
            <a:ext cx="800280" cy="641520"/>
          </a:xfrm>
          <a:prstGeom prst="rightArrow">
            <a:avLst>
              <a:gd name="adj1" fmla="val 50000"/>
              <a:gd name="adj2" fmla="val 3118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8779200">
            <a:off x="3504960" y="411480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8779200">
            <a:off x="6095880" y="38095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880600">
            <a:off x="4190760" y="51051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363800">
            <a:off x="6019920" y="579096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886200"/>
            <a:ext cx="838440" cy="533520"/>
          </a:xfrm>
          <a:prstGeom prst="flowChartMagneticTap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86600" y="457200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600200" y="5486400"/>
            <a:ext cx="1258920" cy="1136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85800" y="819000"/>
            <a:ext cx="59724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4446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Llegando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473440" cy="3633840"/>
          </a:xfrm>
          <a:prstGeom prst="rect">
            <a:avLst/>
          </a:prstGeom>
          <a:ln w="0">
            <a:noFill/>
          </a:ln>
        </p:spPr>
      </p:pic>
      <p:pic>
        <p:nvPicPr>
          <p:cNvPr id="152" name="Refugio1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153" name="Refugio2" descr=""/>
          <p:cNvPicPr/>
          <p:nvPr/>
        </p:nvPicPr>
        <p:blipFill>
          <a:blip r:embed="rId3"/>
          <a:stretch/>
        </p:blipFill>
        <p:spPr>
          <a:xfrm>
            <a:off x="533520" y="3048120"/>
            <a:ext cx="5473440" cy="3633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477120" y="4267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fugio y medición de ruta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utaNieve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5535720" cy="3633840"/>
          </a:xfrm>
          <a:prstGeom prst="rect">
            <a:avLst/>
          </a:prstGeom>
          <a:ln w="0">
            <a:noFill/>
          </a:ln>
        </p:spPr>
      </p:pic>
      <p:pic>
        <p:nvPicPr>
          <p:cNvPr id="156" name="RutaNieve2" descr=""/>
          <p:cNvPicPr/>
          <p:nvPr/>
        </p:nvPicPr>
        <p:blipFill>
          <a:blip r:embed="rId2"/>
          <a:stretch/>
        </p:blipFill>
        <p:spPr>
          <a:xfrm>
            <a:off x="3505320" y="2362320"/>
            <a:ext cx="5462640" cy="365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utaNieve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719440" cy="3657600"/>
          </a:xfrm>
          <a:prstGeom prst="rect">
            <a:avLst/>
          </a:prstGeom>
          <a:ln w="0">
            <a:noFill/>
          </a:ln>
        </p:spPr>
      </p:pic>
      <p:pic>
        <p:nvPicPr>
          <p:cNvPr id="159" name="RutaNieve5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5546880" cy="363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572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utas de n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5800" y="912960"/>
            <a:ext cx="77724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SnowPillow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5572080" cy="3681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2320" y="52578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now Pi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171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176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182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94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Ubicapluv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529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luv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476424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pluvweatherb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987560" cy="2620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0" y="304920"/>
            <a:ext cx="464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Pluviómetro del Weather Bureau. Razón de área entre colector y embudo=1:10</a:t>
            </a:r>
            <a:r>
              <a:rPr b="0" lang="es-ES_trad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dividir por 10 para obtener agua caí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361960" y="838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NivSacram" descr=""/>
          <p:cNvPicPr/>
          <p:nvPr/>
        </p:nvPicPr>
        <p:blipFill>
          <a:blip r:embed="rId3"/>
          <a:stretch/>
        </p:blipFill>
        <p:spPr>
          <a:xfrm>
            <a:off x="3733920" y="990720"/>
            <a:ext cx="2401920" cy="158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00800" y="11430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tipo Sac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nivvertical" descr=""/>
          <p:cNvPicPr/>
          <p:nvPr/>
        </p:nvPicPr>
        <p:blipFill>
          <a:blip r:embed="rId4"/>
          <a:stretch/>
        </p:blipFill>
        <p:spPr>
          <a:xfrm>
            <a:off x="838080" y="3657600"/>
            <a:ext cx="2511720" cy="168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563868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Nivómetro de tubo ver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6035760"/>
            <a:ext cx="4038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Se derrite la nieve (anticongelante CaC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s-ES_tradnl" sz="1400" spc="-1" strike="noStrike">
                <a:solidFill>
                  <a:srgbClr val="000000"/>
                </a:solidFill>
                <a:latin typeface="Trebuchet MS"/>
              </a:rPr>
              <a:t>) y se mide equivalente en agua. Se utiliza hexadecanol o aceite para evitar evap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205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533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FECTO PEND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81280"/>
            <a:ext cx="2819160" cy="838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562720" y="3657240"/>
            <a:ext cx="2514600" cy="7621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80988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3716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71800" y="28195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543800" y="2895480"/>
            <a:ext cx="1447920" cy="914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91320" y="30481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71800" y="236232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91320" y="2514600"/>
            <a:ext cx="19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71600" y="22860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31240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3657600"/>
            <a:ext cx="26668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3581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7543800" y="243828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91320" y="297180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352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81952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960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281952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1055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eno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334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Pluviómetro OC capta mas que terreno 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380880"/>
            <a:ext cx="358128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ORR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r=OB/OC=1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/tg </a:t>
            </a: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83808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752480"/>
            <a:ext cx="2057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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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438280"/>
            <a:ext cx="17524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1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r=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396800">
            <a:off x="3962160" y="190512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114800"/>
            <a:ext cx="4419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99ff"/>
                </a:solidFill>
                <a:latin typeface="Tahoma"/>
              </a:rPr>
              <a:t>En una cuenca efecto de inclinación tiende a compensarse al calcular Pmedia. Solo considerar en estudios de alta pr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849920" y="3824280"/>
            <a:ext cx="3946320" cy="1606680"/>
            <a:chOff x="4849920" y="3824280"/>
            <a:chExt cx="3946320" cy="1606680"/>
          </a:xfrm>
        </p:grpSpPr>
        <p:sp>
          <p:nvSpPr>
            <p:cNvPr id="251" name=""/>
            <p:cNvSpPr/>
            <p:nvPr/>
          </p:nvSpPr>
          <p:spPr>
            <a:xfrm>
              <a:off x="4849920" y="3824280"/>
              <a:ext cx="3946320" cy="1606680"/>
            </a:xfrm>
            <a:custGeom>
              <a:avLst/>
              <a:gdLst/>
              <a:ahLst/>
              <a:rect l="l" t="t" r="r" b="b"/>
              <a:pathLst>
                <a:path w="2486" h="1012">
                  <a:moveTo>
                    <a:pt x="0" y="287"/>
                  </a:moveTo>
                  <a:cubicBezTo>
                    <a:pt x="34" y="299"/>
                    <a:pt x="20" y="289"/>
                    <a:pt x="46" y="326"/>
                  </a:cubicBezTo>
                  <a:cubicBezTo>
                    <a:pt x="57" y="341"/>
                    <a:pt x="78" y="373"/>
                    <a:pt x="78" y="373"/>
                  </a:cubicBezTo>
                  <a:cubicBezTo>
                    <a:pt x="96" y="453"/>
                    <a:pt x="71" y="359"/>
                    <a:pt x="101" y="428"/>
                  </a:cubicBezTo>
                  <a:cubicBezTo>
                    <a:pt x="110" y="448"/>
                    <a:pt x="110" y="488"/>
                    <a:pt x="124" y="506"/>
                  </a:cubicBezTo>
                  <a:cubicBezTo>
                    <a:pt x="136" y="521"/>
                    <a:pt x="163" y="525"/>
                    <a:pt x="179" y="529"/>
                  </a:cubicBezTo>
                  <a:cubicBezTo>
                    <a:pt x="198" y="558"/>
                    <a:pt x="213" y="596"/>
                    <a:pt x="241" y="615"/>
                  </a:cubicBezTo>
                  <a:cubicBezTo>
                    <a:pt x="250" y="642"/>
                    <a:pt x="262" y="671"/>
                    <a:pt x="280" y="693"/>
                  </a:cubicBezTo>
                  <a:cubicBezTo>
                    <a:pt x="304" y="722"/>
                    <a:pt x="303" y="707"/>
                    <a:pt x="319" y="739"/>
                  </a:cubicBezTo>
                  <a:cubicBezTo>
                    <a:pt x="329" y="758"/>
                    <a:pt x="323" y="784"/>
                    <a:pt x="335" y="802"/>
                  </a:cubicBezTo>
                  <a:cubicBezTo>
                    <a:pt x="339" y="809"/>
                    <a:pt x="350" y="808"/>
                    <a:pt x="358" y="810"/>
                  </a:cubicBezTo>
                  <a:cubicBezTo>
                    <a:pt x="390" y="818"/>
                    <a:pt x="420" y="825"/>
                    <a:pt x="452" y="833"/>
                  </a:cubicBezTo>
                  <a:cubicBezTo>
                    <a:pt x="473" y="845"/>
                    <a:pt x="492" y="862"/>
                    <a:pt x="514" y="872"/>
                  </a:cubicBezTo>
                  <a:cubicBezTo>
                    <a:pt x="529" y="879"/>
                    <a:pt x="561" y="888"/>
                    <a:pt x="561" y="888"/>
                  </a:cubicBezTo>
                  <a:cubicBezTo>
                    <a:pt x="632" y="959"/>
                    <a:pt x="597" y="935"/>
                    <a:pt x="724" y="958"/>
                  </a:cubicBezTo>
                  <a:cubicBezTo>
                    <a:pt x="748" y="963"/>
                    <a:pt x="795" y="981"/>
                    <a:pt x="795" y="981"/>
                  </a:cubicBezTo>
                  <a:cubicBezTo>
                    <a:pt x="803" y="986"/>
                    <a:pt x="809" y="993"/>
                    <a:pt x="818" y="997"/>
                  </a:cubicBezTo>
                  <a:cubicBezTo>
                    <a:pt x="833" y="1004"/>
                    <a:pt x="865" y="1012"/>
                    <a:pt x="865" y="1012"/>
                  </a:cubicBezTo>
                  <a:cubicBezTo>
                    <a:pt x="1013" y="995"/>
                    <a:pt x="1161" y="1002"/>
                    <a:pt x="1309" y="989"/>
                  </a:cubicBezTo>
                  <a:cubicBezTo>
                    <a:pt x="1363" y="952"/>
                    <a:pt x="1416" y="950"/>
                    <a:pt x="1480" y="942"/>
                  </a:cubicBezTo>
                  <a:cubicBezTo>
                    <a:pt x="1534" y="914"/>
                    <a:pt x="1524" y="896"/>
                    <a:pt x="1550" y="849"/>
                  </a:cubicBezTo>
                  <a:cubicBezTo>
                    <a:pt x="1577" y="800"/>
                    <a:pt x="1614" y="777"/>
                    <a:pt x="1652" y="739"/>
                  </a:cubicBezTo>
                  <a:cubicBezTo>
                    <a:pt x="1668" y="685"/>
                    <a:pt x="1704" y="698"/>
                    <a:pt x="1698" y="638"/>
                  </a:cubicBezTo>
                  <a:cubicBezTo>
                    <a:pt x="1705" y="595"/>
                    <a:pt x="1687" y="556"/>
                    <a:pt x="1730" y="545"/>
                  </a:cubicBezTo>
                  <a:cubicBezTo>
                    <a:pt x="1761" y="537"/>
                    <a:pt x="1792" y="521"/>
                    <a:pt x="1792" y="521"/>
                  </a:cubicBezTo>
                  <a:cubicBezTo>
                    <a:pt x="1815" y="504"/>
                    <a:pt x="1843" y="486"/>
                    <a:pt x="1870" y="474"/>
                  </a:cubicBezTo>
                  <a:cubicBezTo>
                    <a:pt x="1885" y="467"/>
                    <a:pt x="1901" y="464"/>
                    <a:pt x="1917" y="459"/>
                  </a:cubicBezTo>
                  <a:cubicBezTo>
                    <a:pt x="1925" y="456"/>
                    <a:pt x="1940" y="451"/>
                    <a:pt x="1940" y="451"/>
                  </a:cubicBezTo>
                  <a:cubicBezTo>
                    <a:pt x="1968" y="423"/>
                    <a:pt x="1988" y="391"/>
                    <a:pt x="2010" y="358"/>
                  </a:cubicBezTo>
                  <a:cubicBezTo>
                    <a:pt x="2034" y="320"/>
                    <a:pt x="2083" y="303"/>
                    <a:pt x="2119" y="280"/>
                  </a:cubicBezTo>
                  <a:cubicBezTo>
                    <a:pt x="2135" y="232"/>
                    <a:pt x="2124" y="111"/>
                    <a:pt x="2166" y="69"/>
                  </a:cubicBezTo>
                  <a:cubicBezTo>
                    <a:pt x="2183" y="52"/>
                    <a:pt x="2212" y="58"/>
                    <a:pt x="2236" y="54"/>
                  </a:cubicBezTo>
                  <a:cubicBezTo>
                    <a:pt x="2316" y="0"/>
                    <a:pt x="2360" y="30"/>
                    <a:pt x="2486" y="30"/>
                  </a:cubicBezTo>
                </a:path>
              </a:pathLst>
            </a:custGeom>
            <a:noFill/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86400" y="4800600"/>
              <a:ext cx="76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38880" y="4876920"/>
              <a:ext cx="763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772400" y="388620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6294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09920" y="434340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1722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38320" y="4191120"/>
              <a:ext cx="38124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257800" y="4191120"/>
              <a:ext cx="380880" cy="38088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181480" y="57913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luviómetros capta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63960" y="5181480"/>
            <a:ext cx="470160" cy="1295640"/>
          </a:xfrm>
          <a:custGeom>
            <a:avLst/>
            <a:gdLst/>
            <a:ahLst/>
            <a:rect l="l" t="t" r="r" b="b"/>
            <a:pathLst>
              <a:path w="296" h="816">
                <a:moveTo>
                  <a:pt x="248" y="816"/>
                </a:moveTo>
                <a:cubicBezTo>
                  <a:pt x="124" y="788"/>
                  <a:pt x="0" y="760"/>
                  <a:pt x="8" y="624"/>
                </a:cubicBezTo>
                <a:cubicBezTo>
                  <a:pt x="16" y="488"/>
                  <a:pt x="248" y="104"/>
                  <a:pt x="296" y="0"/>
                </a:cubicBezTo>
              </a:path>
            </a:pathLst>
          </a:custGeom>
          <a:noFill/>
          <a:ln w="93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6324480"/>
            <a:ext cx="3581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99ff"/>
                </a:solidFill>
                <a:latin typeface="Tahoma"/>
              </a:rPr>
              <a:t>Recibe mas 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269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271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274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277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280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343400"/>
            <a:ext cx="228600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LUVI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luvio" descr=""/>
          <p:cNvPicPr/>
          <p:nvPr/>
        </p:nvPicPr>
        <p:blipFill>
          <a:blip r:embed="rId1"/>
          <a:stretch/>
        </p:blipFill>
        <p:spPr>
          <a:xfrm>
            <a:off x="0" y="457200"/>
            <a:ext cx="2349360" cy="4354560"/>
          </a:xfrm>
          <a:prstGeom prst="rect">
            <a:avLst/>
          </a:prstGeom>
          <a:ln w="0">
            <a:noFill/>
          </a:ln>
        </p:spPr>
      </p:pic>
      <p:pic>
        <p:nvPicPr>
          <p:cNvPr id="81" name="raingauge1" descr=""/>
          <p:cNvPicPr/>
          <p:nvPr/>
        </p:nvPicPr>
        <p:blipFill>
          <a:blip r:embed="rId2"/>
          <a:stretch/>
        </p:blipFill>
        <p:spPr>
          <a:xfrm>
            <a:off x="2743200" y="1143000"/>
            <a:ext cx="2260440" cy="3086280"/>
          </a:xfrm>
          <a:prstGeom prst="rect">
            <a:avLst/>
          </a:prstGeom>
          <a:ln w="0">
            <a:noFill/>
          </a:ln>
        </p:spPr>
      </p:pic>
      <p:pic>
        <p:nvPicPr>
          <p:cNvPr id="82" name="rainrecorder" descr=""/>
          <p:cNvPicPr/>
          <p:nvPr/>
        </p:nvPicPr>
        <p:blipFill>
          <a:blip r:embed="rId3"/>
          <a:stretch/>
        </p:blipFill>
        <p:spPr>
          <a:xfrm>
            <a:off x="3276720" y="4457880"/>
            <a:ext cx="4838760" cy="2400120"/>
          </a:xfrm>
          <a:prstGeom prst="rect">
            <a:avLst/>
          </a:prstGeom>
          <a:ln w="0">
            <a:noFill/>
          </a:ln>
        </p:spPr>
      </p:pic>
      <p:pic>
        <p:nvPicPr>
          <p:cNvPr id="83" name="raingauge2" descr=""/>
          <p:cNvPicPr/>
          <p:nvPr/>
        </p:nvPicPr>
        <p:blipFill>
          <a:blip r:embed="rId4"/>
          <a:stretch/>
        </p:blipFill>
        <p:spPr>
          <a:xfrm>
            <a:off x="5181480" y="0"/>
            <a:ext cx="2832120" cy="39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pping%20bucket" descr=""/>
          <p:cNvPicPr/>
          <p:nvPr/>
        </p:nvPicPr>
        <p:blipFill>
          <a:blip r:embed="rId1"/>
          <a:stretch/>
        </p:blipFill>
        <p:spPr>
          <a:xfrm>
            <a:off x="-380880" y="0"/>
            <a:ext cx="9361440" cy="12544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80880" y="457200"/>
            <a:ext cx="4190760" cy="5334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85800"/>
            <a:ext cx="1067040" cy="655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457200" y="4495680"/>
            <a:ext cx="9601200" cy="2590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asc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865240" cy="309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43400" y="5334120"/>
            <a:ext cx="3809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Por cada 0,25 mm de lluvia pluma inscriptora marca trazo vertical. Problemas en grandes inten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luviog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914400" cy="1395360"/>
          </a:xfrm>
          <a:prstGeom prst="rect">
            <a:avLst/>
          </a:prstGeom>
          <a:ln w="0">
            <a:noFill/>
          </a:ln>
        </p:spPr>
      </p:pic>
      <p:pic>
        <p:nvPicPr>
          <p:cNvPr id="92" name="pluviom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761760" cy="1173240"/>
          </a:xfrm>
          <a:prstGeom prst="rect">
            <a:avLst/>
          </a:prstGeom>
          <a:ln w="0">
            <a:noFill/>
          </a:ln>
        </p:spPr>
      </p:pic>
      <p:pic>
        <p:nvPicPr>
          <p:cNvPr id="93" name="raingauge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55284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3809880"/>
            <a:ext cx="81532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odel 260-2501 Tipping Bucket Rain Gaug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was designed for the National Weather Service to provide a reliable, low-cost tipping bucket rain sensor. Its simplicity of design assures trouble-free operation, yet provides accurate rainfall measurements. The tipping bucket mechanism activates a sealed reed switch that produces a contact closure for each 0.01", 0.25 mm, or 1 mm of rainf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jordan" descr=""/>
          <p:cNvPicPr/>
          <p:nvPr/>
        </p:nvPicPr>
        <p:blipFill>
          <a:blip r:embed="rId1"/>
          <a:stretch/>
        </p:blipFill>
        <p:spPr>
          <a:xfrm>
            <a:off x="1336680" y="1022400"/>
            <a:ext cx="6469200" cy="481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40" y="16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draw31_small" descr="Natural-Siphon rain Recor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28600"/>
            <a:ext cx="4390920" cy="632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3429000"/>
            <a:ext cx="3657600" cy="497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agrometeorology.org/ index.php?id=38</a:t>
            </a:r>
            <a:r>
              <a:rPr b="0" lang="es-CL" sz="1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22480" y="348768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18080" y="1981080"/>
            <a:ext cx="2063880" cy="1987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02360" y="4230720"/>
            <a:ext cx="26985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02:39:01Z</dcterms:created>
  <dc:creator>Guillermo Osses</dc:creator>
  <dc:description/>
  <dc:language>en-US</dc:language>
  <cp:lastModifiedBy>xv</cp:lastModifiedBy>
  <dcterms:modified xsi:type="dcterms:W3CDTF">2005-08-15T02:43:45Z</dcterms:modified>
  <cp:revision>16</cp:revision>
  <dc:subject/>
  <dc:title>Presentación de PowerPoint</dc:title>
</cp:coreProperties>
</file>