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34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46.wmf" ContentType="image/x-wmf"/>
  <Override PartName="/ppt/media/image49.jpeg" ContentType="image/jpeg"/>
  <Override PartName="/ppt/media/image50.wmf" ContentType="image/x-wmf"/>
  <Override PartName="/ppt/media/image54.wmf" ContentType="image/x-wmf"/>
  <Override PartName="/ppt/media/image10.jpeg" ContentType="image/jpeg"/>
  <Override PartName="/ppt/media/image51.png" ContentType="image/png"/>
  <Override PartName="/ppt/media/image53.jpeg" ContentType="image/jpeg"/>
  <Override PartName="/ppt/media/image47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399-4943-429F-AE4F-8F17AB38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A4A-0396-4C6E-84CC-6120D88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00C-0B74-45F9-A585-D7A9BED9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703-6659-4032-BBC2-4F2B5826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CF7-C0F7-43EF-8347-8E76E16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1C7-7413-48F1-9D33-98035501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D86-F493-4183-9180-45AA340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D4F-F287-4DDD-A321-96E01C47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C39-D9D5-4E77-944C-A943F63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84C-1033-475F-96C2-2C569BD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8C0-5744-4A89-8B59-A72E64F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E00-5B0C-4B79-864E-5B8119B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021-062F-4E8F-BBEB-A48E083DD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http://www.geology.buffalo.edu/courses/gly313/Lecture/2TIPBUK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rometeorology.org/fileadmin/insam/images/draw3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grometeorology.org/index.php?id=38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CION DE LA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71800" y="3200400"/>
            <a:ext cx="4723560" cy="2666520"/>
            <a:chOff x="2971800" y="3200400"/>
            <a:chExt cx="4723560" cy="2666520"/>
          </a:xfrm>
        </p:grpSpPr>
        <p:sp>
          <p:nvSpPr>
            <p:cNvPr id="43" name=""/>
            <p:cNvSpPr/>
            <p:nvPr/>
          </p:nvSpPr>
          <p:spPr>
            <a:xfrm>
              <a:off x="5071320" y="3200400"/>
              <a:ext cx="1311480" cy="10159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71800" y="3581280"/>
              <a:ext cx="2755440" cy="1397160"/>
            </a:xfrm>
            <a:prstGeom prst="cloudCallout">
              <a:avLst>
                <a:gd name="adj1" fmla="val 18152"/>
                <a:gd name="adj2" fmla="val -375379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9920" y="3581280"/>
              <a:ext cx="2624040" cy="1269720"/>
            </a:xfrm>
            <a:prstGeom prst="cloudCallout">
              <a:avLst>
                <a:gd name="adj1" fmla="val 21250"/>
                <a:gd name="adj2" fmla="val -420000"/>
              </a:avLst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4596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724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518148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rebuchet MS"/>
              </a:rPr>
              <a:t>Pp se mide en altura de agua (mm): lámina de agua que se acumularía sobre superficie horizontal, si toda la precipitación caída permaneciera donde cay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24200" cy="437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244680" cy="585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040" y="6237360"/>
            <a:ext cx="72979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eology.buffalo.edu/courses/gly313/Lecture/2TIPBUK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14400" y="914400"/>
          <a:ext cx="731520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152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762012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201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ivometr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antalla%20vient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ntalla%20viento%20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1492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813040"/>
            <a:ext cx="3814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adartower" descr=""/>
          <p:cNvPicPr/>
          <p:nvPr/>
        </p:nvPicPr>
        <p:blipFill>
          <a:blip r:embed="rId1"/>
          <a:stretch/>
        </p:blipFill>
        <p:spPr>
          <a:xfrm>
            <a:off x="0" y="380880"/>
            <a:ext cx="452592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Radar3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atellites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121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914400"/>
            <a:ext cx="152388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066680"/>
            <a:ext cx="190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26672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M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004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62520"/>
            <a:ext cx="18288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0"/>
            <a:ext cx="335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91320"/>
            <a:ext cx="289584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UPE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019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4920"/>
            <a:ext cx="685800" cy="457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3800">
            <a:off x="2209680" y="1066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63800">
            <a:off x="5019840" y="12621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596800">
            <a:off x="6821280" y="2141280"/>
            <a:ext cx="800280" cy="641520"/>
          </a:xfrm>
          <a:prstGeom prst="rightArrow">
            <a:avLst>
              <a:gd name="adj1" fmla="val 50000"/>
              <a:gd name="adj2" fmla="val 3118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779200">
            <a:off x="3504960" y="41148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779200">
            <a:off x="6095880" y="38095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80600">
            <a:off x="4190760" y="51051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63800">
            <a:off x="6019920" y="579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838440" cy="533520"/>
          </a:xfrm>
          <a:prstGeom prst="flowChartMagnetic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5486400"/>
            <a:ext cx="1258920" cy="113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85800" y="819000"/>
            <a:ext cx="5972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4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legando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47344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Refugio1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153" name="Refugio2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547344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7712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ugio y medición de ruta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utaNieve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5357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RutaNieve2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5462640" cy="36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utaNieve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7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RutaNieve5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5546880" cy="363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nowPillow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557208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257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now Pi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171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176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182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94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Ubicapluv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529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luv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476424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pluvweatherb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87560" cy="262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30492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Pluviómetro del Weather Bureau. Razón de área entre colector y embudo=1:10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dividir por 10 para obtener agua c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61960" y="838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ivSacram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240192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00800" y="1143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tipo Sac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ivvertical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2511720" cy="168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63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de tubo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35760"/>
            <a:ext cx="4038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Se derrite la nieve (anticongelante CaC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) y se mide equivalente en agua. Se utiliza hexadecanol o aceite para evitar 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205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FECT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81280"/>
            <a:ext cx="2819160" cy="838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562720" y="3657240"/>
            <a:ext cx="2514600" cy="7621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716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1800" y="28195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5438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91320" y="30481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718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91320" y="251460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71600" y="22860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31240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657600"/>
            <a:ext cx="2666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43800" y="2438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1320" y="29718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81952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28195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eno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a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80880"/>
            <a:ext cx="35812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ORR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r=OB/OC=1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/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8380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7524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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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438280"/>
            <a:ext cx="17524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6800">
            <a:off x="3962160" y="190512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14800"/>
            <a:ext cx="4419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ahoma"/>
              </a:rPr>
              <a:t>En una cuenca efecto de inclinación tiende a compensarse al calcular Pmedia. Solo considerar en estudios de alta pr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49920" y="3824280"/>
            <a:ext cx="3946320" cy="1606680"/>
            <a:chOff x="4849920" y="3824280"/>
            <a:chExt cx="3946320" cy="1606680"/>
          </a:xfrm>
        </p:grpSpPr>
        <p:sp>
          <p:nvSpPr>
            <p:cNvPr id="251" name=""/>
            <p:cNvSpPr/>
            <p:nvPr/>
          </p:nvSpPr>
          <p:spPr>
            <a:xfrm>
              <a:off x="4849920" y="3824280"/>
              <a:ext cx="3946320" cy="1606680"/>
            </a:xfrm>
            <a:custGeom>
              <a:avLst/>
              <a:gdLst/>
              <a:ahLst/>
              <a:rect l="l" t="t" r="r" b="b"/>
              <a:pathLst>
                <a:path w="2486" h="1012">
                  <a:moveTo>
                    <a:pt x="0" y="287"/>
                  </a:moveTo>
                  <a:cubicBezTo>
                    <a:pt x="34" y="299"/>
                    <a:pt x="20" y="289"/>
                    <a:pt x="46" y="326"/>
                  </a:cubicBezTo>
                  <a:cubicBezTo>
                    <a:pt x="57" y="341"/>
                    <a:pt x="78" y="373"/>
                    <a:pt x="78" y="373"/>
                  </a:cubicBezTo>
                  <a:cubicBezTo>
                    <a:pt x="96" y="453"/>
                    <a:pt x="71" y="359"/>
                    <a:pt x="101" y="428"/>
                  </a:cubicBezTo>
                  <a:cubicBezTo>
                    <a:pt x="110" y="448"/>
                    <a:pt x="110" y="488"/>
                    <a:pt x="124" y="506"/>
                  </a:cubicBezTo>
                  <a:cubicBezTo>
                    <a:pt x="136" y="521"/>
                    <a:pt x="163" y="525"/>
                    <a:pt x="179" y="529"/>
                  </a:cubicBezTo>
                  <a:cubicBezTo>
                    <a:pt x="198" y="558"/>
                    <a:pt x="213" y="596"/>
                    <a:pt x="241" y="615"/>
                  </a:cubicBezTo>
                  <a:cubicBezTo>
                    <a:pt x="250" y="642"/>
                    <a:pt x="262" y="671"/>
                    <a:pt x="280" y="693"/>
                  </a:cubicBezTo>
                  <a:cubicBezTo>
                    <a:pt x="304" y="722"/>
                    <a:pt x="303" y="707"/>
                    <a:pt x="319" y="739"/>
                  </a:cubicBezTo>
                  <a:cubicBezTo>
                    <a:pt x="329" y="758"/>
                    <a:pt x="323" y="784"/>
                    <a:pt x="335" y="802"/>
                  </a:cubicBezTo>
                  <a:cubicBezTo>
                    <a:pt x="339" y="809"/>
                    <a:pt x="350" y="808"/>
                    <a:pt x="358" y="810"/>
                  </a:cubicBezTo>
                  <a:cubicBezTo>
                    <a:pt x="390" y="818"/>
                    <a:pt x="420" y="825"/>
                    <a:pt x="452" y="833"/>
                  </a:cubicBezTo>
                  <a:cubicBezTo>
                    <a:pt x="473" y="845"/>
                    <a:pt x="492" y="862"/>
                    <a:pt x="514" y="872"/>
                  </a:cubicBezTo>
                  <a:cubicBezTo>
                    <a:pt x="529" y="879"/>
                    <a:pt x="561" y="888"/>
                    <a:pt x="561" y="888"/>
                  </a:cubicBezTo>
                  <a:cubicBezTo>
                    <a:pt x="632" y="959"/>
                    <a:pt x="597" y="935"/>
                    <a:pt x="724" y="958"/>
                  </a:cubicBezTo>
                  <a:cubicBezTo>
                    <a:pt x="748" y="963"/>
                    <a:pt x="795" y="981"/>
                    <a:pt x="795" y="981"/>
                  </a:cubicBezTo>
                  <a:cubicBezTo>
                    <a:pt x="803" y="986"/>
                    <a:pt x="809" y="993"/>
                    <a:pt x="818" y="997"/>
                  </a:cubicBezTo>
                  <a:cubicBezTo>
                    <a:pt x="833" y="1004"/>
                    <a:pt x="865" y="1012"/>
                    <a:pt x="865" y="1012"/>
                  </a:cubicBezTo>
                  <a:cubicBezTo>
                    <a:pt x="1013" y="995"/>
                    <a:pt x="1161" y="1002"/>
                    <a:pt x="1309" y="989"/>
                  </a:cubicBezTo>
                  <a:cubicBezTo>
                    <a:pt x="1363" y="952"/>
                    <a:pt x="1416" y="950"/>
                    <a:pt x="1480" y="942"/>
                  </a:cubicBezTo>
                  <a:cubicBezTo>
                    <a:pt x="1534" y="914"/>
                    <a:pt x="1524" y="896"/>
                    <a:pt x="1550" y="849"/>
                  </a:cubicBezTo>
                  <a:cubicBezTo>
                    <a:pt x="1577" y="800"/>
                    <a:pt x="1614" y="777"/>
                    <a:pt x="1652" y="739"/>
                  </a:cubicBezTo>
                  <a:cubicBezTo>
                    <a:pt x="1668" y="685"/>
                    <a:pt x="1704" y="698"/>
                    <a:pt x="1698" y="638"/>
                  </a:cubicBezTo>
                  <a:cubicBezTo>
                    <a:pt x="1705" y="595"/>
                    <a:pt x="1687" y="556"/>
                    <a:pt x="1730" y="545"/>
                  </a:cubicBezTo>
                  <a:cubicBezTo>
                    <a:pt x="1761" y="537"/>
                    <a:pt x="1792" y="521"/>
                    <a:pt x="1792" y="521"/>
                  </a:cubicBezTo>
                  <a:cubicBezTo>
                    <a:pt x="1815" y="504"/>
                    <a:pt x="1843" y="486"/>
                    <a:pt x="1870" y="474"/>
                  </a:cubicBezTo>
                  <a:cubicBezTo>
                    <a:pt x="1885" y="467"/>
                    <a:pt x="1901" y="464"/>
                    <a:pt x="1917" y="459"/>
                  </a:cubicBezTo>
                  <a:cubicBezTo>
                    <a:pt x="1925" y="456"/>
                    <a:pt x="1940" y="451"/>
                    <a:pt x="1940" y="451"/>
                  </a:cubicBezTo>
                  <a:cubicBezTo>
                    <a:pt x="1968" y="423"/>
                    <a:pt x="1988" y="391"/>
                    <a:pt x="2010" y="358"/>
                  </a:cubicBezTo>
                  <a:cubicBezTo>
                    <a:pt x="2034" y="320"/>
                    <a:pt x="2083" y="303"/>
                    <a:pt x="2119" y="280"/>
                  </a:cubicBezTo>
                  <a:cubicBezTo>
                    <a:pt x="2135" y="232"/>
                    <a:pt x="2124" y="111"/>
                    <a:pt x="2166" y="69"/>
                  </a:cubicBezTo>
                  <a:cubicBezTo>
                    <a:pt x="2183" y="52"/>
                    <a:pt x="2212" y="58"/>
                    <a:pt x="2236" y="54"/>
                  </a:cubicBezTo>
                  <a:cubicBezTo>
                    <a:pt x="2316" y="0"/>
                    <a:pt x="2360" y="30"/>
                    <a:pt x="2486" y="30"/>
                  </a:cubicBezTo>
                </a:path>
              </a:pathLst>
            </a:custGeom>
            <a:noFill/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4800600"/>
              <a:ext cx="76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8880" y="487692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772400" y="388620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6294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09920" y="434340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1722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320" y="419112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578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814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luviómetros capt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5181480"/>
            <a:ext cx="470160" cy="1295640"/>
          </a:xfrm>
          <a:custGeom>
            <a:avLst/>
            <a:gdLst/>
            <a:ahLst/>
            <a:rect l="l" t="t" r="r" b="b"/>
            <a:pathLst>
              <a:path w="296" h="816">
                <a:moveTo>
                  <a:pt x="248" y="816"/>
                </a:moveTo>
                <a:cubicBezTo>
                  <a:pt x="124" y="788"/>
                  <a:pt x="0" y="760"/>
                  <a:pt x="8" y="624"/>
                </a:cubicBezTo>
                <a:cubicBezTo>
                  <a:pt x="16" y="488"/>
                  <a:pt x="248" y="104"/>
                  <a:pt x="296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6324480"/>
            <a:ext cx="3581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Tahoma"/>
              </a:rPr>
              <a:t>Recibe mas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271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274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277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280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343400"/>
            <a:ext cx="228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LUVI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uvio" descr=""/>
          <p:cNvPicPr/>
          <p:nvPr/>
        </p:nvPicPr>
        <p:blipFill>
          <a:blip r:embed="rId1"/>
          <a:stretch/>
        </p:blipFill>
        <p:spPr>
          <a:xfrm>
            <a:off x="0" y="457200"/>
            <a:ext cx="2349360" cy="4354560"/>
          </a:xfrm>
          <a:prstGeom prst="rect">
            <a:avLst/>
          </a:prstGeom>
          <a:ln w="0">
            <a:noFill/>
          </a:ln>
        </p:spPr>
      </p:pic>
      <p:pic>
        <p:nvPicPr>
          <p:cNvPr id="81" name="raingauge1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226044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rainrecorder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4838760" cy="2400120"/>
          </a:xfrm>
          <a:prstGeom prst="rect">
            <a:avLst/>
          </a:prstGeom>
          <a:ln w="0">
            <a:noFill/>
          </a:ln>
        </p:spPr>
      </p:pic>
      <p:pic>
        <p:nvPicPr>
          <p:cNvPr id="83" name="raingauge2" descr=""/>
          <p:cNvPicPr/>
          <p:nvPr/>
        </p:nvPicPr>
        <p:blipFill>
          <a:blip r:embed="rId4"/>
          <a:stretch/>
        </p:blipFill>
        <p:spPr>
          <a:xfrm>
            <a:off x="5181480" y="0"/>
            <a:ext cx="2832120" cy="39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pping%20bucket" descr=""/>
          <p:cNvPicPr/>
          <p:nvPr/>
        </p:nvPicPr>
        <p:blipFill>
          <a:blip r:embed="rId1"/>
          <a:stretch/>
        </p:blipFill>
        <p:spPr>
          <a:xfrm>
            <a:off x="-380880" y="0"/>
            <a:ext cx="9361440" cy="1254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80880" y="457200"/>
            <a:ext cx="4190760" cy="53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1067040" cy="655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57200" y="4495680"/>
            <a:ext cx="9601200" cy="2590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asc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86524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43400" y="5334120"/>
            <a:ext cx="3809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or cada 0,25 mm de lluvia pluma inscriptora marca trazo vertical. Problemas en grandes inten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luviog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914400" cy="1395360"/>
          </a:xfrm>
          <a:prstGeom prst="rect">
            <a:avLst/>
          </a:prstGeom>
          <a:ln w="0">
            <a:noFill/>
          </a:ln>
        </p:spPr>
      </p:pic>
      <p:pic>
        <p:nvPicPr>
          <p:cNvPr id="92" name="pluviom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761760" cy="1173240"/>
          </a:xfrm>
          <a:prstGeom prst="rect">
            <a:avLst/>
          </a:prstGeom>
          <a:ln w="0">
            <a:noFill/>
          </a:ln>
        </p:spPr>
      </p:pic>
      <p:pic>
        <p:nvPicPr>
          <p:cNvPr id="93" name="raingauge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55284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09880"/>
            <a:ext cx="8153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del 260-2501 Tipping Bucket Rain Gaug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was designed for the National Weather Service to provide a reliable, low-cost tipping bucket rain sensor. Its simplicity of design assures trouble-free operation, yet provides accurate rainfall measurements. The tipping bucket mechanism activates a sealed reed switch that produces a contact closure for each 0.01", 0.25 mm, or 1 mm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jordan" descr=""/>
          <p:cNvPicPr/>
          <p:nvPr/>
        </p:nvPicPr>
        <p:blipFill>
          <a:blip r:embed="rId1"/>
          <a:stretch/>
        </p:blipFill>
        <p:spPr>
          <a:xfrm>
            <a:off x="1336680" y="1022400"/>
            <a:ext cx="6469200" cy="48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raw31_small" descr="Natural-Siphon rain Recor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28600"/>
            <a:ext cx="4390920" cy="632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3429000"/>
            <a:ext cx="3657600" cy="49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agrometeorology.org/ index.php?id=38</a:t>
            </a:r>
            <a:r>
              <a:rPr b="0" lang="es-CL" sz="1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22480" y="348768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1981080"/>
            <a:ext cx="2063880" cy="198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02360" y="4230720"/>
            <a:ext cx="26985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02:39:01Z</dcterms:created>
  <dc:creator>Guillermo Osses</dc:creator>
  <dc:description/>
  <dc:language>en-US</dc:language>
  <cp:lastModifiedBy>xv</cp:lastModifiedBy>
  <dcterms:modified xsi:type="dcterms:W3CDTF">2005-08-15T02:43:45Z</dcterms:modified>
  <cp:revision>16</cp:revision>
  <dc:subject/>
  <dc:title>Presentación de PowerPoint</dc:title>
</cp:coreProperties>
</file>