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12.png" ContentType="image/png"/>
  <Override PartName="/ppt/media/image22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24.wmf" ContentType="image/x-wmf"/>
  <Override PartName="/ppt/media/image1.wmf" ContentType="image/x-wmf"/>
  <Override PartName="/ppt/media/image28.png" ContentType="image/png"/>
  <Override PartName="/ppt/media/image7.jpeg" ContentType="image/jpeg"/>
  <Override PartName="/ppt/media/image38.jpeg" ContentType="image/jpeg"/>
  <Override PartName="/ppt/media/image3.wmf" ContentType="image/x-wmf"/>
  <Override PartName="/ppt/media/image29.jpeg" ContentType="image/jpeg"/>
  <Override PartName="/ppt/media/image52.jpeg" ContentType="image/jpeg"/>
  <Override PartName="/ppt/media/image13.jpeg" ContentType="image/jpeg"/>
  <Override PartName="/ppt/media/image40.jpeg" ContentType="image/jpeg"/>
  <Override PartName="/ppt/media/image2.png" ContentType="image/png"/>
  <Override PartName="/ppt/media/image34.jpeg" ContentType="image/jpeg"/>
  <Override PartName="/ppt/media/image20.png" ContentType="image/png"/>
  <Override PartName="/ppt/media/image36.png" ContentType="image/png"/>
  <Override PartName="/ppt/media/image37.jpeg" ContentType="image/jpeg"/>
  <Override PartName="/ppt/media/image44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45.jpeg" ContentType="image/jpeg"/>
  <Override PartName="/ppt/media/image46.wmf" ContentType="image/x-wmf"/>
  <Override PartName="/ppt/media/image49.jpeg" ContentType="image/jpeg"/>
  <Override PartName="/ppt/media/image50.wmf" ContentType="image/x-wmf"/>
  <Override PartName="/ppt/media/image54.wmf" ContentType="image/x-wmf"/>
  <Override PartName="/ppt/media/image10.jpeg" ContentType="image/jpeg"/>
  <Override PartName="/ppt/media/image51.png" ContentType="image/png"/>
  <Override PartName="/ppt/media/image53.jpeg" ContentType="image/jpeg"/>
  <Override PartName="/ppt/media/image47.wmf" ContentType="image/x-wmf"/>
  <Override PartName="/ppt/media/image31.jpeg" ContentType="image/jpeg"/>
  <Override PartName="/ppt/media/image4.jpeg" ContentType="image/jpeg"/>
  <Override PartName="/ppt/media/image30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68FF-6A95-4539-BA10-95A68726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E63-E947-47C5-92E9-8436D1A2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6D50-43BC-474C-8D37-6BDFD5AB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ED49-F401-41E6-8D50-806174EE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654-8421-4566-AF44-AD653574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B1BC-FA61-4F75-A16D-CCD6810A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3E0-0EA4-451D-81C8-51FE2B29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0D4A-5548-4998-ACC7-6BF6C307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E31-CED1-44A1-9D83-4879DD62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16E2-6B41-4CD7-B776-C74F1669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0DD-9EB2-4F7E-BB34-7F2B7876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1ABF-8D1D-49AB-8341-40A62659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1A88-616E-49D3-BC29-60A2BF29C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hyperlink" Target="http://www.geology.buffalo.edu/courses/gly313/Lecture/2TIPBUK.HTM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grometeorology.org/fileadmin/insam/images/draw31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agrometeorology.org/index.php?id=38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EDICION DE LA PRECIPI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971800" y="3200400"/>
            <a:ext cx="4723560" cy="2666520"/>
            <a:chOff x="2971800" y="3200400"/>
            <a:chExt cx="4723560" cy="2666520"/>
          </a:xfrm>
        </p:grpSpPr>
        <p:sp>
          <p:nvSpPr>
            <p:cNvPr id="43" name=""/>
            <p:cNvSpPr/>
            <p:nvPr/>
          </p:nvSpPr>
          <p:spPr>
            <a:xfrm>
              <a:off x="5071320" y="3200400"/>
              <a:ext cx="1311480" cy="10159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971800" y="3581280"/>
              <a:ext cx="2755440" cy="1397160"/>
            </a:xfrm>
            <a:prstGeom prst="cloudCallout">
              <a:avLst>
                <a:gd name="adj1" fmla="val 18152"/>
                <a:gd name="adj2" fmla="val -375379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39920" y="3581280"/>
              <a:ext cx="2624040" cy="1269720"/>
            </a:xfrm>
            <a:prstGeom prst="cloudCallout">
              <a:avLst>
                <a:gd name="adj1" fmla="val 21250"/>
                <a:gd name="adj2" fmla="val -420000"/>
              </a:avLst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645960" y="4978440"/>
              <a:ext cx="1049400" cy="888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27240" y="4978440"/>
              <a:ext cx="1049400" cy="888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0" y="518148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rebuchet MS"/>
              </a:rPr>
              <a:t>Pp se mide en altura de agua (mm): lámina de agua que se acumularía sobre superficie horizontal, si toda la precipitación caída permaneciera donde cay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624200" cy="437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148360" y="404640"/>
            <a:ext cx="3244680" cy="585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5040" y="6237360"/>
            <a:ext cx="729792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geology.buffalo.edu/courses/gly313/Lecture/2TIPBUK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914400" y="914400"/>
          <a:ext cx="7315200" cy="50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731520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609480" y="457200"/>
          <a:ext cx="7620120" cy="584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762012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nivometro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antalla%20viento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antalla%20viento%20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3814920" cy="2438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3280" y="2813040"/>
            <a:ext cx="38149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adartower" descr=""/>
          <p:cNvPicPr/>
          <p:nvPr/>
        </p:nvPicPr>
        <p:blipFill>
          <a:blip r:embed="rId1"/>
          <a:stretch/>
        </p:blipFill>
        <p:spPr>
          <a:xfrm>
            <a:off x="0" y="380880"/>
            <a:ext cx="4525920" cy="6019920"/>
          </a:xfrm>
          <a:prstGeom prst="rect">
            <a:avLst/>
          </a:prstGeom>
          <a:ln w="0">
            <a:noFill/>
          </a:ln>
        </p:spPr>
      </p:pic>
      <p:pic>
        <p:nvPicPr>
          <p:cNvPr id="116" name="Radar3" descr=""/>
          <p:cNvPicPr/>
          <p:nvPr/>
        </p:nvPicPr>
        <p:blipFill>
          <a:blip r:embed="rId2"/>
          <a:stretch/>
        </p:blipFill>
        <p:spPr>
          <a:xfrm>
            <a:off x="3962520" y="14479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satellites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33640" y="2325600"/>
            <a:ext cx="7457760" cy="1613160"/>
          </a:xfrm>
          <a:custGeom>
            <a:avLst/>
            <a:gdLst/>
            <a:ahLst/>
            <a:rect l="l" t="t" r="r" b="b"/>
            <a:pathLst>
              <a:path w="4698" h="1016">
                <a:moveTo>
                  <a:pt x="0" y="983"/>
                </a:moveTo>
                <a:cubicBezTo>
                  <a:pt x="16" y="978"/>
                  <a:pt x="34" y="976"/>
                  <a:pt x="48" y="967"/>
                </a:cubicBezTo>
                <a:cubicBezTo>
                  <a:pt x="64" y="956"/>
                  <a:pt x="97" y="935"/>
                  <a:pt x="97" y="935"/>
                </a:cubicBezTo>
                <a:cubicBezTo>
                  <a:pt x="115" y="908"/>
                  <a:pt x="127" y="895"/>
                  <a:pt x="154" y="878"/>
                </a:cubicBezTo>
                <a:cubicBezTo>
                  <a:pt x="187" y="828"/>
                  <a:pt x="150" y="874"/>
                  <a:pt x="194" y="846"/>
                </a:cubicBezTo>
                <a:cubicBezTo>
                  <a:pt x="209" y="837"/>
                  <a:pt x="211" y="821"/>
                  <a:pt x="227" y="813"/>
                </a:cubicBezTo>
                <a:cubicBezTo>
                  <a:pt x="242" y="806"/>
                  <a:pt x="275" y="797"/>
                  <a:pt x="275" y="797"/>
                </a:cubicBezTo>
                <a:cubicBezTo>
                  <a:pt x="296" y="799"/>
                  <a:pt x="352" y="799"/>
                  <a:pt x="381" y="813"/>
                </a:cubicBezTo>
                <a:cubicBezTo>
                  <a:pt x="411" y="828"/>
                  <a:pt x="443" y="860"/>
                  <a:pt x="470" y="878"/>
                </a:cubicBezTo>
                <a:cubicBezTo>
                  <a:pt x="510" y="904"/>
                  <a:pt x="555" y="921"/>
                  <a:pt x="600" y="935"/>
                </a:cubicBezTo>
                <a:cubicBezTo>
                  <a:pt x="637" y="960"/>
                  <a:pt x="672" y="963"/>
                  <a:pt x="713" y="975"/>
                </a:cubicBezTo>
                <a:cubicBezTo>
                  <a:pt x="753" y="986"/>
                  <a:pt x="780" y="1007"/>
                  <a:pt x="819" y="1016"/>
                </a:cubicBezTo>
                <a:cubicBezTo>
                  <a:pt x="1077" y="1009"/>
                  <a:pt x="1057" y="1014"/>
                  <a:pt x="1216" y="992"/>
                </a:cubicBezTo>
                <a:cubicBezTo>
                  <a:pt x="1271" y="977"/>
                  <a:pt x="1327" y="953"/>
                  <a:pt x="1378" y="927"/>
                </a:cubicBezTo>
                <a:cubicBezTo>
                  <a:pt x="1413" y="909"/>
                  <a:pt x="1431" y="869"/>
                  <a:pt x="1467" y="854"/>
                </a:cubicBezTo>
                <a:cubicBezTo>
                  <a:pt x="1511" y="835"/>
                  <a:pt x="1542" y="829"/>
                  <a:pt x="1589" y="805"/>
                </a:cubicBezTo>
                <a:cubicBezTo>
                  <a:pt x="1632" y="783"/>
                  <a:pt x="1686" y="800"/>
                  <a:pt x="1735" y="797"/>
                </a:cubicBezTo>
                <a:cubicBezTo>
                  <a:pt x="1781" y="767"/>
                  <a:pt x="1830" y="741"/>
                  <a:pt x="1881" y="724"/>
                </a:cubicBezTo>
                <a:cubicBezTo>
                  <a:pt x="1915" y="673"/>
                  <a:pt x="1978" y="638"/>
                  <a:pt x="2035" y="619"/>
                </a:cubicBezTo>
                <a:cubicBezTo>
                  <a:pt x="2197" y="630"/>
                  <a:pt x="2125" y="625"/>
                  <a:pt x="2230" y="659"/>
                </a:cubicBezTo>
                <a:cubicBezTo>
                  <a:pt x="2285" y="697"/>
                  <a:pt x="2260" y="686"/>
                  <a:pt x="2302" y="700"/>
                </a:cubicBezTo>
                <a:cubicBezTo>
                  <a:pt x="2332" y="728"/>
                  <a:pt x="2351" y="735"/>
                  <a:pt x="2392" y="748"/>
                </a:cubicBezTo>
                <a:cubicBezTo>
                  <a:pt x="2400" y="751"/>
                  <a:pt x="2416" y="756"/>
                  <a:pt x="2416" y="756"/>
                </a:cubicBezTo>
                <a:cubicBezTo>
                  <a:pt x="2448" y="788"/>
                  <a:pt x="2477" y="831"/>
                  <a:pt x="2521" y="846"/>
                </a:cubicBezTo>
                <a:cubicBezTo>
                  <a:pt x="2561" y="883"/>
                  <a:pt x="2637" y="874"/>
                  <a:pt x="2684" y="878"/>
                </a:cubicBezTo>
                <a:cubicBezTo>
                  <a:pt x="2751" y="895"/>
                  <a:pt x="2750" y="893"/>
                  <a:pt x="2838" y="886"/>
                </a:cubicBezTo>
                <a:cubicBezTo>
                  <a:pt x="2886" y="870"/>
                  <a:pt x="2888" y="864"/>
                  <a:pt x="2927" y="838"/>
                </a:cubicBezTo>
                <a:cubicBezTo>
                  <a:pt x="2932" y="830"/>
                  <a:pt x="2936" y="820"/>
                  <a:pt x="2943" y="813"/>
                </a:cubicBezTo>
                <a:cubicBezTo>
                  <a:pt x="2956" y="799"/>
                  <a:pt x="2984" y="773"/>
                  <a:pt x="2984" y="773"/>
                </a:cubicBezTo>
                <a:cubicBezTo>
                  <a:pt x="2994" y="742"/>
                  <a:pt x="3014" y="727"/>
                  <a:pt x="3032" y="700"/>
                </a:cubicBezTo>
                <a:cubicBezTo>
                  <a:pt x="3046" y="657"/>
                  <a:pt x="3035" y="682"/>
                  <a:pt x="3073" y="627"/>
                </a:cubicBezTo>
                <a:cubicBezTo>
                  <a:pt x="3097" y="592"/>
                  <a:pt x="3108" y="551"/>
                  <a:pt x="3138" y="521"/>
                </a:cubicBezTo>
                <a:cubicBezTo>
                  <a:pt x="3158" y="462"/>
                  <a:pt x="3129" y="535"/>
                  <a:pt x="3170" y="473"/>
                </a:cubicBezTo>
                <a:cubicBezTo>
                  <a:pt x="3175" y="466"/>
                  <a:pt x="3174" y="456"/>
                  <a:pt x="3178" y="448"/>
                </a:cubicBezTo>
                <a:cubicBezTo>
                  <a:pt x="3186" y="432"/>
                  <a:pt x="3210" y="405"/>
                  <a:pt x="3219" y="392"/>
                </a:cubicBezTo>
                <a:cubicBezTo>
                  <a:pt x="3230" y="376"/>
                  <a:pt x="3245" y="362"/>
                  <a:pt x="3251" y="343"/>
                </a:cubicBezTo>
                <a:cubicBezTo>
                  <a:pt x="3254" y="335"/>
                  <a:pt x="3255" y="326"/>
                  <a:pt x="3259" y="319"/>
                </a:cubicBezTo>
                <a:cubicBezTo>
                  <a:pt x="3273" y="296"/>
                  <a:pt x="3299" y="276"/>
                  <a:pt x="3316" y="254"/>
                </a:cubicBezTo>
                <a:cubicBezTo>
                  <a:pt x="3319" y="251"/>
                  <a:pt x="3356" y="195"/>
                  <a:pt x="3365" y="181"/>
                </a:cubicBezTo>
                <a:cubicBezTo>
                  <a:pt x="3375" y="167"/>
                  <a:pt x="3393" y="161"/>
                  <a:pt x="3405" y="148"/>
                </a:cubicBezTo>
                <a:cubicBezTo>
                  <a:pt x="3421" y="99"/>
                  <a:pt x="3402" y="146"/>
                  <a:pt x="3430" y="108"/>
                </a:cubicBezTo>
                <a:cubicBezTo>
                  <a:pt x="3464" y="63"/>
                  <a:pt x="3459" y="52"/>
                  <a:pt x="3511" y="35"/>
                </a:cubicBezTo>
                <a:cubicBezTo>
                  <a:pt x="3563" y="0"/>
                  <a:pt x="3573" y="12"/>
                  <a:pt x="3649" y="19"/>
                </a:cubicBezTo>
                <a:cubicBezTo>
                  <a:pt x="3686" y="31"/>
                  <a:pt x="3680" y="45"/>
                  <a:pt x="3697" y="75"/>
                </a:cubicBezTo>
                <a:cubicBezTo>
                  <a:pt x="3724" y="121"/>
                  <a:pt x="3756" y="168"/>
                  <a:pt x="3795" y="205"/>
                </a:cubicBezTo>
                <a:cubicBezTo>
                  <a:pt x="3820" y="256"/>
                  <a:pt x="3866" y="284"/>
                  <a:pt x="3892" y="335"/>
                </a:cubicBezTo>
                <a:cubicBezTo>
                  <a:pt x="3908" y="367"/>
                  <a:pt x="3923" y="408"/>
                  <a:pt x="3949" y="432"/>
                </a:cubicBezTo>
                <a:cubicBezTo>
                  <a:pt x="3960" y="467"/>
                  <a:pt x="3987" y="502"/>
                  <a:pt x="4022" y="513"/>
                </a:cubicBezTo>
                <a:cubicBezTo>
                  <a:pt x="4037" y="559"/>
                  <a:pt x="4067" y="591"/>
                  <a:pt x="4095" y="627"/>
                </a:cubicBezTo>
                <a:cubicBezTo>
                  <a:pt x="4134" y="678"/>
                  <a:pt x="4159" y="734"/>
                  <a:pt x="4224" y="756"/>
                </a:cubicBezTo>
                <a:cubicBezTo>
                  <a:pt x="4259" y="779"/>
                  <a:pt x="4288" y="791"/>
                  <a:pt x="4322" y="813"/>
                </a:cubicBezTo>
                <a:cubicBezTo>
                  <a:pt x="4362" y="810"/>
                  <a:pt x="4403" y="812"/>
                  <a:pt x="4443" y="805"/>
                </a:cubicBezTo>
                <a:cubicBezTo>
                  <a:pt x="4453" y="803"/>
                  <a:pt x="4459" y="793"/>
                  <a:pt x="4468" y="789"/>
                </a:cubicBezTo>
                <a:cubicBezTo>
                  <a:pt x="4517" y="768"/>
                  <a:pt x="4570" y="753"/>
                  <a:pt x="4622" y="740"/>
                </a:cubicBezTo>
                <a:cubicBezTo>
                  <a:pt x="4630" y="735"/>
                  <a:pt x="4637" y="728"/>
                  <a:pt x="4646" y="724"/>
                </a:cubicBezTo>
                <a:cubicBezTo>
                  <a:pt x="4698" y="701"/>
                  <a:pt x="4695" y="726"/>
                  <a:pt x="4695" y="70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200400"/>
            <a:ext cx="76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600200" y="2742840"/>
            <a:ext cx="7010280" cy="686160"/>
            <a:chOff x="1600200" y="2742840"/>
            <a:chExt cx="7010280" cy="686160"/>
          </a:xfrm>
        </p:grpSpPr>
        <p:sp>
          <p:nvSpPr>
            <p:cNvPr id="121" name=""/>
            <p:cNvSpPr/>
            <p:nvPr/>
          </p:nvSpPr>
          <p:spPr>
            <a:xfrm>
              <a:off x="1600200" y="3200400"/>
              <a:ext cx="2666880" cy="1522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600200" y="2895120"/>
              <a:ext cx="46483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9720" y="3276720"/>
              <a:ext cx="160020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67080" y="3352680"/>
              <a:ext cx="4191120" cy="76320"/>
            </a:xfrm>
            <a:prstGeom prst="line">
              <a:avLst/>
            </a:prstGeom>
            <a:ln w="9360">
              <a:solidFill>
                <a:srgbClr val="ffff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866920" y="2895480"/>
              <a:ext cx="381240" cy="381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638320" y="2895480"/>
              <a:ext cx="381240" cy="381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409720" y="2971800"/>
              <a:ext cx="3049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181120" y="2971800"/>
              <a:ext cx="3049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876920" y="2971800"/>
              <a:ext cx="30456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648320" y="2971800"/>
              <a:ext cx="30456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191120" y="3048120"/>
              <a:ext cx="30456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809520" y="3048120"/>
              <a:ext cx="30492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504960" y="3048120"/>
              <a:ext cx="228600" cy="2286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200040" y="3124080"/>
              <a:ext cx="15228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895480" y="3124080"/>
              <a:ext cx="15264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666880" y="3124080"/>
              <a:ext cx="7632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62320" y="3200400"/>
              <a:ext cx="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019920" y="2742840"/>
              <a:ext cx="2590560" cy="152280"/>
            </a:xfrm>
            <a:prstGeom prst="line">
              <a:avLst/>
            </a:prstGeom>
            <a:ln w="9360">
              <a:solidFill>
                <a:srgbClr val="ffff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H="1">
            <a:off x="5028840" y="2286000"/>
            <a:ext cx="152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19051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nergía electromagné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2860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A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04920"/>
            <a:ext cx="175284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Z=AR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10666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Factor de reflectividad=</a:t>
            </a:r>
            <a:r>
              <a:rPr b="1" lang="es-ES_tradnl" sz="14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1" lang="es-ES_tradnl" sz="1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N(D)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609480"/>
            <a:ext cx="990360" cy="45720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48" y="288"/>
                </a:moveTo>
                <a:cubicBezTo>
                  <a:pt x="24" y="240"/>
                  <a:pt x="0" y="192"/>
                  <a:pt x="96" y="144"/>
                </a:cubicBezTo>
                <a:cubicBezTo>
                  <a:pt x="192" y="96"/>
                  <a:pt x="536" y="24"/>
                  <a:pt x="624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838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Intensidad de llu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685800"/>
            <a:ext cx="762120" cy="431640"/>
          </a:xfrm>
          <a:custGeom>
            <a:avLst/>
            <a:gdLst/>
            <a:ahLst/>
            <a:rect l="l" t="t" r="r" b="b"/>
            <a:pathLst>
              <a:path w="480" h="272">
                <a:moveTo>
                  <a:pt x="480" y="192"/>
                </a:moveTo>
                <a:cubicBezTo>
                  <a:pt x="376" y="232"/>
                  <a:pt x="272" y="272"/>
                  <a:pt x="192" y="240"/>
                </a:cubicBezTo>
                <a:cubicBezTo>
                  <a:pt x="112" y="208"/>
                  <a:pt x="56" y="10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4495680"/>
            <a:ext cx="7696080" cy="2133720"/>
          </a:xfrm>
          <a:prstGeom prst="flowChartPunchedCard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Precipitación a bajas altitudes puede no ser detec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Precipitación detectada a cierta altura puede no llegar a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(vientos y evapor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variabilidad vertical de forma de precipitación (sólida o líqui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y de la intensidad puede ocasionar err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evaporación desde suelo puede ocasionar falsos ecos de ra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914400"/>
            <a:ext cx="1523880" cy="459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066680"/>
            <a:ext cx="1905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REGI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1447920"/>
            <a:ext cx="266724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ANSM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200400"/>
            <a:ext cx="2666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RA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3962520"/>
            <a:ext cx="1828800" cy="459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DI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572000"/>
            <a:ext cx="3353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MAC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91320"/>
            <a:ext cx="2895840" cy="459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CUPE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6019920"/>
            <a:ext cx="1676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04920"/>
            <a:ext cx="685800" cy="45720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3800">
            <a:off x="2209680" y="10663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363800">
            <a:off x="5019840" y="126216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596800">
            <a:off x="6821280" y="2141280"/>
            <a:ext cx="800280" cy="641520"/>
          </a:xfrm>
          <a:prstGeom prst="rightArrow">
            <a:avLst>
              <a:gd name="adj1" fmla="val 50000"/>
              <a:gd name="adj2" fmla="val 31187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8779200">
            <a:off x="3504960" y="411480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8779200">
            <a:off x="6095880" y="38095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2880600">
            <a:off x="4190760" y="510516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363800">
            <a:off x="6019920" y="579096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886200"/>
            <a:ext cx="838440" cy="533520"/>
          </a:xfrm>
          <a:prstGeom prst="flowChartMagneticTap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86600" y="4572000"/>
            <a:ext cx="1752480" cy="137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1981080" cy="133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600200" y="5486400"/>
            <a:ext cx="1258920" cy="1136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adar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239240" cy="438336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85800" y="819000"/>
            <a:ext cx="59724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4446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Llegando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473440" cy="3633840"/>
          </a:xfrm>
          <a:prstGeom prst="rect">
            <a:avLst/>
          </a:prstGeom>
          <a:ln w="0">
            <a:noFill/>
          </a:ln>
        </p:spPr>
      </p:pic>
      <p:pic>
        <p:nvPicPr>
          <p:cNvPr id="152" name="Refugio1" descr=""/>
          <p:cNvPicPr/>
          <p:nvPr/>
        </p:nvPicPr>
        <p:blipFill>
          <a:blip r:embed="rId2"/>
          <a:stretch/>
        </p:blipFill>
        <p:spPr>
          <a:xfrm>
            <a:off x="5181480" y="914400"/>
            <a:ext cx="3657600" cy="2719440"/>
          </a:xfrm>
          <a:prstGeom prst="rect">
            <a:avLst/>
          </a:prstGeom>
          <a:ln w="0">
            <a:noFill/>
          </a:ln>
        </p:spPr>
      </p:pic>
      <p:pic>
        <p:nvPicPr>
          <p:cNvPr id="153" name="Refugio2" descr=""/>
          <p:cNvPicPr/>
          <p:nvPr/>
        </p:nvPicPr>
        <p:blipFill>
          <a:blip r:embed="rId3"/>
          <a:stretch/>
        </p:blipFill>
        <p:spPr>
          <a:xfrm>
            <a:off x="533520" y="3048120"/>
            <a:ext cx="5473440" cy="3633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477120" y="4267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fugio y medición de ruta de n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utaNieve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5535720" cy="3633840"/>
          </a:xfrm>
          <a:prstGeom prst="rect">
            <a:avLst/>
          </a:prstGeom>
          <a:ln w="0">
            <a:noFill/>
          </a:ln>
        </p:spPr>
      </p:pic>
      <p:pic>
        <p:nvPicPr>
          <p:cNvPr id="156" name="RutaNieve2" descr=""/>
          <p:cNvPicPr/>
          <p:nvPr/>
        </p:nvPicPr>
        <p:blipFill>
          <a:blip r:embed="rId2"/>
          <a:stretch/>
        </p:blipFill>
        <p:spPr>
          <a:xfrm>
            <a:off x="3505320" y="2362320"/>
            <a:ext cx="5462640" cy="3657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utas de n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RutaNieve4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2719440" cy="3657600"/>
          </a:xfrm>
          <a:prstGeom prst="rect">
            <a:avLst/>
          </a:prstGeom>
          <a:ln w="0">
            <a:noFill/>
          </a:ln>
        </p:spPr>
      </p:pic>
      <p:pic>
        <p:nvPicPr>
          <p:cNvPr id="159" name="RutaNieve5" descr=""/>
          <p:cNvPicPr/>
          <p:nvPr/>
        </p:nvPicPr>
        <p:blipFill>
          <a:blip r:embed="rId2"/>
          <a:stretch/>
        </p:blipFill>
        <p:spPr>
          <a:xfrm>
            <a:off x="3352680" y="2895480"/>
            <a:ext cx="5546880" cy="3633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utas de n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5800" y="912960"/>
            <a:ext cx="777240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SnowPillow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5572080" cy="3681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62320" y="52578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now Pi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83480" y="422280"/>
            <a:ext cx="629460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INSTALACIÓN YUBICACIÓN DE PLUVIÓM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00320" y="993600"/>
            <a:ext cx="6624360" cy="1617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onsiderar: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peración y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Factores cl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ndiciones Físicas y Top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ipo de Observ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bjetivo de los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89160" y="1428840"/>
          <a:ext cx="150804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1428840"/>
                    <a:ext cx="150804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6014520" y="2590920"/>
            <a:ext cx="2646360" cy="100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efectos de inter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aptación insu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represent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7960" y="2936880"/>
            <a:ext cx="161316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au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76520" y="3371760"/>
            <a:ext cx="1375920" cy="666720"/>
            <a:chOff x="1676520" y="3371760"/>
            <a:chExt cx="1375920" cy="666720"/>
          </a:xfrm>
        </p:grpSpPr>
        <p:sp>
          <p:nvSpPr>
            <p:cNvPr id="171" name=""/>
            <p:cNvSpPr/>
            <p:nvPr/>
          </p:nvSpPr>
          <p:spPr>
            <a:xfrm>
              <a:off x="1676520" y="3371760"/>
              <a:ext cx="1295280" cy="666720"/>
            </a:xfrm>
            <a:custGeom>
              <a:avLst/>
              <a:gdLst/>
              <a:ahLst/>
              <a:rect l="l" t="t" r="r" b="b"/>
              <a:pathLst>
                <a:path w="709" h="385">
                  <a:moveTo>
                    <a:pt x="24" y="192"/>
                  </a:moveTo>
                  <a:lnTo>
                    <a:pt x="36" y="144"/>
                  </a:lnTo>
                  <a:lnTo>
                    <a:pt x="72" y="120"/>
                  </a:lnTo>
                  <a:lnTo>
                    <a:pt x="108" y="120"/>
                  </a:lnTo>
                  <a:lnTo>
                    <a:pt x="144" y="108"/>
                  </a:lnTo>
                  <a:lnTo>
                    <a:pt x="180" y="84"/>
                  </a:lnTo>
                  <a:lnTo>
                    <a:pt x="216" y="72"/>
                  </a:lnTo>
                  <a:lnTo>
                    <a:pt x="252" y="72"/>
                  </a:lnTo>
                  <a:lnTo>
                    <a:pt x="288" y="48"/>
                  </a:lnTo>
                  <a:lnTo>
                    <a:pt x="324" y="24"/>
                  </a:lnTo>
                  <a:lnTo>
                    <a:pt x="360" y="24"/>
                  </a:lnTo>
                  <a:lnTo>
                    <a:pt x="396" y="24"/>
                  </a:lnTo>
                  <a:lnTo>
                    <a:pt x="432" y="24"/>
                  </a:lnTo>
                  <a:lnTo>
                    <a:pt x="468" y="12"/>
                  </a:lnTo>
                  <a:lnTo>
                    <a:pt x="504" y="0"/>
                  </a:lnTo>
                  <a:lnTo>
                    <a:pt x="540" y="12"/>
                  </a:lnTo>
                  <a:lnTo>
                    <a:pt x="576" y="24"/>
                  </a:lnTo>
                  <a:lnTo>
                    <a:pt x="612" y="12"/>
                  </a:lnTo>
                  <a:lnTo>
                    <a:pt x="660" y="12"/>
                  </a:lnTo>
                  <a:lnTo>
                    <a:pt x="684" y="84"/>
                  </a:lnTo>
                  <a:lnTo>
                    <a:pt x="696" y="120"/>
                  </a:lnTo>
                  <a:lnTo>
                    <a:pt x="696" y="156"/>
                  </a:lnTo>
                  <a:lnTo>
                    <a:pt x="696" y="192"/>
                  </a:lnTo>
                  <a:lnTo>
                    <a:pt x="660" y="216"/>
                  </a:lnTo>
                  <a:lnTo>
                    <a:pt x="624" y="216"/>
                  </a:lnTo>
                  <a:lnTo>
                    <a:pt x="588" y="204"/>
                  </a:lnTo>
                  <a:lnTo>
                    <a:pt x="552" y="204"/>
                  </a:lnTo>
                  <a:lnTo>
                    <a:pt x="552" y="240"/>
                  </a:lnTo>
                  <a:lnTo>
                    <a:pt x="552" y="276"/>
                  </a:lnTo>
                  <a:lnTo>
                    <a:pt x="564" y="312"/>
                  </a:lnTo>
                  <a:lnTo>
                    <a:pt x="600" y="312"/>
                  </a:lnTo>
                  <a:lnTo>
                    <a:pt x="636" y="300"/>
                  </a:lnTo>
                  <a:lnTo>
                    <a:pt x="672" y="276"/>
                  </a:lnTo>
                  <a:lnTo>
                    <a:pt x="708" y="288"/>
                  </a:lnTo>
                  <a:lnTo>
                    <a:pt x="708" y="324"/>
                  </a:lnTo>
                  <a:lnTo>
                    <a:pt x="672" y="348"/>
                  </a:lnTo>
                  <a:lnTo>
                    <a:pt x="636" y="360"/>
                  </a:lnTo>
                  <a:lnTo>
                    <a:pt x="600" y="372"/>
                  </a:lnTo>
                  <a:lnTo>
                    <a:pt x="564" y="384"/>
                  </a:lnTo>
                  <a:lnTo>
                    <a:pt x="528" y="384"/>
                  </a:lnTo>
                  <a:lnTo>
                    <a:pt x="492" y="384"/>
                  </a:lnTo>
                  <a:lnTo>
                    <a:pt x="456" y="384"/>
                  </a:lnTo>
                  <a:lnTo>
                    <a:pt x="432" y="348"/>
                  </a:lnTo>
                  <a:lnTo>
                    <a:pt x="396" y="348"/>
                  </a:lnTo>
                  <a:lnTo>
                    <a:pt x="360" y="348"/>
                  </a:lnTo>
                  <a:lnTo>
                    <a:pt x="324" y="348"/>
                  </a:lnTo>
                  <a:lnTo>
                    <a:pt x="288" y="360"/>
                  </a:lnTo>
                  <a:lnTo>
                    <a:pt x="252" y="372"/>
                  </a:lnTo>
                  <a:lnTo>
                    <a:pt x="216" y="372"/>
                  </a:lnTo>
                  <a:lnTo>
                    <a:pt x="204" y="336"/>
                  </a:lnTo>
                  <a:lnTo>
                    <a:pt x="168" y="336"/>
                  </a:lnTo>
                  <a:lnTo>
                    <a:pt x="132" y="348"/>
                  </a:lnTo>
                  <a:lnTo>
                    <a:pt x="96" y="348"/>
                  </a:lnTo>
                  <a:lnTo>
                    <a:pt x="60" y="348"/>
                  </a:lnTo>
                  <a:lnTo>
                    <a:pt x="24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24" y="192"/>
                  </a:lnTo>
                  <a:lnTo>
                    <a:pt x="72" y="168"/>
                  </a:lnTo>
                  <a:lnTo>
                    <a:pt x="84" y="204"/>
                  </a:lnTo>
                  <a:lnTo>
                    <a:pt x="84" y="240"/>
                  </a:lnTo>
                  <a:lnTo>
                    <a:pt x="72" y="24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51120" y="3490920"/>
              <a:ext cx="85680" cy="104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35000" y="3659040"/>
              <a:ext cx="4064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28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2838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6880" y="3487680"/>
              <a:ext cx="101556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98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98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352680" y="3600360"/>
            <a:ext cx="507960" cy="114480"/>
            <a:chOff x="3352680" y="3600360"/>
            <a:chExt cx="507960" cy="114480"/>
          </a:xfrm>
        </p:grpSpPr>
        <p:sp>
          <p:nvSpPr>
            <p:cNvPr id="176" name=""/>
            <p:cNvSpPr/>
            <p:nvPr/>
          </p:nvSpPr>
          <p:spPr>
            <a:xfrm>
              <a:off x="3352680" y="360036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52680" y="365760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52680" y="371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549320" y="3565440"/>
            <a:ext cx="1018800" cy="397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6576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267080" y="3371760"/>
            <a:ext cx="203400" cy="285840"/>
            <a:chOff x="4267080" y="3371760"/>
            <a:chExt cx="203400" cy="285840"/>
          </a:xfrm>
        </p:grpSpPr>
        <p:sp>
          <p:nvSpPr>
            <p:cNvPr id="182" name=""/>
            <p:cNvSpPr/>
            <p:nvPr/>
          </p:nvSpPr>
          <p:spPr>
            <a:xfrm flipV="1">
              <a:off x="4267080" y="33717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470480" y="33717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09480" y="43434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135160" y="4057560"/>
          <a:ext cx="741240" cy="15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4057560"/>
                    <a:ext cx="7412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502280" y="5737320"/>
            <a:ext cx="56772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860640" y="4286160"/>
            <a:ext cx="71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39400" y="5394240"/>
            <a:ext cx="3268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53440" y="5680080"/>
            <a:ext cx="4546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4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470480" y="5829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87240" y="5794200"/>
            <a:ext cx="106740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h&gt;1,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73480" y="4457880"/>
            <a:ext cx="4872240" cy="1252440"/>
            <a:chOff x="4173480" y="4457880"/>
            <a:chExt cx="4872240" cy="1252440"/>
          </a:xfrm>
        </p:grpSpPr>
        <p:sp>
          <p:nvSpPr>
            <p:cNvPr id="194" name=""/>
            <p:cNvSpPr/>
            <p:nvPr/>
          </p:nvSpPr>
          <p:spPr>
            <a:xfrm>
              <a:off x="5207040" y="4614840"/>
              <a:ext cx="1476360" cy="716040"/>
            </a:xfrm>
            <a:custGeom>
              <a:avLst/>
              <a:gdLst/>
              <a:ahLst/>
              <a:rect l="l" t="t" r="r" b="b"/>
              <a:pathLst>
                <a:path w="697" h="601">
                  <a:moveTo>
                    <a:pt x="372" y="492"/>
                  </a:moveTo>
                  <a:lnTo>
                    <a:pt x="348" y="540"/>
                  </a:lnTo>
                  <a:lnTo>
                    <a:pt x="312" y="564"/>
                  </a:lnTo>
                  <a:lnTo>
                    <a:pt x="276" y="576"/>
                  </a:lnTo>
                  <a:lnTo>
                    <a:pt x="240" y="576"/>
                  </a:lnTo>
                  <a:lnTo>
                    <a:pt x="204" y="600"/>
                  </a:lnTo>
                  <a:lnTo>
                    <a:pt x="192" y="564"/>
                  </a:lnTo>
                  <a:lnTo>
                    <a:pt x="156" y="540"/>
                  </a:lnTo>
                  <a:lnTo>
                    <a:pt x="120" y="540"/>
                  </a:lnTo>
                  <a:lnTo>
                    <a:pt x="120" y="504"/>
                  </a:lnTo>
                  <a:lnTo>
                    <a:pt x="84" y="504"/>
                  </a:lnTo>
                  <a:lnTo>
                    <a:pt x="60" y="468"/>
                  </a:lnTo>
                  <a:lnTo>
                    <a:pt x="60" y="432"/>
                  </a:lnTo>
                  <a:lnTo>
                    <a:pt x="24" y="408"/>
                  </a:lnTo>
                  <a:lnTo>
                    <a:pt x="12" y="372"/>
                  </a:lnTo>
                  <a:lnTo>
                    <a:pt x="0" y="336"/>
                  </a:lnTo>
                  <a:lnTo>
                    <a:pt x="0" y="300"/>
                  </a:lnTo>
                  <a:lnTo>
                    <a:pt x="12" y="264"/>
                  </a:lnTo>
                  <a:lnTo>
                    <a:pt x="48" y="264"/>
                  </a:lnTo>
                  <a:lnTo>
                    <a:pt x="48" y="228"/>
                  </a:lnTo>
                  <a:lnTo>
                    <a:pt x="24" y="192"/>
                  </a:lnTo>
                  <a:lnTo>
                    <a:pt x="24" y="156"/>
                  </a:lnTo>
                  <a:lnTo>
                    <a:pt x="36" y="120"/>
                  </a:lnTo>
                  <a:lnTo>
                    <a:pt x="84" y="108"/>
                  </a:lnTo>
                  <a:lnTo>
                    <a:pt x="120" y="108"/>
                  </a:lnTo>
                  <a:lnTo>
                    <a:pt x="156" y="84"/>
                  </a:lnTo>
                  <a:lnTo>
                    <a:pt x="204" y="60"/>
                  </a:lnTo>
                  <a:lnTo>
                    <a:pt x="240" y="48"/>
                  </a:lnTo>
                  <a:lnTo>
                    <a:pt x="276" y="48"/>
                  </a:lnTo>
                  <a:lnTo>
                    <a:pt x="300" y="84"/>
                  </a:lnTo>
                  <a:lnTo>
                    <a:pt x="324" y="48"/>
                  </a:lnTo>
                  <a:lnTo>
                    <a:pt x="348" y="12"/>
                  </a:lnTo>
                  <a:lnTo>
                    <a:pt x="384" y="0"/>
                  </a:lnTo>
                  <a:lnTo>
                    <a:pt x="420" y="0"/>
                  </a:lnTo>
                  <a:lnTo>
                    <a:pt x="456" y="12"/>
                  </a:lnTo>
                  <a:lnTo>
                    <a:pt x="480" y="48"/>
                  </a:lnTo>
                  <a:lnTo>
                    <a:pt x="516" y="72"/>
                  </a:lnTo>
                  <a:lnTo>
                    <a:pt x="552" y="72"/>
                  </a:lnTo>
                  <a:lnTo>
                    <a:pt x="576" y="108"/>
                  </a:lnTo>
                  <a:lnTo>
                    <a:pt x="576" y="144"/>
                  </a:lnTo>
                  <a:lnTo>
                    <a:pt x="612" y="144"/>
                  </a:lnTo>
                  <a:lnTo>
                    <a:pt x="648" y="156"/>
                  </a:lnTo>
                  <a:lnTo>
                    <a:pt x="648" y="192"/>
                  </a:lnTo>
                  <a:lnTo>
                    <a:pt x="660" y="228"/>
                  </a:lnTo>
                  <a:lnTo>
                    <a:pt x="684" y="264"/>
                  </a:lnTo>
                  <a:lnTo>
                    <a:pt x="696" y="300"/>
                  </a:lnTo>
                  <a:lnTo>
                    <a:pt x="696" y="336"/>
                  </a:lnTo>
                  <a:lnTo>
                    <a:pt x="684" y="372"/>
                  </a:lnTo>
                  <a:lnTo>
                    <a:pt x="672" y="408"/>
                  </a:lnTo>
                  <a:lnTo>
                    <a:pt x="636" y="432"/>
                  </a:lnTo>
                  <a:lnTo>
                    <a:pt x="600" y="432"/>
                  </a:lnTo>
                  <a:lnTo>
                    <a:pt x="576" y="468"/>
                  </a:lnTo>
                  <a:lnTo>
                    <a:pt x="540" y="480"/>
                  </a:lnTo>
                  <a:lnTo>
                    <a:pt x="504" y="492"/>
                  </a:lnTo>
                  <a:lnTo>
                    <a:pt x="468" y="492"/>
                  </a:lnTo>
                </a:path>
              </a:pathLst>
            </a:custGeom>
            <a:solidFill>
              <a:srgbClr val="00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67080" y="4457880"/>
              <a:ext cx="4778640" cy="1144440"/>
            </a:xfrm>
            <a:custGeom>
              <a:avLst/>
              <a:gdLst/>
              <a:ahLst/>
              <a:rect l="l" t="t" r="r" b="b"/>
              <a:pathLst>
                <a:path w="2257" h="961">
                  <a:moveTo>
                    <a:pt x="0" y="960"/>
                  </a:moveTo>
                  <a:lnTo>
                    <a:pt x="48" y="948"/>
                  </a:lnTo>
                  <a:lnTo>
                    <a:pt x="84" y="948"/>
                  </a:lnTo>
                  <a:lnTo>
                    <a:pt x="144" y="948"/>
                  </a:lnTo>
                  <a:lnTo>
                    <a:pt x="180" y="948"/>
                  </a:lnTo>
                  <a:lnTo>
                    <a:pt x="216" y="948"/>
                  </a:lnTo>
                  <a:lnTo>
                    <a:pt x="252" y="948"/>
                  </a:lnTo>
                  <a:lnTo>
                    <a:pt x="288" y="948"/>
                  </a:lnTo>
                  <a:lnTo>
                    <a:pt x="324" y="948"/>
                  </a:lnTo>
                  <a:lnTo>
                    <a:pt x="360" y="948"/>
                  </a:lnTo>
                  <a:lnTo>
                    <a:pt x="396" y="948"/>
                  </a:lnTo>
                  <a:lnTo>
                    <a:pt x="432" y="948"/>
                  </a:lnTo>
                  <a:lnTo>
                    <a:pt x="468" y="948"/>
                  </a:lnTo>
                  <a:lnTo>
                    <a:pt x="504" y="948"/>
                  </a:lnTo>
                  <a:lnTo>
                    <a:pt x="540" y="948"/>
                  </a:lnTo>
                  <a:lnTo>
                    <a:pt x="576" y="936"/>
                  </a:lnTo>
                  <a:lnTo>
                    <a:pt x="612" y="936"/>
                  </a:lnTo>
                  <a:lnTo>
                    <a:pt x="648" y="924"/>
                  </a:lnTo>
                  <a:lnTo>
                    <a:pt x="684" y="924"/>
                  </a:lnTo>
                  <a:lnTo>
                    <a:pt x="720" y="912"/>
                  </a:lnTo>
                  <a:lnTo>
                    <a:pt x="756" y="900"/>
                  </a:lnTo>
                  <a:lnTo>
                    <a:pt x="792" y="876"/>
                  </a:lnTo>
                  <a:lnTo>
                    <a:pt x="828" y="876"/>
                  </a:lnTo>
                  <a:lnTo>
                    <a:pt x="864" y="852"/>
                  </a:lnTo>
                  <a:lnTo>
                    <a:pt x="900" y="828"/>
                  </a:lnTo>
                  <a:lnTo>
                    <a:pt x="936" y="816"/>
                  </a:lnTo>
                  <a:lnTo>
                    <a:pt x="972" y="804"/>
                  </a:lnTo>
                  <a:lnTo>
                    <a:pt x="1008" y="792"/>
                  </a:lnTo>
                  <a:lnTo>
                    <a:pt x="1044" y="792"/>
                  </a:lnTo>
                  <a:lnTo>
                    <a:pt x="1080" y="792"/>
                  </a:lnTo>
                  <a:lnTo>
                    <a:pt x="1116" y="780"/>
                  </a:lnTo>
                  <a:lnTo>
                    <a:pt x="1152" y="768"/>
                  </a:lnTo>
                  <a:lnTo>
                    <a:pt x="1188" y="756"/>
                  </a:lnTo>
                  <a:lnTo>
                    <a:pt x="1224" y="744"/>
                  </a:lnTo>
                  <a:lnTo>
                    <a:pt x="1248" y="708"/>
                  </a:lnTo>
                  <a:lnTo>
                    <a:pt x="1284" y="684"/>
                  </a:lnTo>
                  <a:lnTo>
                    <a:pt x="1320" y="648"/>
                  </a:lnTo>
                  <a:lnTo>
                    <a:pt x="1356" y="612"/>
                  </a:lnTo>
                  <a:lnTo>
                    <a:pt x="1368" y="576"/>
                  </a:lnTo>
                  <a:lnTo>
                    <a:pt x="1404" y="540"/>
                  </a:lnTo>
                  <a:lnTo>
                    <a:pt x="1440" y="516"/>
                  </a:lnTo>
                  <a:lnTo>
                    <a:pt x="1464" y="480"/>
                  </a:lnTo>
                  <a:lnTo>
                    <a:pt x="1488" y="444"/>
                  </a:lnTo>
                  <a:lnTo>
                    <a:pt x="1524" y="420"/>
                  </a:lnTo>
                  <a:lnTo>
                    <a:pt x="1560" y="408"/>
                  </a:lnTo>
                  <a:lnTo>
                    <a:pt x="1608" y="396"/>
                  </a:lnTo>
                  <a:lnTo>
                    <a:pt x="1656" y="384"/>
                  </a:lnTo>
                  <a:lnTo>
                    <a:pt x="1692" y="372"/>
                  </a:lnTo>
                  <a:lnTo>
                    <a:pt x="1728" y="324"/>
                  </a:lnTo>
                  <a:lnTo>
                    <a:pt x="1764" y="276"/>
                  </a:lnTo>
                  <a:lnTo>
                    <a:pt x="1800" y="264"/>
                  </a:lnTo>
                  <a:lnTo>
                    <a:pt x="1836" y="240"/>
                  </a:lnTo>
                  <a:lnTo>
                    <a:pt x="1872" y="216"/>
                  </a:lnTo>
                  <a:lnTo>
                    <a:pt x="1896" y="180"/>
                  </a:lnTo>
                  <a:lnTo>
                    <a:pt x="1944" y="156"/>
                  </a:lnTo>
                  <a:lnTo>
                    <a:pt x="1980" y="144"/>
                  </a:lnTo>
                  <a:lnTo>
                    <a:pt x="2016" y="132"/>
                  </a:lnTo>
                  <a:lnTo>
                    <a:pt x="2052" y="96"/>
                  </a:lnTo>
                  <a:lnTo>
                    <a:pt x="2064" y="60"/>
                  </a:lnTo>
                  <a:lnTo>
                    <a:pt x="2100" y="36"/>
                  </a:lnTo>
                  <a:lnTo>
                    <a:pt x="2136" y="36"/>
                  </a:lnTo>
                  <a:lnTo>
                    <a:pt x="2172" y="24"/>
                  </a:lnTo>
                  <a:lnTo>
                    <a:pt x="2208" y="24"/>
                  </a:lnTo>
                  <a:lnTo>
                    <a:pt x="2244" y="12"/>
                  </a:lnTo>
                  <a:lnTo>
                    <a:pt x="2256" y="0"/>
                  </a:lnTo>
                </a:path>
              </a:pathLst>
            </a:custGeom>
            <a:noFill/>
            <a:ln cap="rnd" w="507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37160" y="4900680"/>
              <a:ext cx="942840" cy="587160"/>
            </a:xfrm>
            <a:custGeom>
              <a:avLst/>
              <a:gdLst/>
              <a:ahLst/>
              <a:rect l="l" t="t" r="r" b="b"/>
              <a:pathLst>
                <a:path w="445" h="493">
                  <a:moveTo>
                    <a:pt x="168" y="492"/>
                  </a:moveTo>
                  <a:lnTo>
                    <a:pt x="180" y="444"/>
                  </a:lnTo>
                  <a:lnTo>
                    <a:pt x="180" y="408"/>
                  </a:lnTo>
                  <a:lnTo>
                    <a:pt x="192" y="372"/>
                  </a:lnTo>
                  <a:lnTo>
                    <a:pt x="192" y="336"/>
                  </a:lnTo>
                  <a:lnTo>
                    <a:pt x="204" y="300"/>
                  </a:lnTo>
                  <a:lnTo>
                    <a:pt x="204" y="264"/>
                  </a:lnTo>
                  <a:lnTo>
                    <a:pt x="168" y="252"/>
                  </a:lnTo>
                  <a:lnTo>
                    <a:pt x="132" y="228"/>
                  </a:lnTo>
                  <a:lnTo>
                    <a:pt x="120" y="192"/>
                  </a:lnTo>
                  <a:lnTo>
                    <a:pt x="120" y="156"/>
                  </a:lnTo>
                  <a:lnTo>
                    <a:pt x="84" y="132"/>
                  </a:lnTo>
                  <a:lnTo>
                    <a:pt x="60" y="96"/>
                  </a:lnTo>
                  <a:lnTo>
                    <a:pt x="24" y="84"/>
                  </a:lnTo>
                  <a:lnTo>
                    <a:pt x="0" y="48"/>
                  </a:lnTo>
                  <a:lnTo>
                    <a:pt x="0" y="12"/>
                  </a:lnTo>
                  <a:lnTo>
                    <a:pt x="36" y="0"/>
                  </a:lnTo>
                  <a:lnTo>
                    <a:pt x="60" y="36"/>
                  </a:lnTo>
                  <a:lnTo>
                    <a:pt x="96" y="60"/>
                  </a:lnTo>
                  <a:lnTo>
                    <a:pt x="132" y="72"/>
                  </a:lnTo>
                  <a:lnTo>
                    <a:pt x="156" y="108"/>
                  </a:lnTo>
                  <a:lnTo>
                    <a:pt x="192" y="132"/>
                  </a:lnTo>
                  <a:lnTo>
                    <a:pt x="228" y="168"/>
                  </a:lnTo>
                  <a:lnTo>
                    <a:pt x="252" y="132"/>
                  </a:lnTo>
                  <a:lnTo>
                    <a:pt x="252" y="96"/>
                  </a:lnTo>
                  <a:lnTo>
                    <a:pt x="252" y="60"/>
                  </a:lnTo>
                  <a:lnTo>
                    <a:pt x="252" y="24"/>
                  </a:lnTo>
                  <a:lnTo>
                    <a:pt x="288" y="24"/>
                  </a:lnTo>
                  <a:lnTo>
                    <a:pt x="300" y="60"/>
                  </a:lnTo>
                  <a:lnTo>
                    <a:pt x="336" y="84"/>
                  </a:lnTo>
                  <a:lnTo>
                    <a:pt x="372" y="84"/>
                  </a:lnTo>
                  <a:lnTo>
                    <a:pt x="384" y="48"/>
                  </a:lnTo>
                  <a:lnTo>
                    <a:pt x="396" y="12"/>
                  </a:lnTo>
                  <a:lnTo>
                    <a:pt x="432" y="0"/>
                  </a:lnTo>
                  <a:lnTo>
                    <a:pt x="444" y="36"/>
                  </a:lnTo>
                  <a:lnTo>
                    <a:pt x="444" y="72"/>
                  </a:lnTo>
                  <a:lnTo>
                    <a:pt x="420" y="108"/>
                  </a:lnTo>
                  <a:lnTo>
                    <a:pt x="384" y="132"/>
                  </a:lnTo>
                  <a:lnTo>
                    <a:pt x="372" y="168"/>
                  </a:lnTo>
                  <a:lnTo>
                    <a:pt x="336" y="192"/>
                  </a:lnTo>
                  <a:lnTo>
                    <a:pt x="324" y="228"/>
                  </a:lnTo>
                  <a:lnTo>
                    <a:pt x="312" y="264"/>
                  </a:lnTo>
                  <a:lnTo>
                    <a:pt x="300" y="300"/>
                  </a:lnTo>
                  <a:lnTo>
                    <a:pt x="288" y="336"/>
                  </a:lnTo>
                  <a:lnTo>
                    <a:pt x="276" y="372"/>
                  </a:lnTo>
                  <a:lnTo>
                    <a:pt x="276" y="408"/>
                  </a:lnTo>
                  <a:lnTo>
                    <a:pt x="264" y="444"/>
                  </a:lnTo>
                  <a:lnTo>
                    <a:pt x="264" y="480"/>
                  </a:lnTo>
                  <a:lnTo>
                    <a:pt x="228" y="492"/>
                  </a:lnTo>
                  <a:lnTo>
                    <a:pt x="168" y="492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75000" y="5433840"/>
              <a:ext cx="187560" cy="162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73480" y="5605560"/>
              <a:ext cx="492120" cy="104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Ubicapluv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45291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luv" descr=""/>
          <p:cNvPicPr/>
          <p:nvPr/>
        </p:nvPicPr>
        <p:blipFill>
          <a:blip r:embed="rId1"/>
          <a:stretch/>
        </p:blipFill>
        <p:spPr>
          <a:xfrm>
            <a:off x="4379760" y="3048120"/>
            <a:ext cx="4764240" cy="3644640"/>
          </a:xfrm>
          <a:prstGeom prst="rect">
            <a:avLst/>
          </a:prstGeom>
          <a:ln w="0">
            <a:noFill/>
          </a:ln>
        </p:spPr>
      </p:pic>
      <p:pic>
        <p:nvPicPr>
          <p:cNvPr id="71" name="pluvweatherb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987560" cy="2620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0" y="304920"/>
            <a:ext cx="464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Pluviómetro del Weather Bureau. Razón de área entre colector y embudo=1:10</a:t>
            </a:r>
            <a:r>
              <a:rPr b="0" lang="es-ES_trad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dividir por 10 para obtener agua caí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361960" y="8380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NivSacram" descr=""/>
          <p:cNvPicPr/>
          <p:nvPr/>
        </p:nvPicPr>
        <p:blipFill>
          <a:blip r:embed="rId3"/>
          <a:stretch/>
        </p:blipFill>
        <p:spPr>
          <a:xfrm>
            <a:off x="3733920" y="990720"/>
            <a:ext cx="2401920" cy="1584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400800" y="114300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Nivómetro tipo Sacr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nivvertical" descr=""/>
          <p:cNvPicPr/>
          <p:nvPr/>
        </p:nvPicPr>
        <p:blipFill>
          <a:blip r:embed="rId4"/>
          <a:stretch/>
        </p:blipFill>
        <p:spPr>
          <a:xfrm>
            <a:off x="838080" y="3657600"/>
            <a:ext cx="2511720" cy="1682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56386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Nivómetro de tubo 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6035760"/>
            <a:ext cx="403848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rebuchet MS"/>
              </a:rPr>
              <a:t>Se derrite la nieve (anticongelante CaCl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s-ES_tradnl" sz="1400" spc="-1" strike="noStrike">
                <a:solidFill>
                  <a:srgbClr val="000000"/>
                </a:solidFill>
                <a:latin typeface="Trebuchet MS"/>
              </a:rPr>
              <a:t>) y se mide equivalente en agua. Se utiliza hexadecanol o aceite para evitar evapo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800600" y="5029200"/>
            <a:ext cx="43434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37840" y="304920"/>
            <a:ext cx="4519440" cy="2226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Representatividad de las Me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amaño del á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ipo de 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Forma de la Precip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s Topográ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 vege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 de la Distancia al Centro Cue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12600" y="3657600"/>
            <a:ext cx="5305680" cy="19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rrores en Medida de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lectura (reglilla, gráf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instrumentales (oscilación balde, meca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relojería, escapes de agua, evaporación, reb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gotas, iner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exposición e insta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3048120"/>
            <a:ext cx="843264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876920" y="4952880"/>
            <a:ext cx="4267080" cy="1657080"/>
            <a:chOff x="4876920" y="4952880"/>
            <a:chExt cx="4267080" cy="1657080"/>
          </a:xfrm>
        </p:grpSpPr>
        <p:sp>
          <p:nvSpPr>
            <p:cNvPr id="205" name=""/>
            <p:cNvSpPr/>
            <p:nvPr/>
          </p:nvSpPr>
          <p:spPr>
            <a:xfrm flipV="1">
              <a:off x="5384880" y="6095520"/>
              <a:ext cx="3759120" cy="51444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47120" y="5457960"/>
              <a:ext cx="583920" cy="809640"/>
            </a:xfrm>
            <a:custGeom>
              <a:avLst/>
              <a:gdLst/>
              <a:ahLst/>
              <a:rect l="l" t="t" r="r" b="b"/>
              <a:pathLst>
                <a:path w="368" h="510">
                  <a:moveTo>
                    <a:pt x="93" y="510"/>
                  </a:moveTo>
                  <a:lnTo>
                    <a:pt x="0" y="32"/>
                  </a:lnTo>
                  <a:lnTo>
                    <a:pt x="259" y="0"/>
                  </a:lnTo>
                  <a:lnTo>
                    <a:pt x="368" y="475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92840" y="5638680"/>
              <a:ext cx="409680" cy="916200"/>
            </a:xfrm>
            <a:custGeom>
              <a:avLst/>
              <a:gdLst/>
              <a:ahLst/>
              <a:rect l="l" t="t" r="r" b="b"/>
              <a:pathLst>
                <a:path w="193" h="769">
                  <a:moveTo>
                    <a:pt x="0" y="768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720"/>
                  </a:lnTo>
                  <a:lnTo>
                    <a:pt x="192" y="672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6920" y="5124600"/>
              <a:ext cx="406440" cy="28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83360" y="5124600"/>
              <a:ext cx="406080" cy="28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92840" y="501012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5720" y="501012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13680" y="495288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3520" y="533520"/>
            <a:ext cx="3352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EFECTO PEN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3581280"/>
            <a:ext cx="2819160" cy="83844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562720" y="3657240"/>
            <a:ext cx="2514600" cy="76212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380988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371600" y="23623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971800" y="28195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543800" y="2895480"/>
            <a:ext cx="1447920" cy="914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791320" y="30481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971800" y="23623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791320" y="251460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371600" y="228600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971800" y="3124080"/>
            <a:ext cx="0" cy="99072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3657600"/>
            <a:ext cx="26668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7543800" y="243828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791320" y="297180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2819520"/>
            <a:ext cx="6094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960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281952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51055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Pluviómetro OC capta menos que terreno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3341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Pluviómetro OC capta mas que terreno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380880"/>
            <a:ext cx="358128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CORRECC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r=OB/OC=1</a:t>
            </a:r>
            <a:r>
              <a:rPr b="1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</a:t>
            </a: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1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/tg </a:t>
            </a:r>
            <a:r>
              <a:rPr b="1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38080" y="838080"/>
            <a:ext cx="236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1752480"/>
            <a:ext cx="2057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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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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2438280"/>
            <a:ext cx="17524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r=1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r=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396800">
            <a:off x="3962160" y="1905120"/>
            <a:ext cx="1371600" cy="1066680"/>
          </a:xfrm>
          <a:prstGeom prst="rightArrow">
            <a:avLst>
              <a:gd name="adj1" fmla="val 50000"/>
              <a:gd name="adj2" fmla="val 32146"/>
            </a:avLst>
          </a:prstGeom>
          <a:gradFill rotWithShape="0">
            <a:gsLst>
              <a:gs pos="0">
                <a:srgbClr val="ffffff"/>
              </a:gs>
              <a:gs pos="50000">
                <a:srgbClr val="3333cc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114800"/>
            <a:ext cx="44197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99ff"/>
                </a:solidFill>
                <a:latin typeface="Tahoma"/>
              </a:rPr>
              <a:t>En una cuenca efecto de inclinación tiende a compensarse al calcular Pmedia. Solo considerar en estudios de alta prec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849920" y="3824280"/>
            <a:ext cx="3946320" cy="1606680"/>
            <a:chOff x="4849920" y="3824280"/>
            <a:chExt cx="3946320" cy="1606680"/>
          </a:xfrm>
        </p:grpSpPr>
        <p:sp>
          <p:nvSpPr>
            <p:cNvPr id="251" name=""/>
            <p:cNvSpPr/>
            <p:nvPr/>
          </p:nvSpPr>
          <p:spPr>
            <a:xfrm>
              <a:off x="4849920" y="3824280"/>
              <a:ext cx="3946320" cy="1606680"/>
            </a:xfrm>
            <a:custGeom>
              <a:avLst/>
              <a:gdLst/>
              <a:ahLst/>
              <a:rect l="l" t="t" r="r" b="b"/>
              <a:pathLst>
                <a:path w="2486" h="1012">
                  <a:moveTo>
                    <a:pt x="0" y="287"/>
                  </a:moveTo>
                  <a:cubicBezTo>
                    <a:pt x="34" y="299"/>
                    <a:pt x="20" y="289"/>
                    <a:pt x="46" y="326"/>
                  </a:cubicBezTo>
                  <a:cubicBezTo>
                    <a:pt x="57" y="341"/>
                    <a:pt x="78" y="373"/>
                    <a:pt x="78" y="373"/>
                  </a:cubicBezTo>
                  <a:cubicBezTo>
                    <a:pt x="96" y="453"/>
                    <a:pt x="71" y="359"/>
                    <a:pt x="101" y="428"/>
                  </a:cubicBezTo>
                  <a:cubicBezTo>
                    <a:pt x="110" y="448"/>
                    <a:pt x="110" y="488"/>
                    <a:pt x="124" y="506"/>
                  </a:cubicBezTo>
                  <a:cubicBezTo>
                    <a:pt x="136" y="521"/>
                    <a:pt x="163" y="525"/>
                    <a:pt x="179" y="529"/>
                  </a:cubicBezTo>
                  <a:cubicBezTo>
                    <a:pt x="198" y="558"/>
                    <a:pt x="213" y="596"/>
                    <a:pt x="241" y="615"/>
                  </a:cubicBezTo>
                  <a:cubicBezTo>
                    <a:pt x="250" y="642"/>
                    <a:pt x="262" y="671"/>
                    <a:pt x="280" y="693"/>
                  </a:cubicBezTo>
                  <a:cubicBezTo>
                    <a:pt x="304" y="722"/>
                    <a:pt x="303" y="707"/>
                    <a:pt x="319" y="739"/>
                  </a:cubicBezTo>
                  <a:cubicBezTo>
                    <a:pt x="329" y="758"/>
                    <a:pt x="323" y="784"/>
                    <a:pt x="335" y="802"/>
                  </a:cubicBezTo>
                  <a:cubicBezTo>
                    <a:pt x="339" y="809"/>
                    <a:pt x="350" y="808"/>
                    <a:pt x="358" y="810"/>
                  </a:cubicBezTo>
                  <a:cubicBezTo>
                    <a:pt x="390" y="818"/>
                    <a:pt x="420" y="825"/>
                    <a:pt x="452" y="833"/>
                  </a:cubicBezTo>
                  <a:cubicBezTo>
                    <a:pt x="473" y="845"/>
                    <a:pt x="492" y="862"/>
                    <a:pt x="514" y="872"/>
                  </a:cubicBezTo>
                  <a:cubicBezTo>
                    <a:pt x="529" y="879"/>
                    <a:pt x="561" y="888"/>
                    <a:pt x="561" y="888"/>
                  </a:cubicBezTo>
                  <a:cubicBezTo>
                    <a:pt x="632" y="959"/>
                    <a:pt x="597" y="935"/>
                    <a:pt x="724" y="958"/>
                  </a:cubicBezTo>
                  <a:cubicBezTo>
                    <a:pt x="748" y="963"/>
                    <a:pt x="795" y="981"/>
                    <a:pt x="795" y="981"/>
                  </a:cubicBezTo>
                  <a:cubicBezTo>
                    <a:pt x="803" y="986"/>
                    <a:pt x="809" y="993"/>
                    <a:pt x="818" y="997"/>
                  </a:cubicBezTo>
                  <a:cubicBezTo>
                    <a:pt x="833" y="1004"/>
                    <a:pt x="865" y="1012"/>
                    <a:pt x="865" y="1012"/>
                  </a:cubicBezTo>
                  <a:cubicBezTo>
                    <a:pt x="1013" y="995"/>
                    <a:pt x="1161" y="1002"/>
                    <a:pt x="1309" y="989"/>
                  </a:cubicBezTo>
                  <a:cubicBezTo>
                    <a:pt x="1363" y="952"/>
                    <a:pt x="1416" y="950"/>
                    <a:pt x="1480" y="942"/>
                  </a:cubicBezTo>
                  <a:cubicBezTo>
                    <a:pt x="1534" y="914"/>
                    <a:pt x="1524" y="896"/>
                    <a:pt x="1550" y="849"/>
                  </a:cubicBezTo>
                  <a:cubicBezTo>
                    <a:pt x="1577" y="800"/>
                    <a:pt x="1614" y="777"/>
                    <a:pt x="1652" y="739"/>
                  </a:cubicBezTo>
                  <a:cubicBezTo>
                    <a:pt x="1668" y="685"/>
                    <a:pt x="1704" y="698"/>
                    <a:pt x="1698" y="638"/>
                  </a:cubicBezTo>
                  <a:cubicBezTo>
                    <a:pt x="1705" y="595"/>
                    <a:pt x="1687" y="556"/>
                    <a:pt x="1730" y="545"/>
                  </a:cubicBezTo>
                  <a:cubicBezTo>
                    <a:pt x="1761" y="537"/>
                    <a:pt x="1792" y="521"/>
                    <a:pt x="1792" y="521"/>
                  </a:cubicBezTo>
                  <a:cubicBezTo>
                    <a:pt x="1815" y="504"/>
                    <a:pt x="1843" y="486"/>
                    <a:pt x="1870" y="474"/>
                  </a:cubicBezTo>
                  <a:cubicBezTo>
                    <a:pt x="1885" y="467"/>
                    <a:pt x="1901" y="464"/>
                    <a:pt x="1917" y="459"/>
                  </a:cubicBezTo>
                  <a:cubicBezTo>
                    <a:pt x="1925" y="456"/>
                    <a:pt x="1940" y="451"/>
                    <a:pt x="1940" y="451"/>
                  </a:cubicBezTo>
                  <a:cubicBezTo>
                    <a:pt x="1968" y="423"/>
                    <a:pt x="1988" y="391"/>
                    <a:pt x="2010" y="358"/>
                  </a:cubicBezTo>
                  <a:cubicBezTo>
                    <a:pt x="2034" y="320"/>
                    <a:pt x="2083" y="303"/>
                    <a:pt x="2119" y="280"/>
                  </a:cubicBezTo>
                  <a:cubicBezTo>
                    <a:pt x="2135" y="232"/>
                    <a:pt x="2124" y="111"/>
                    <a:pt x="2166" y="69"/>
                  </a:cubicBezTo>
                  <a:cubicBezTo>
                    <a:pt x="2183" y="52"/>
                    <a:pt x="2212" y="58"/>
                    <a:pt x="2236" y="54"/>
                  </a:cubicBezTo>
                  <a:cubicBezTo>
                    <a:pt x="2316" y="0"/>
                    <a:pt x="2360" y="30"/>
                    <a:pt x="2486" y="30"/>
                  </a:cubicBezTo>
                </a:path>
              </a:pathLst>
            </a:custGeom>
            <a:noFill/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86400" y="4800600"/>
              <a:ext cx="763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38880" y="4876920"/>
              <a:ext cx="763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7772400" y="388620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629400" y="419112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009920" y="4343400"/>
              <a:ext cx="38124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172200" y="419112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638320" y="4191120"/>
              <a:ext cx="38124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257800" y="419112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181480" y="57913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luviómetros capta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63960" y="5181480"/>
            <a:ext cx="470160" cy="1295640"/>
          </a:xfrm>
          <a:custGeom>
            <a:avLst/>
            <a:gdLst/>
            <a:ahLst/>
            <a:rect l="l" t="t" r="r" b="b"/>
            <a:pathLst>
              <a:path w="296" h="816">
                <a:moveTo>
                  <a:pt x="248" y="816"/>
                </a:moveTo>
                <a:cubicBezTo>
                  <a:pt x="124" y="788"/>
                  <a:pt x="0" y="760"/>
                  <a:pt x="8" y="624"/>
                </a:cubicBezTo>
                <a:cubicBezTo>
                  <a:pt x="16" y="488"/>
                  <a:pt x="248" y="104"/>
                  <a:pt x="296" y="0"/>
                </a:cubicBezTo>
              </a:path>
            </a:pathLst>
          </a:custGeom>
          <a:noFill/>
          <a:ln w="9360">
            <a:solidFill>
              <a:srgbClr val="33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6324480"/>
            <a:ext cx="3581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99ff"/>
                </a:solidFill>
                <a:latin typeface="Tahoma"/>
              </a:rPr>
              <a:t>Recibe mas 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892880" y="304920"/>
            <a:ext cx="3893040" cy="3141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En áreas agrícolas (Holtan, 196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Area (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)      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-0,1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12-0,4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4-0,8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8-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0,4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2-10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1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0-20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2,59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&gt;20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7,8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3809880"/>
            <a:ext cx="7209000" cy="2836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Densidad Mínima (Gray, 1979; WMO, 198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Regiones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Times New Roman"/>
              </a:rPr>
              <a:t>Plana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de Zonas Templadas, mediterráneas y   tropicales: 600 a 90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Regiones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Times New Roman"/>
              </a:rPr>
              <a:t>Montañosa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de Zonas Templadas, mediterráneas y tropicales: 100 a 25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 Islas montañosas pequeñas con precipitación irregular: 25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 Zonas Áridas y Polares: 1.500 a 10.00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7848720" y="6019920"/>
          <a:ext cx="97452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6019920"/>
                    <a:ext cx="9745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143000" y="650880"/>
            <a:ext cx="7315200" cy="591660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DISTCHILE" descr=""/>
          <p:cNvPicPr/>
          <p:nvPr/>
        </p:nvPicPr>
        <p:blipFill>
          <a:blip r:embed="rId1"/>
          <a:stretch/>
        </p:blipFill>
        <p:spPr>
          <a:xfrm>
            <a:off x="380880" y="1398600"/>
            <a:ext cx="8305920" cy="409896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269" name=""/>
          <p:cNvSpPr/>
          <p:nvPr/>
        </p:nvSpPr>
        <p:spPr>
          <a:xfrm>
            <a:off x="1828800" y="4724280"/>
            <a:ext cx="3962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Perfil pluvi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612880" y="1905120"/>
            <a:ext cx="4011840" cy="2530440"/>
            <a:chOff x="2612880" y="1905120"/>
            <a:chExt cx="4011840" cy="2530440"/>
          </a:xfrm>
        </p:grpSpPr>
        <p:sp>
          <p:nvSpPr>
            <p:cNvPr id="271" name=""/>
            <p:cNvSpPr/>
            <p:nvPr/>
          </p:nvSpPr>
          <p:spPr>
            <a:xfrm>
              <a:off x="2612880" y="2781360"/>
              <a:ext cx="4011840" cy="1654200"/>
            </a:xfrm>
            <a:custGeom>
              <a:avLst/>
              <a:gdLst/>
              <a:ahLst/>
              <a:rect l="l" t="t" r="r" b="b"/>
              <a:pathLst>
                <a:path w="2527" h="1042">
                  <a:moveTo>
                    <a:pt x="0" y="1022"/>
                  </a:moveTo>
                  <a:cubicBezTo>
                    <a:pt x="59" y="1042"/>
                    <a:pt x="48" y="1017"/>
                    <a:pt x="106" y="999"/>
                  </a:cubicBezTo>
                  <a:cubicBezTo>
                    <a:pt x="114" y="987"/>
                    <a:pt x="119" y="973"/>
                    <a:pt x="129" y="963"/>
                  </a:cubicBezTo>
                  <a:cubicBezTo>
                    <a:pt x="139" y="953"/>
                    <a:pt x="157" y="952"/>
                    <a:pt x="164" y="940"/>
                  </a:cubicBezTo>
                  <a:cubicBezTo>
                    <a:pt x="204" y="876"/>
                    <a:pt x="188" y="823"/>
                    <a:pt x="258" y="775"/>
                  </a:cubicBezTo>
                  <a:cubicBezTo>
                    <a:pt x="289" y="685"/>
                    <a:pt x="243" y="794"/>
                    <a:pt x="305" y="717"/>
                  </a:cubicBezTo>
                  <a:cubicBezTo>
                    <a:pt x="350" y="660"/>
                    <a:pt x="276" y="694"/>
                    <a:pt x="352" y="670"/>
                  </a:cubicBezTo>
                  <a:cubicBezTo>
                    <a:pt x="379" y="590"/>
                    <a:pt x="342" y="669"/>
                    <a:pt x="399" y="623"/>
                  </a:cubicBezTo>
                  <a:cubicBezTo>
                    <a:pt x="475" y="563"/>
                    <a:pt x="371" y="603"/>
                    <a:pt x="458" y="576"/>
                  </a:cubicBezTo>
                  <a:cubicBezTo>
                    <a:pt x="527" y="472"/>
                    <a:pt x="435" y="594"/>
                    <a:pt x="517" y="528"/>
                  </a:cubicBezTo>
                  <a:cubicBezTo>
                    <a:pt x="528" y="519"/>
                    <a:pt x="530" y="503"/>
                    <a:pt x="540" y="493"/>
                  </a:cubicBezTo>
                  <a:cubicBezTo>
                    <a:pt x="550" y="483"/>
                    <a:pt x="564" y="478"/>
                    <a:pt x="576" y="470"/>
                  </a:cubicBezTo>
                  <a:cubicBezTo>
                    <a:pt x="584" y="458"/>
                    <a:pt x="593" y="447"/>
                    <a:pt x="599" y="434"/>
                  </a:cubicBezTo>
                  <a:cubicBezTo>
                    <a:pt x="604" y="423"/>
                    <a:pt x="602" y="408"/>
                    <a:pt x="611" y="399"/>
                  </a:cubicBezTo>
                  <a:cubicBezTo>
                    <a:pt x="614" y="396"/>
                    <a:pt x="679" y="377"/>
                    <a:pt x="682" y="376"/>
                  </a:cubicBezTo>
                  <a:cubicBezTo>
                    <a:pt x="784" y="306"/>
                    <a:pt x="609" y="418"/>
                    <a:pt x="823" y="340"/>
                  </a:cubicBezTo>
                  <a:cubicBezTo>
                    <a:pt x="836" y="335"/>
                    <a:pt x="835" y="314"/>
                    <a:pt x="846" y="305"/>
                  </a:cubicBezTo>
                  <a:cubicBezTo>
                    <a:pt x="849" y="302"/>
                    <a:pt x="913" y="283"/>
                    <a:pt x="917" y="282"/>
                  </a:cubicBezTo>
                  <a:cubicBezTo>
                    <a:pt x="925" y="270"/>
                    <a:pt x="930" y="256"/>
                    <a:pt x="940" y="246"/>
                  </a:cubicBezTo>
                  <a:cubicBezTo>
                    <a:pt x="950" y="236"/>
                    <a:pt x="966" y="234"/>
                    <a:pt x="975" y="223"/>
                  </a:cubicBezTo>
                  <a:cubicBezTo>
                    <a:pt x="983" y="213"/>
                    <a:pt x="981" y="199"/>
                    <a:pt x="987" y="188"/>
                  </a:cubicBezTo>
                  <a:cubicBezTo>
                    <a:pt x="1007" y="148"/>
                    <a:pt x="1010" y="153"/>
                    <a:pt x="1046" y="129"/>
                  </a:cubicBezTo>
                  <a:cubicBezTo>
                    <a:pt x="1054" y="141"/>
                    <a:pt x="1059" y="154"/>
                    <a:pt x="1069" y="164"/>
                  </a:cubicBezTo>
                  <a:cubicBezTo>
                    <a:pt x="1079" y="174"/>
                    <a:pt x="1097" y="176"/>
                    <a:pt x="1105" y="188"/>
                  </a:cubicBezTo>
                  <a:cubicBezTo>
                    <a:pt x="1163" y="280"/>
                    <a:pt x="1089" y="245"/>
                    <a:pt x="1163" y="270"/>
                  </a:cubicBezTo>
                  <a:cubicBezTo>
                    <a:pt x="1183" y="211"/>
                    <a:pt x="1163" y="239"/>
                    <a:pt x="1246" y="211"/>
                  </a:cubicBezTo>
                  <a:cubicBezTo>
                    <a:pt x="1258" y="207"/>
                    <a:pt x="1269" y="203"/>
                    <a:pt x="1281" y="199"/>
                  </a:cubicBezTo>
                  <a:cubicBezTo>
                    <a:pt x="1293" y="195"/>
                    <a:pt x="1316" y="188"/>
                    <a:pt x="1316" y="188"/>
                  </a:cubicBezTo>
                  <a:cubicBezTo>
                    <a:pt x="1383" y="144"/>
                    <a:pt x="1438" y="139"/>
                    <a:pt x="1516" y="129"/>
                  </a:cubicBezTo>
                  <a:cubicBezTo>
                    <a:pt x="1566" y="112"/>
                    <a:pt x="1618" y="110"/>
                    <a:pt x="1669" y="94"/>
                  </a:cubicBezTo>
                  <a:cubicBezTo>
                    <a:pt x="1733" y="50"/>
                    <a:pt x="1806" y="23"/>
                    <a:pt x="1881" y="0"/>
                  </a:cubicBezTo>
                  <a:cubicBezTo>
                    <a:pt x="1938" y="11"/>
                    <a:pt x="1990" y="28"/>
                    <a:pt x="2045" y="47"/>
                  </a:cubicBezTo>
                  <a:cubicBezTo>
                    <a:pt x="2145" y="81"/>
                    <a:pt x="2256" y="54"/>
                    <a:pt x="2362" y="58"/>
                  </a:cubicBezTo>
                  <a:cubicBezTo>
                    <a:pt x="2374" y="66"/>
                    <a:pt x="2385" y="75"/>
                    <a:pt x="2398" y="82"/>
                  </a:cubicBezTo>
                  <a:cubicBezTo>
                    <a:pt x="2409" y="88"/>
                    <a:pt x="2422" y="88"/>
                    <a:pt x="2433" y="94"/>
                  </a:cubicBezTo>
                  <a:cubicBezTo>
                    <a:pt x="2458" y="108"/>
                    <a:pt x="2504" y="141"/>
                    <a:pt x="2504" y="141"/>
                  </a:cubicBezTo>
                  <a:cubicBezTo>
                    <a:pt x="2518" y="184"/>
                    <a:pt x="2509" y="165"/>
                    <a:pt x="2527" y="199"/>
                  </a:cubicBezTo>
                </a:path>
              </a:pathLst>
            </a:custGeom>
            <a:noFill/>
            <a:ln w="76320">
              <a:solidFill>
                <a:srgbClr val="ff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52880" y="1905120"/>
              <a:ext cx="160020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ff"/>
                  </a:solidFill>
                  <a:latin typeface="Verdana"/>
                </a:rPr>
                <a:t>Cost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447920" y="2806560"/>
            <a:ext cx="7238880" cy="1082160"/>
            <a:chOff x="1447920" y="2806560"/>
            <a:chExt cx="7238880" cy="1082160"/>
          </a:xfrm>
        </p:grpSpPr>
        <p:sp>
          <p:nvSpPr>
            <p:cNvPr id="274" name=""/>
            <p:cNvSpPr/>
            <p:nvPr/>
          </p:nvSpPr>
          <p:spPr>
            <a:xfrm>
              <a:off x="1447920" y="2806560"/>
              <a:ext cx="5029200" cy="863640"/>
            </a:xfrm>
            <a:custGeom>
              <a:avLst/>
              <a:gdLst/>
              <a:ahLst/>
              <a:rect l="l" t="t" r="r" b="b"/>
              <a:pathLst>
                <a:path w="3168" h="544">
                  <a:moveTo>
                    <a:pt x="0" y="440"/>
                  </a:moveTo>
                  <a:cubicBezTo>
                    <a:pt x="36" y="456"/>
                    <a:pt x="72" y="472"/>
                    <a:pt x="96" y="488"/>
                  </a:cubicBezTo>
                  <a:cubicBezTo>
                    <a:pt x="120" y="504"/>
                    <a:pt x="112" y="528"/>
                    <a:pt x="144" y="536"/>
                  </a:cubicBezTo>
                  <a:cubicBezTo>
                    <a:pt x="176" y="544"/>
                    <a:pt x="256" y="544"/>
                    <a:pt x="288" y="536"/>
                  </a:cubicBezTo>
                  <a:cubicBezTo>
                    <a:pt x="320" y="528"/>
                    <a:pt x="304" y="496"/>
                    <a:pt x="336" y="488"/>
                  </a:cubicBezTo>
                  <a:cubicBezTo>
                    <a:pt x="368" y="480"/>
                    <a:pt x="448" y="480"/>
                    <a:pt x="480" y="488"/>
                  </a:cubicBezTo>
                  <a:cubicBezTo>
                    <a:pt x="512" y="496"/>
                    <a:pt x="504" y="536"/>
                    <a:pt x="528" y="536"/>
                  </a:cubicBezTo>
                  <a:cubicBezTo>
                    <a:pt x="552" y="536"/>
                    <a:pt x="592" y="488"/>
                    <a:pt x="624" y="488"/>
                  </a:cubicBezTo>
                  <a:cubicBezTo>
                    <a:pt x="656" y="488"/>
                    <a:pt x="688" y="536"/>
                    <a:pt x="720" y="536"/>
                  </a:cubicBezTo>
                  <a:cubicBezTo>
                    <a:pt x="752" y="536"/>
                    <a:pt x="784" y="512"/>
                    <a:pt x="816" y="488"/>
                  </a:cubicBezTo>
                  <a:cubicBezTo>
                    <a:pt x="848" y="464"/>
                    <a:pt x="888" y="416"/>
                    <a:pt x="912" y="392"/>
                  </a:cubicBezTo>
                  <a:cubicBezTo>
                    <a:pt x="936" y="368"/>
                    <a:pt x="936" y="360"/>
                    <a:pt x="960" y="344"/>
                  </a:cubicBezTo>
                  <a:cubicBezTo>
                    <a:pt x="984" y="328"/>
                    <a:pt x="1024" y="296"/>
                    <a:pt x="1056" y="296"/>
                  </a:cubicBezTo>
                  <a:cubicBezTo>
                    <a:pt x="1088" y="296"/>
                    <a:pt x="1120" y="344"/>
                    <a:pt x="1152" y="344"/>
                  </a:cubicBezTo>
                  <a:cubicBezTo>
                    <a:pt x="1184" y="344"/>
                    <a:pt x="1224" y="320"/>
                    <a:pt x="1248" y="296"/>
                  </a:cubicBezTo>
                  <a:cubicBezTo>
                    <a:pt x="1272" y="272"/>
                    <a:pt x="1272" y="224"/>
                    <a:pt x="1296" y="200"/>
                  </a:cubicBezTo>
                  <a:cubicBezTo>
                    <a:pt x="1320" y="176"/>
                    <a:pt x="1360" y="168"/>
                    <a:pt x="1392" y="152"/>
                  </a:cubicBezTo>
                  <a:cubicBezTo>
                    <a:pt x="1424" y="136"/>
                    <a:pt x="1456" y="112"/>
                    <a:pt x="1488" y="104"/>
                  </a:cubicBezTo>
                  <a:cubicBezTo>
                    <a:pt x="1520" y="96"/>
                    <a:pt x="1544" y="104"/>
                    <a:pt x="1584" y="104"/>
                  </a:cubicBezTo>
                  <a:cubicBezTo>
                    <a:pt x="1624" y="104"/>
                    <a:pt x="1688" y="104"/>
                    <a:pt x="1728" y="104"/>
                  </a:cubicBezTo>
                  <a:cubicBezTo>
                    <a:pt x="1768" y="104"/>
                    <a:pt x="1792" y="112"/>
                    <a:pt x="1824" y="104"/>
                  </a:cubicBezTo>
                  <a:cubicBezTo>
                    <a:pt x="1856" y="96"/>
                    <a:pt x="1880" y="64"/>
                    <a:pt x="1920" y="56"/>
                  </a:cubicBezTo>
                  <a:cubicBezTo>
                    <a:pt x="1960" y="48"/>
                    <a:pt x="2024" y="56"/>
                    <a:pt x="2064" y="56"/>
                  </a:cubicBezTo>
                  <a:cubicBezTo>
                    <a:pt x="2104" y="56"/>
                    <a:pt x="2120" y="40"/>
                    <a:pt x="2160" y="56"/>
                  </a:cubicBezTo>
                  <a:cubicBezTo>
                    <a:pt x="2200" y="72"/>
                    <a:pt x="2272" y="128"/>
                    <a:pt x="2304" y="152"/>
                  </a:cubicBezTo>
                  <a:cubicBezTo>
                    <a:pt x="2336" y="176"/>
                    <a:pt x="2344" y="176"/>
                    <a:pt x="2352" y="200"/>
                  </a:cubicBezTo>
                  <a:cubicBezTo>
                    <a:pt x="2360" y="224"/>
                    <a:pt x="2328" y="272"/>
                    <a:pt x="2352" y="296"/>
                  </a:cubicBezTo>
                  <a:cubicBezTo>
                    <a:pt x="2376" y="320"/>
                    <a:pt x="2456" y="344"/>
                    <a:pt x="2496" y="344"/>
                  </a:cubicBezTo>
                  <a:cubicBezTo>
                    <a:pt x="2536" y="344"/>
                    <a:pt x="2568" y="312"/>
                    <a:pt x="2592" y="296"/>
                  </a:cubicBezTo>
                  <a:cubicBezTo>
                    <a:pt x="2616" y="280"/>
                    <a:pt x="2624" y="248"/>
                    <a:pt x="2640" y="248"/>
                  </a:cubicBezTo>
                  <a:cubicBezTo>
                    <a:pt x="2656" y="248"/>
                    <a:pt x="2672" y="304"/>
                    <a:pt x="2688" y="296"/>
                  </a:cubicBezTo>
                  <a:cubicBezTo>
                    <a:pt x="2704" y="288"/>
                    <a:pt x="2720" y="224"/>
                    <a:pt x="2736" y="200"/>
                  </a:cubicBezTo>
                  <a:cubicBezTo>
                    <a:pt x="2752" y="176"/>
                    <a:pt x="2776" y="176"/>
                    <a:pt x="2784" y="152"/>
                  </a:cubicBezTo>
                  <a:cubicBezTo>
                    <a:pt x="2792" y="128"/>
                    <a:pt x="2776" y="80"/>
                    <a:pt x="2784" y="56"/>
                  </a:cubicBezTo>
                  <a:cubicBezTo>
                    <a:pt x="2792" y="32"/>
                    <a:pt x="2816" y="0"/>
                    <a:pt x="2832" y="8"/>
                  </a:cubicBezTo>
                  <a:cubicBezTo>
                    <a:pt x="2848" y="16"/>
                    <a:pt x="2872" y="72"/>
                    <a:pt x="2880" y="104"/>
                  </a:cubicBezTo>
                  <a:cubicBezTo>
                    <a:pt x="2888" y="136"/>
                    <a:pt x="2880" y="168"/>
                    <a:pt x="2880" y="200"/>
                  </a:cubicBezTo>
                  <a:cubicBezTo>
                    <a:pt x="2880" y="232"/>
                    <a:pt x="2872" y="264"/>
                    <a:pt x="2880" y="296"/>
                  </a:cubicBezTo>
                  <a:cubicBezTo>
                    <a:pt x="2888" y="328"/>
                    <a:pt x="2904" y="368"/>
                    <a:pt x="2928" y="392"/>
                  </a:cubicBezTo>
                  <a:cubicBezTo>
                    <a:pt x="2952" y="416"/>
                    <a:pt x="2992" y="448"/>
                    <a:pt x="3024" y="440"/>
                  </a:cubicBezTo>
                  <a:cubicBezTo>
                    <a:pt x="3056" y="432"/>
                    <a:pt x="3096" y="368"/>
                    <a:pt x="3120" y="344"/>
                  </a:cubicBezTo>
                  <a:cubicBezTo>
                    <a:pt x="3144" y="320"/>
                    <a:pt x="3156" y="308"/>
                    <a:pt x="3168" y="296"/>
                  </a:cubicBezTo>
                </a:path>
              </a:pathLst>
            </a:custGeom>
            <a:noFill/>
            <a:ln w="7632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4320" y="3429000"/>
              <a:ext cx="175248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66"/>
                  </a:solidFill>
                  <a:latin typeface="Verdana"/>
                </a:rPr>
                <a:t>Fron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523880" y="2057400"/>
            <a:ext cx="5105520" cy="2209680"/>
            <a:chOff x="1523880" y="2057400"/>
            <a:chExt cx="5105520" cy="2209680"/>
          </a:xfrm>
        </p:grpSpPr>
        <p:sp>
          <p:nvSpPr>
            <p:cNvPr id="277" name=""/>
            <p:cNvSpPr/>
            <p:nvPr/>
          </p:nvSpPr>
          <p:spPr>
            <a:xfrm>
              <a:off x="1523880" y="3097080"/>
              <a:ext cx="5105520" cy="1170000"/>
            </a:xfrm>
            <a:custGeom>
              <a:avLst/>
              <a:gdLst/>
              <a:ahLst/>
              <a:rect l="l" t="t" r="r" b="b"/>
              <a:pathLst>
                <a:path w="3216" h="737">
                  <a:moveTo>
                    <a:pt x="0" y="113"/>
                  </a:moveTo>
                  <a:cubicBezTo>
                    <a:pt x="32" y="153"/>
                    <a:pt x="64" y="193"/>
                    <a:pt x="96" y="209"/>
                  </a:cubicBezTo>
                  <a:cubicBezTo>
                    <a:pt x="128" y="225"/>
                    <a:pt x="160" y="225"/>
                    <a:pt x="192" y="209"/>
                  </a:cubicBezTo>
                  <a:cubicBezTo>
                    <a:pt x="224" y="193"/>
                    <a:pt x="264" y="137"/>
                    <a:pt x="288" y="113"/>
                  </a:cubicBezTo>
                  <a:cubicBezTo>
                    <a:pt x="312" y="89"/>
                    <a:pt x="312" y="57"/>
                    <a:pt x="336" y="65"/>
                  </a:cubicBezTo>
                  <a:cubicBezTo>
                    <a:pt x="360" y="73"/>
                    <a:pt x="392" y="153"/>
                    <a:pt x="432" y="161"/>
                  </a:cubicBezTo>
                  <a:cubicBezTo>
                    <a:pt x="472" y="169"/>
                    <a:pt x="544" y="113"/>
                    <a:pt x="576" y="113"/>
                  </a:cubicBezTo>
                  <a:cubicBezTo>
                    <a:pt x="608" y="113"/>
                    <a:pt x="608" y="169"/>
                    <a:pt x="624" y="161"/>
                  </a:cubicBezTo>
                  <a:cubicBezTo>
                    <a:pt x="640" y="153"/>
                    <a:pt x="656" y="89"/>
                    <a:pt x="672" y="65"/>
                  </a:cubicBezTo>
                  <a:cubicBezTo>
                    <a:pt x="688" y="41"/>
                    <a:pt x="704" y="9"/>
                    <a:pt x="720" y="17"/>
                  </a:cubicBezTo>
                  <a:cubicBezTo>
                    <a:pt x="736" y="25"/>
                    <a:pt x="752" y="89"/>
                    <a:pt x="768" y="113"/>
                  </a:cubicBezTo>
                  <a:cubicBezTo>
                    <a:pt x="784" y="137"/>
                    <a:pt x="792" y="153"/>
                    <a:pt x="816" y="161"/>
                  </a:cubicBezTo>
                  <a:cubicBezTo>
                    <a:pt x="840" y="169"/>
                    <a:pt x="880" y="161"/>
                    <a:pt x="912" y="161"/>
                  </a:cubicBezTo>
                  <a:cubicBezTo>
                    <a:pt x="944" y="161"/>
                    <a:pt x="976" y="137"/>
                    <a:pt x="1008" y="161"/>
                  </a:cubicBezTo>
                  <a:cubicBezTo>
                    <a:pt x="1040" y="185"/>
                    <a:pt x="1072" y="281"/>
                    <a:pt x="1104" y="305"/>
                  </a:cubicBezTo>
                  <a:cubicBezTo>
                    <a:pt x="1136" y="329"/>
                    <a:pt x="1180" y="318"/>
                    <a:pt x="1200" y="305"/>
                  </a:cubicBezTo>
                  <a:cubicBezTo>
                    <a:pt x="1220" y="292"/>
                    <a:pt x="1214" y="247"/>
                    <a:pt x="1226" y="224"/>
                  </a:cubicBezTo>
                  <a:cubicBezTo>
                    <a:pt x="1238" y="201"/>
                    <a:pt x="1261" y="199"/>
                    <a:pt x="1273" y="165"/>
                  </a:cubicBezTo>
                  <a:cubicBezTo>
                    <a:pt x="1285" y="131"/>
                    <a:pt x="1284" y="34"/>
                    <a:pt x="1296" y="17"/>
                  </a:cubicBezTo>
                  <a:cubicBezTo>
                    <a:pt x="1308" y="0"/>
                    <a:pt x="1332" y="38"/>
                    <a:pt x="1344" y="65"/>
                  </a:cubicBezTo>
                  <a:cubicBezTo>
                    <a:pt x="1356" y="92"/>
                    <a:pt x="1352" y="145"/>
                    <a:pt x="1368" y="177"/>
                  </a:cubicBezTo>
                  <a:cubicBezTo>
                    <a:pt x="1384" y="209"/>
                    <a:pt x="1428" y="228"/>
                    <a:pt x="1440" y="257"/>
                  </a:cubicBezTo>
                  <a:cubicBezTo>
                    <a:pt x="1452" y="286"/>
                    <a:pt x="1432" y="329"/>
                    <a:pt x="1440" y="353"/>
                  </a:cubicBezTo>
                  <a:cubicBezTo>
                    <a:pt x="1448" y="377"/>
                    <a:pt x="1472" y="385"/>
                    <a:pt x="1488" y="401"/>
                  </a:cubicBezTo>
                  <a:cubicBezTo>
                    <a:pt x="1504" y="417"/>
                    <a:pt x="1512" y="433"/>
                    <a:pt x="1536" y="449"/>
                  </a:cubicBezTo>
                  <a:cubicBezTo>
                    <a:pt x="1560" y="465"/>
                    <a:pt x="1600" y="481"/>
                    <a:pt x="1632" y="497"/>
                  </a:cubicBezTo>
                  <a:cubicBezTo>
                    <a:pt x="1664" y="513"/>
                    <a:pt x="1696" y="529"/>
                    <a:pt x="1728" y="545"/>
                  </a:cubicBezTo>
                  <a:cubicBezTo>
                    <a:pt x="1760" y="561"/>
                    <a:pt x="1784" y="585"/>
                    <a:pt x="1824" y="593"/>
                  </a:cubicBezTo>
                  <a:cubicBezTo>
                    <a:pt x="1864" y="601"/>
                    <a:pt x="1936" y="585"/>
                    <a:pt x="1968" y="593"/>
                  </a:cubicBezTo>
                  <a:cubicBezTo>
                    <a:pt x="2000" y="601"/>
                    <a:pt x="1984" y="641"/>
                    <a:pt x="2016" y="641"/>
                  </a:cubicBezTo>
                  <a:cubicBezTo>
                    <a:pt x="2048" y="641"/>
                    <a:pt x="2128" y="593"/>
                    <a:pt x="2160" y="593"/>
                  </a:cubicBezTo>
                  <a:cubicBezTo>
                    <a:pt x="2192" y="593"/>
                    <a:pt x="2160" y="633"/>
                    <a:pt x="2208" y="641"/>
                  </a:cubicBezTo>
                  <a:cubicBezTo>
                    <a:pt x="2256" y="649"/>
                    <a:pt x="2400" y="665"/>
                    <a:pt x="2448" y="641"/>
                  </a:cubicBezTo>
                  <a:cubicBezTo>
                    <a:pt x="2496" y="617"/>
                    <a:pt x="2472" y="500"/>
                    <a:pt x="2496" y="497"/>
                  </a:cubicBezTo>
                  <a:cubicBezTo>
                    <a:pt x="2520" y="494"/>
                    <a:pt x="2558" y="623"/>
                    <a:pt x="2590" y="623"/>
                  </a:cubicBezTo>
                  <a:cubicBezTo>
                    <a:pt x="2622" y="623"/>
                    <a:pt x="2640" y="502"/>
                    <a:pt x="2688" y="497"/>
                  </a:cubicBezTo>
                  <a:cubicBezTo>
                    <a:pt x="2736" y="492"/>
                    <a:pt x="2840" y="569"/>
                    <a:pt x="2880" y="593"/>
                  </a:cubicBezTo>
                  <a:cubicBezTo>
                    <a:pt x="2920" y="617"/>
                    <a:pt x="2904" y="625"/>
                    <a:pt x="2928" y="641"/>
                  </a:cubicBezTo>
                  <a:cubicBezTo>
                    <a:pt x="2952" y="657"/>
                    <a:pt x="2992" y="673"/>
                    <a:pt x="3024" y="689"/>
                  </a:cubicBezTo>
                  <a:cubicBezTo>
                    <a:pt x="3056" y="705"/>
                    <a:pt x="3088" y="737"/>
                    <a:pt x="3120" y="737"/>
                  </a:cubicBezTo>
                  <a:cubicBezTo>
                    <a:pt x="3152" y="737"/>
                    <a:pt x="3200" y="697"/>
                    <a:pt x="3216" y="689"/>
                  </a:cubicBezTo>
                </a:path>
              </a:pathLst>
            </a:custGeom>
            <a:noFill/>
            <a:ln w="7632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000" y="2057400"/>
              <a:ext cx="1828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996633"/>
                  </a:solidFill>
                  <a:latin typeface="Verdana"/>
                </a:rPr>
                <a:t>C. An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371600" y="3733920"/>
            <a:ext cx="3276720" cy="635040"/>
            <a:chOff x="1371600" y="3733920"/>
            <a:chExt cx="3276720" cy="635040"/>
          </a:xfrm>
        </p:grpSpPr>
        <p:sp>
          <p:nvSpPr>
            <p:cNvPr id="280" name=""/>
            <p:cNvSpPr/>
            <p:nvPr/>
          </p:nvSpPr>
          <p:spPr>
            <a:xfrm>
              <a:off x="1371600" y="3733920"/>
              <a:ext cx="1066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C.Cos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23880" y="3860640"/>
              <a:ext cx="3124440" cy="508320"/>
            </a:xfrm>
            <a:custGeom>
              <a:avLst/>
              <a:gdLst/>
              <a:ahLst/>
              <a:rect l="l" t="t" r="r" b="b"/>
              <a:pathLst>
                <a:path w="1968" h="320">
                  <a:moveTo>
                    <a:pt x="0" y="208"/>
                  </a:moveTo>
                  <a:cubicBezTo>
                    <a:pt x="52" y="208"/>
                    <a:pt x="104" y="208"/>
                    <a:pt x="144" y="208"/>
                  </a:cubicBezTo>
                  <a:cubicBezTo>
                    <a:pt x="184" y="208"/>
                    <a:pt x="216" y="224"/>
                    <a:pt x="240" y="208"/>
                  </a:cubicBezTo>
                  <a:cubicBezTo>
                    <a:pt x="264" y="192"/>
                    <a:pt x="264" y="120"/>
                    <a:pt x="288" y="112"/>
                  </a:cubicBezTo>
                  <a:cubicBezTo>
                    <a:pt x="312" y="104"/>
                    <a:pt x="352" y="152"/>
                    <a:pt x="384" y="160"/>
                  </a:cubicBezTo>
                  <a:cubicBezTo>
                    <a:pt x="416" y="168"/>
                    <a:pt x="464" y="176"/>
                    <a:pt x="480" y="160"/>
                  </a:cubicBezTo>
                  <a:cubicBezTo>
                    <a:pt x="496" y="144"/>
                    <a:pt x="472" y="88"/>
                    <a:pt x="480" y="64"/>
                  </a:cubicBezTo>
                  <a:cubicBezTo>
                    <a:pt x="488" y="40"/>
                    <a:pt x="512" y="0"/>
                    <a:pt x="528" y="16"/>
                  </a:cubicBezTo>
                  <a:cubicBezTo>
                    <a:pt x="544" y="32"/>
                    <a:pt x="560" y="128"/>
                    <a:pt x="576" y="160"/>
                  </a:cubicBezTo>
                  <a:cubicBezTo>
                    <a:pt x="592" y="192"/>
                    <a:pt x="608" y="208"/>
                    <a:pt x="624" y="208"/>
                  </a:cubicBezTo>
                  <a:cubicBezTo>
                    <a:pt x="640" y="208"/>
                    <a:pt x="664" y="184"/>
                    <a:pt x="672" y="160"/>
                  </a:cubicBezTo>
                  <a:cubicBezTo>
                    <a:pt x="680" y="136"/>
                    <a:pt x="664" y="64"/>
                    <a:pt x="672" y="64"/>
                  </a:cubicBezTo>
                  <a:cubicBezTo>
                    <a:pt x="680" y="64"/>
                    <a:pt x="702" y="137"/>
                    <a:pt x="720" y="160"/>
                  </a:cubicBezTo>
                  <a:cubicBezTo>
                    <a:pt x="738" y="183"/>
                    <a:pt x="747" y="201"/>
                    <a:pt x="779" y="201"/>
                  </a:cubicBezTo>
                  <a:cubicBezTo>
                    <a:pt x="811" y="201"/>
                    <a:pt x="882" y="159"/>
                    <a:pt x="912" y="160"/>
                  </a:cubicBezTo>
                  <a:cubicBezTo>
                    <a:pt x="942" y="161"/>
                    <a:pt x="936" y="200"/>
                    <a:pt x="960" y="208"/>
                  </a:cubicBezTo>
                  <a:cubicBezTo>
                    <a:pt x="984" y="216"/>
                    <a:pt x="1024" y="216"/>
                    <a:pt x="1056" y="208"/>
                  </a:cubicBezTo>
                  <a:cubicBezTo>
                    <a:pt x="1088" y="200"/>
                    <a:pt x="1120" y="176"/>
                    <a:pt x="1152" y="160"/>
                  </a:cubicBezTo>
                  <a:cubicBezTo>
                    <a:pt x="1184" y="144"/>
                    <a:pt x="1232" y="104"/>
                    <a:pt x="1248" y="112"/>
                  </a:cubicBezTo>
                  <a:cubicBezTo>
                    <a:pt x="1264" y="120"/>
                    <a:pt x="1240" y="200"/>
                    <a:pt x="1248" y="208"/>
                  </a:cubicBezTo>
                  <a:cubicBezTo>
                    <a:pt x="1256" y="216"/>
                    <a:pt x="1280" y="160"/>
                    <a:pt x="1296" y="160"/>
                  </a:cubicBezTo>
                  <a:cubicBezTo>
                    <a:pt x="1312" y="160"/>
                    <a:pt x="1328" y="192"/>
                    <a:pt x="1344" y="208"/>
                  </a:cubicBezTo>
                  <a:cubicBezTo>
                    <a:pt x="1360" y="224"/>
                    <a:pt x="1376" y="240"/>
                    <a:pt x="1392" y="256"/>
                  </a:cubicBezTo>
                  <a:cubicBezTo>
                    <a:pt x="1408" y="272"/>
                    <a:pt x="1408" y="296"/>
                    <a:pt x="1440" y="304"/>
                  </a:cubicBezTo>
                  <a:cubicBezTo>
                    <a:pt x="1472" y="312"/>
                    <a:pt x="1552" y="312"/>
                    <a:pt x="1584" y="304"/>
                  </a:cubicBezTo>
                  <a:cubicBezTo>
                    <a:pt x="1616" y="296"/>
                    <a:pt x="1616" y="272"/>
                    <a:pt x="1632" y="256"/>
                  </a:cubicBezTo>
                  <a:cubicBezTo>
                    <a:pt x="1648" y="240"/>
                    <a:pt x="1664" y="200"/>
                    <a:pt x="1680" y="208"/>
                  </a:cubicBezTo>
                  <a:cubicBezTo>
                    <a:pt x="1696" y="216"/>
                    <a:pt x="1704" y="288"/>
                    <a:pt x="1728" y="304"/>
                  </a:cubicBezTo>
                  <a:cubicBezTo>
                    <a:pt x="1752" y="320"/>
                    <a:pt x="1792" y="312"/>
                    <a:pt x="1824" y="304"/>
                  </a:cubicBezTo>
                  <a:cubicBezTo>
                    <a:pt x="1856" y="296"/>
                    <a:pt x="1896" y="256"/>
                    <a:pt x="1920" y="256"/>
                  </a:cubicBezTo>
                  <a:cubicBezTo>
                    <a:pt x="1944" y="256"/>
                    <a:pt x="1960" y="288"/>
                    <a:pt x="1968" y="304"/>
                  </a:cubicBezTo>
                </a:path>
              </a:pathLst>
            </a:custGeom>
            <a:noFill/>
            <a:ln w="76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09760" y="3962520"/>
              <a:ext cx="342720" cy="152280"/>
            </a:xfrm>
            <a:custGeom>
              <a:avLst/>
              <a:gdLst/>
              <a:ahLst/>
              <a:rect l="l" t="t" r="r" b="b"/>
              <a:pathLst>
                <a:path w="216" h="96">
                  <a:moveTo>
                    <a:pt x="72" y="0"/>
                  </a:moveTo>
                  <a:cubicBezTo>
                    <a:pt x="36" y="16"/>
                    <a:pt x="0" y="32"/>
                    <a:pt x="24" y="48"/>
                  </a:cubicBezTo>
                  <a:cubicBezTo>
                    <a:pt x="48" y="64"/>
                    <a:pt x="132" y="80"/>
                    <a:pt x="216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distespacial2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36766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85800" y="236232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5238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31240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396252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5120" y="5410080"/>
            <a:ext cx="548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PRECIPITACIÓ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38080" y="457200"/>
            <a:ext cx="27432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SI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3880" y="1295280"/>
            <a:ext cx="5715000" cy="45972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p Aumenta con la a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8120" y="2971800"/>
            <a:ext cx="327636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Verdana"/>
              </a:rPr>
              <a:t>P=Kz+K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2320" y="3975120"/>
            <a:ext cx="8510760" cy="2579760"/>
          </a:xfrm>
          <a:custGeom>
            <a:avLst/>
            <a:gdLst/>
            <a:ahLst/>
            <a:rect l="l" t="t" r="r" b="b"/>
            <a:pathLst>
              <a:path w="5361" h="1625">
                <a:moveTo>
                  <a:pt x="0" y="1587"/>
                </a:moveTo>
                <a:cubicBezTo>
                  <a:pt x="78" y="1625"/>
                  <a:pt x="154" y="1608"/>
                  <a:pt x="236" y="1587"/>
                </a:cubicBezTo>
                <a:cubicBezTo>
                  <a:pt x="303" y="1542"/>
                  <a:pt x="301" y="1535"/>
                  <a:pt x="377" y="1516"/>
                </a:cubicBezTo>
                <a:cubicBezTo>
                  <a:pt x="408" y="1508"/>
                  <a:pt x="471" y="1493"/>
                  <a:pt x="471" y="1493"/>
                </a:cubicBezTo>
                <a:cubicBezTo>
                  <a:pt x="483" y="1481"/>
                  <a:pt x="493" y="1468"/>
                  <a:pt x="506" y="1457"/>
                </a:cubicBezTo>
                <a:cubicBezTo>
                  <a:pt x="517" y="1448"/>
                  <a:pt x="531" y="1444"/>
                  <a:pt x="541" y="1434"/>
                </a:cubicBezTo>
                <a:cubicBezTo>
                  <a:pt x="551" y="1424"/>
                  <a:pt x="554" y="1408"/>
                  <a:pt x="565" y="1399"/>
                </a:cubicBezTo>
                <a:cubicBezTo>
                  <a:pt x="608" y="1363"/>
                  <a:pt x="673" y="1370"/>
                  <a:pt x="717" y="1340"/>
                </a:cubicBezTo>
                <a:cubicBezTo>
                  <a:pt x="763" y="1309"/>
                  <a:pt x="739" y="1320"/>
                  <a:pt x="788" y="1305"/>
                </a:cubicBezTo>
                <a:cubicBezTo>
                  <a:pt x="835" y="1165"/>
                  <a:pt x="1213" y="1212"/>
                  <a:pt x="1246" y="1211"/>
                </a:cubicBezTo>
                <a:cubicBezTo>
                  <a:pt x="1312" y="1189"/>
                  <a:pt x="1357" y="1138"/>
                  <a:pt x="1423" y="1117"/>
                </a:cubicBezTo>
                <a:cubicBezTo>
                  <a:pt x="1502" y="1037"/>
                  <a:pt x="1461" y="1057"/>
                  <a:pt x="1529" y="1034"/>
                </a:cubicBezTo>
                <a:cubicBezTo>
                  <a:pt x="1566" y="977"/>
                  <a:pt x="1608" y="982"/>
                  <a:pt x="1670" y="964"/>
                </a:cubicBezTo>
                <a:cubicBezTo>
                  <a:pt x="1725" y="948"/>
                  <a:pt x="1780" y="934"/>
                  <a:pt x="1834" y="917"/>
                </a:cubicBezTo>
                <a:cubicBezTo>
                  <a:pt x="1846" y="909"/>
                  <a:pt x="1856" y="899"/>
                  <a:pt x="1869" y="893"/>
                </a:cubicBezTo>
                <a:cubicBezTo>
                  <a:pt x="1892" y="883"/>
                  <a:pt x="1940" y="870"/>
                  <a:pt x="1940" y="870"/>
                </a:cubicBezTo>
                <a:cubicBezTo>
                  <a:pt x="1982" y="842"/>
                  <a:pt x="2069" y="768"/>
                  <a:pt x="2116" y="752"/>
                </a:cubicBezTo>
                <a:cubicBezTo>
                  <a:pt x="2179" y="756"/>
                  <a:pt x="2242" y="754"/>
                  <a:pt x="2304" y="764"/>
                </a:cubicBezTo>
                <a:cubicBezTo>
                  <a:pt x="2370" y="774"/>
                  <a:pt x="2319" y="791"/>
                  <a:pt x="2351" y="823"/>
                </a:cubicBezTo>
                <a:cubicBezTo>
                  <a:pt x="2378" y="850"/>
                  <a:pt x="2404" y="842"/>
                  <a:pt x="2434" y="858"/>
                </a:cubicBezTo>
                <a:cubicBezTo>
                  <a:pt x="2459" y="872"/>
                  <a:pt x="2481" y="889"/>
                  <a:pt x="2504" y="905"/>
                </a:cubicBezTo>
                <a:cubicBezTo>
                  <a:pt x="2522" y="917"/>
                  <a:pt x="2585" y="924"/>
                  <a:pt x="2598" y="928"/>
                </a:cubicBezTo>
                <a:cubicBezTo>
                  <a:pt x="2763" y="973"/>
                  <a:pt x="2656" y="961"/>
                  <a:pt x="2892" y="976"/>
                </a:cubicBezTo>
                <a:cubicBezTo>
                  <a:pt x="3048" y="1027"/>
                  <a:pt x="3037" y="1023"/>
                  <a:pt x="3233" y="1034"/>
                </a:cubicBezTo>
                <a:cubicBezTo>
                  <a:pt x="3311" y="1061"/>
                  <a:pt x="3402" y="1031"/>
                  <a:pt x="3480" y="1011"/>
                </a:cubicBezTo>
                <a:cubicBezTo>
                  <a:pt x="3515" y="987"/>
                  <a:pt x="3546" y="954"/>
                  <a:pt x="3586" y="940"/>
                </a:cubicBezTo>
                <a:cubicBezTo>
                  <a:pt x="3663" y="914"/>
                  <a:pt x="3743" y="893"/>
                  <a:pt x="3821" y="870"/>
                </a:cubicBezTo>
                <a:cubicBezTo>
                  <a:pt x="3857" y="859"/>
                  <a:pt x="3892" y="845"/>
                  <a:pt x="3927" y="834"/>
                </a:cubicBezTo>
                <a:cubicBezTo>
                  <a:pt x="3939" y="830"/>
                  <a:pt x="3962" y="823"/>
                  <a:pt x="3962" y="823"/>
                </a:cubicBezTo>
                <a:cubicBezTo>
                  <a:pt x="3974" y="815"/>
                  <a:pt x="3984" y="805"/>
                  <a:pt x="3997" y="799"/>
                </a:cubicBezTo>
                <a:cubicBezTo>
                  <a:pt x="4012" y="793"/>
                  <a:pt x="4031" y="796"/>
                  <a:pt x="4044" y="787"/>
                </a:cubicBezTo>
                <a:cubicBezTo>
                  <a:pt x="4056" y="779"/>
                  <a:pt x="4057" y="761"/>
                  <a:pt x="4068" y="752"/>
                </a:cubicBezTo>
                <a:cubicBezTo>
                  <a:pt x="4079" y="743"/>
                  <a:pt x="4156" y="711"/>
                  <a:pt x="4173" y="705"/>
                </a:cubicBezTo>
                <a:cubicBezTo>
                  <a:pt x="4195" y="684"/>
                  <a:pt x="4225" y="670"/>
                  <a:pt x="4244" y="646"/>
                </a:cubicBezTo>
                <a:cubicBezTo>
                  <a:pt x="4252" y="636"/>
                  <a:pt x="4249" y="621"/>
                  <a:pt x="4256" y="611"/>
                </a:cubicBezTo>
                <a:cubicBezTo>
                  <a:pt x="4274" y="585"/>
                  <a:pt x="4301" y="569"/>
                  <a:pt x="4326" y="552"/>
                </a:cubicBezTo>
                <a:cubicBezTo>
                  <a:pt x="4358" y="459"/>
                  <a:pt x="4310" y="568"/>
                  <a:pt x="4373" y="505"/>
                </a:cubicBezTo>
                <a:cubicBezTo>
                  <a:pt x="4382" y="496"/>
                  <a:pt x="4378" y="480"/>
                  <a:pt x="4385" y="470"/>
                </a:cubicBezTo>
                <a:cubicBezTo>
                  <a:pt x="4417" y="422"/>
                  <a:pt x="4473" y="394"/>
                  <a:pt x="4526" y="376"/>
                </a:cubicBezTo>
                <a:cubicBezTo>
                  <a:pt x="4560" y="342"/>
                  <a:pt x="4580" y="308"/>
                  <a:pt x="4620" y="282"/>
                </a:cubicBezTo>
                <a:cubicBezTo>
                  <a:pt x="4655" y="231"/>
                  <a:pt x="4670" y="248"/>
                  <a:pt x="4714" y="211"/>
                </a:cubicBezTo>
                <a:cubicBezTo>
                  <a:pt x="4737" y="191"/>
                  <a:pt x="4749" y="160"/>
                  <a:pt x="4773" y="141"/>
                </a:cubicBezTo>
                <a:cubicBezTo>
                  <a:pt x="4794" y="125"/>
                  <a:pt x="4822" y="120"/>
                  <a:pt x="4844" y="106"/>
                </a:cubicBezTo>
                <a:cubicBezTo>
                  <a:pt x="4852" y="94"/>
                  <a:pt x="4855" y="78"/>
                  <a:pt x="4867" y="70"/>
                </a:cubicBezTo>
                <a:cubicBezTo>
                  <a:pt x="4888" y="57"/>
                  <a:pt x="4914" y="55"/>
                  <a:pt x="4938" y="47"/>
                </a:cubicBezTo>
                <a:cubicBezTo>
                  <a:pt x="4976" y="34"/>
                  <a:pt x="5005" y="13"/>
                  <a:pt x="5043" y="0"/>
                </a:cubicBezTo>
                <a:cubicBezTo>
                  <a:pt x="5086" y="4"/>
                  <a:pt x="5130" y="6"/>
                  <a:pt x="5173" y="12"/>
                </a:cubicBezTo>
                <a:cubicBezTo>
                  <a:pt x="5185" y="14"/>
                  <a:pt x="5199" y="14"/>
                  <a:pt x="5208" y="23"/>
                </a:cubicBezTo>
                <a:cubicBezTo>
                  <a:pt x="5217" y="32"/>
                  <a:pt x="5214" y="48"/>
                  <a:pt x="5220" y="59"/>
                </a:cubicBezTo>
                <a:cubicBezTo>
                  <a:pt x="5239" y="98"/>
                  <a:pt x="5243" y="94"/>
                  <a:pt x="5278" y="117"/>
                </a:cubicBezTo>
                <a:cubicBezTo>
                  <a:pt x="5340" y="211"/>
                  <a:pt x="5260" y="101"/>
                  <a:pt x="5337" y="176"/>
                </a:cubicBezTo>
                <a:cubicBezTo>
                  <a:pt x="5347" y="186"/>
                  <a:pt x="5361" y="211"/>
                  <a:pt x="5361" y="211"/>
                </a:cubicBezTo>
              </a:path>
            </a:pathLst>
          </a:cu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5867280"/>
            <a:ext cx="1447920" cy="622440"/>
          </a:xfrm>
          <a:custGeom>
            <a:avLst/>
            <a:gdLst/>
            <a:ahLst/>
            <a:rect l="l" t="t" r="r" b="b"/>
            <a:pathLst>
              <a:path w="816" h="264">
                <a:moveTo>
                  <a:pt x="0" y="16"/>
                </a:moveTo>
                <a:cubicBezTo>
                  <a:pt x="312" y="8"/>
                  <a:pt x="624" y="0"/>
                  <a:pt x="720" y="16"/>
                </a:cubicBezTo>
                <a:cubicBezTo>
                  <a:pt x="816" y="32"/>
                  <a:pt x="616" y="88"/>
                  <a:pt x="576" y="112"/>
                </a:cubicBezTo>
                <a:cubicBezTo>
                  <a:pt x="536" y="136"/>
                  <a:pt x="512" y="144"/>
                  <a:pt x="480" y="160"/>
                </a:cubicBezTo>
                <a:cubicBezTo>
                  <a:pt x="448" y="176"/>
                  <a:pt x="424" y="192"/>
                  <a:pt x="384" y="208"/>
                </a:cubicBezTo>
                <a:cubicBezTo>
                  <a:pt x="344" y="224"/>
                  <a:pt x="280" y="248"/>
                  <a:pt x="240" y="256"/>
                </a:cubicBezTo>
                <a:cubicBezTo>
                  <a:pt x="200" y="264"/>
                  <a:pt x="184" y="256"/>
                  <a:pt x="144" y="256"/>
                </a:cubicBezTo>
                <a:cubicBezTo>
                  <a:pt x="104" y="256"/>
                  <a:pt x="52" y="256"/>
                  <a:pt x="0" y="256"/>
                </a:cubicBez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808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6172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09480" y="609480"/>
            <a:ext cx="7543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ISTANCIA A FUENTES DE HU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1523880"/>
            <a:ext cx="65530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Pp MAYORES CERCA DE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905120" y="2540160"/>
                <a:ext cx="4267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3200400" y="4724280"/>
            <a:ext cx="41148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: Distancia a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990720" y="76320"/>
          <a:ext cx="7315200" cy="67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320"/>
                    <a:ext cx="7315200" cy="6705360"/>
                  </a:xfrm>
                  <a:prstGeom prst="rect">
                    <a:avLst/>
                  </a:prstGeom>
                  <a:ln w="9360">
                    <a:solidFill>
                      <a:srgbClr val="cc33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4343400"/>
            <a:ext cx="22860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LUVIO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luvio" descr=""/>
          <p:cNvPicPr/>
          <p:nvPr/>
        </p:nvPicPr>
        <p:blipFill>
          <a:blip r:embed="rId1"/>
          <a:stretch/>
        </p:blipFill>
        <p:spPr>
          <a:xfrm>
            <a:off x="0" y="457200"/>
            <a:ext cx="2349360" cy="4354560"/>
          </a:xfrm>
          <a:prstGeom prst="rect">
            <a:avLst/>
          </a:prstGeom>
          <a:ln w="0">
            <a:noFill/>
          </a:ln>
        </p:spPr>
      </p:pic>
      <p:pic>
        <p:nvPicPr>
          <p:cNvPr id="81" name="raingauge1" descr=""/>
          <p:cNvPicPr/>
          <p:nvPr/>
        </p:nvPicPr>
        <p:blipFill>
          <a:blip r:embed="rId2"/>
          <a:stretch/>
        </p:blipFill>
        <p:spPr>
          <a:xfrm>
            <a:off x="2743200" y="1143000"/>
            <a:ext cx="2260440" cy="3086280"/>
          </a:xfrm>
          <a:prstGeom prst="rect">
            <a:avLst/>
          </a:prstGeom>
          <a:ln w="0">
            <a:noFill/>
          </a:ln>
        </p:spPr>
      </p:pic>
      <p:pic>
        <p:nvPicPr>
          <p:cNvPr id="82" name="rainrecorder" descr=""/>
          <p:cNvPicPr/>
          <p:nvPr/>
        </p:nvPicPr>
        <p:blipFill>
          <a:blip r:embed="rId3"/>
          <a:stretch/>
        </p:blipFill>
        <p:spPr>
          <a:xfrm>
            <a:off x="3276720" y="4457880"/>
            <a:ext cx="4838760" cy="2400120"/>
          </a:xfrm>
          <a:prstGeom prst="rect">
            <a:avLst/>
          </a:prstGeom>
          <a:ln w="0">
            <a:noFill/>
          </a:ln>
        </p:spPr>
      </p:pic>
      <p:pic>
        <p:nvPicPr>
          <p:cNvPr id="83" name="raingauge2" descr=""/>
          <p:cNvPicPr/>
          <p:nvPr/>
        </p:nvPicPr>
        <p:blipFill>
          <a:blip r:embed="rId4"/>
          <a:stretch/>
        </p:blipFill>
        <p:spPr>
          <a:xfrm>
            <a:off x="5181480" y="0"/>
            <a:ext cx="2832120" cy="3911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pping%20bucket" descr=""/>
          <p:cNvPicPr/>
          <p:nvPr/>
        </p:nvPicPr>
        <p:blipFill>
          <a:blip r:embed="rId1"/>
          <a:stretch/>
        </p:blipFill>
        <p:spPr>
          <a:xfrm>
            <a:off x="-380880" y="0"/>
            <a:ext cx="9361440" cy="12544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380880" y="457200"/>
            <a:ext cx="4190760" cy="5334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85800"/>
            <a:ext cx="1067040" cy="6553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457200" y="4495680"/>
            <a:ext cx="9601200" cy="2590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asc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2865240" cy="309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343400" y="5334120"/>
            <a:ext cx="380988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Por cada 0,25 mm de lluvia pluma inscriptora marca trazo vertical. Problemas en grandes inten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luviog" descr=""/>
          <p:cNvPicPr/>
          <p:nvPr/>
        </p:nvPicPr>
        <p:blipFill>
          <a:blip r:embed="rId1"/>
          <a:stretch/>
        </p:blipFill>
        <p:spPr>
          <a:xfrm>
            <a:off x="6553080" y="1523880"/>
            <a:ext cx="914400" cy="1395360"/>
          </a:xfrm>
          <a:prstGeom prst="rect">
            <a:avLst/>
          </a:prstGeom>
          <a:ln w="0">
            <a:noFill/>
          </a:ln>
        </p:spPr>
      </p:pic>
      <p:pic>
        <p:nvPicPr>
          <p:cNvPr id="92" name="pluviom" descr=""/>
          <p:cNvPicPr/>
          <p:nvPr/>
        </p:nvPicPr>
        <p:blipFill>
          <a:blip r:embed="rId2"/>
          <a:stretch/>
        </p:blipFill>
        <p:spPr>
          <a:xfrm>
            <a:off x="4419720" y="838080"/>
            <a:ext cx="761760" cy="1173240"/>
          </a:xfrm>
          <a:prstGeom prst="rect">
            <a:avLst/>
          </a:prstGeom>
          <a:ln w="0">
            <a:noFill/>
          </a:ln>
        </p:spPr>
      </p:pic>
      <p:pic>
        <p:nvPicPr>
          <p:cNvPr id="93" name="raingauge" descr=""/>
          <p:cNvPicPr/>
          <p:nvPr/>
        </p:nvPicPr>
        <p:blipFill>
          <a:blip r:embed="rId3"/>
          <a:stretch/>
        </p:blipFill>
        <p:spPr>
          <a:xfrm>
            <a:off x="304920" y="838080"/>
            <a:ext cx="3552840" cy="2724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3809880"/>
            <a:ext cx="81532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Model 260-2501 Tipping Bucket Rain Gaug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was designed for the National Weather Service to provide a reliable, low-cost tipping bucket rain sensor. Its simplicity of design assures trouble-free operation, yet provides accurate rainfall measurements. The tipping bucket mechanism activates a sealed reed switch that produces a contact closure for each 0.01", 0.25 mm, or 1 mm of rainf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jordan" descr=""/>
          <p:cNvPicPr/>
          <p:nvPr/>
        </p:nvPicPr>
        <p:blipFill>
          <a:blip r:embed="rId1"/>
          <a:stretch/>
        </p:blipFill>
        <p:spPr>
          <a:xfrm>
            <a:off x="1336680" y="1022400"/>
            <a:ext cx="6469200" cy="4811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0" y="169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draw31_small" descr="Natural-Siphon rain Recor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2000" y="228600"/>
            <a:ext cx="4390920" cy="6324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486400" y="3429000"/>
            <a:ext cx="3657600" cy="497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agrometeorology.org/ index.php?id=38</a:t>
            </a:r>
            <a:r>
              <a:rPr b="0" lang="es-CL" sz="1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22480" y="3487680"/>
            <a:ext cx="1141560" cy="1100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18080" y="1981080"/>
            <a:ext cx="2063880" cy="1987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202360" y="4230720"/>
            <a:ext cx="26985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0T02:39:01Z</dcterms:created>
  <dc:creator>Guillermo Osses</dc:creator>
  <dc:description/>
  <dc:language>en-US</dc:language>
  <cp:lastModifiedBy>xv</cp:lastModifiedBy>
  <dcterms:modified xsi:type="dcterms:W3CDTF">2005-08-15T02:43:45Z</dcterms:modified>
  <cp:revision>16</cp:revision>
  <dc:subject/>
  <dc:title>Presentación de PowerPoint</dc:title>
</cp:coreProperties>
</file>