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9FCB-B027-49A7-830D-7B25AC83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800-F7D9-4FB7-90A6-1AAA6B5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5081-D835-4B22-A94B-D900043D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349-6697-4FC2-87A5-C8620086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AF10-8C1B-4F72-82CB-60C9BC36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12C2-FC2D-4A95-A16F-5196FC46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E2C9-F34E-4EC4-A303-323F5B3D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98275-087F-4853-9E98-1DBA9927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6804-5DCC-40A3-86D4-87CB5DD4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83EF-0756-43A5-AA33-F3F97EC7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14CB-541B-4286-8A41-0A33F28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0D8A-0A92-4E88-A321-7F7ABC66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8BFC-ABC2-48CD-92B5-3768EAC7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BC6D-42F6-465C-BF9F-39E8BA80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10D0-6E8D-449E-A07D-9028A961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966AD-7A35-415B-8F40-A8AC42DC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BDCE-7A15-445A-9AE7-3F121380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56E-F416-4AC3-8BDD-78DA918E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173-B729-4D4F-A822-C4D7CB9E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A537-4EC4-4BD6-B89F-9A28E5EB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CD05-F1AA-4645-8781-60D03285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252-7D5B-4A61-8320-37012D72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AEB8-CE50-42F1-8462-113865F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029-CB01-4EF4-9BAD-32150AA0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4543-67B0-4F5C-BCAC-298A940C7E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0980-699B-4200-B108-18FABC0A4E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6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1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30280" y="2666880"/>
                <a:ext cx="425484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95480" y="347652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98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vapor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xv</cp:lastModifiedBy>
  <dcterms:modified xsi:type="dcterms:W3CDTF">2004-08-08T20:01:56Z</dcterms:modified>
  <cp:revision>34</cp:revision>
  <dc:subject/>
  <dc:title>Presentación de PowerPoint</dc:title>
</cp:coreProperties>
</file>