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486-F4D9-49DE-8D43-1ABAB41D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FE8-8DDF-4FBD-8977-5DCC81B2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8BE-DAD9-4DC1-A862-90474C51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704-2FEA-4DEA-A20B-C7C8E59E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65D2-73AB-4190-BBEF-901B44A0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2E11-6638-42D1-A57A-64B9E039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640C-914B-46AD-BB73-A0BB7467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3540-9251-45AE-8282-EEC243E7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C9FD-F8BD-4813-AC2B-48C478D1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FA2C-A479-4CCE-AE0B-99BCDDB0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1B47-F1AA-426F-9C05-01ED530C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0ED-BE43-4A1E-9DD6-7186EBB3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553C-4A63-44D0-82C5-B1E95273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97A2-217E-46E4-91DA-4C4ABA0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759E-F104-405F-9953-EC0CD8DB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89A0-82DC-4D65-8ADD-C9B3FADA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C7BF-9974-47F4-9ABE-07B2DE33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38A-0547-4508-89E7-066B5EB2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6DE-8AE9-4C18-8D7B-9DAC3406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49B-5BCA-4C26-8789-AF9F139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B71-66CC-4EBD-B1E5-989FB32D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646-B6A8-410C-9AD2-F35F197F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CCD-F3BC-4A86-A234-FDED6585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2E1-FEA4-4B50-841C-DAF47485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BC88-B513-4ADD-B3EF-7ABA4062DEB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63E3-B82D-4D1E-8C15-EECC5F38239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86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1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30280" y="2666880"/>
                <a:ext cx="425484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895480" y="3476520"/>
                <a:ext cx="3886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752480" y="5562720"/>
            <a:ext cx="5105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m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98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vapor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xv</cp:lastModifiedBy>
  <dcterms:modified xsi:type="dcterms:W3CDTF">2004-08-08T20:01:56Z</dcterms:modified>
  <cp:revision>34</cp:revision>
  <dc:subject/>
  <dc:title>Presentación de PowerPoint</dc:title>
</cp:coreProperties>
</file>