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E503-F6CB-4827-A3DB-1A40C10B8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51D0-E554-44E1-B016-5448C5980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44A9-4ABF-4174-9640-EB9851B79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666D-147F-43AA-9830-927E27F66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D46DB-A592-435F-A6C5-53424254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9F68C-8391-4CDB-9B2B-D1CC827E3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720F-FF96-45CD-A998-F34BCF6A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94109-527F-4028-B34A-EB5A98F6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29C0-E790-4712-BF81-D347255F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F8B99-880D-41FA-8ED9-BCF38855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267AF-A219-4255-A86B-4243FC1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8853-70B3-4F01-90A4-8ED7BA12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B1F8-E401-4BD1-B720-54E50E9E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FFE12-931A-4FBE-972E-2A11A65B9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8CE32-890B-45E1-96D7-0C3665C7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40946-67E2-4EEB-9970-9FCDF31DF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9EC0-EE77-43CB-A095-B7D74DCB2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4EF2-8914-46A7-A40C-065DF858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481-7372-4541-8D08-68DFEFCD0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19A6-100E-4354-87AA-36B74F102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352F-BB91-47C7-BD39-DD736F0CA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F37D-4907-4BC6-9E42-0E281135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D578-25AA-42B2-9D51-3D938ABB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B56F-2103-4A15-B0B7-6ACBD6AB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77BF3-74B5-494C-B24D-C32A4DEF3A9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12065-26DD-4EC1-A1B2-F3E71D6C8145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Humedad atmosférica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3124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opiedad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Maneras de expresar la humedad atmosféric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Instrumentos de medi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110000"/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Factores que determinan la variabilidad de la humeda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1143000"/>
            <a:ext cx="8534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antidad de vapor de agua  que contiene el aire; es la fuente de precipitaciones; influye en los procesos de evapotranspiración y derretimiento de niev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830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 la mezcla de aire seco y vapor de agua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057400"/>
            <a:ext cx="7848720" cy="312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s-ES_tradnl" sz="32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v =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(1-0,378e/P) P/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: presión de aire seco(mb)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:presión de vapor(mb)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s: ctte de gases para aire seco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T: temperatura en ºK    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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 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l aire húmedo es menos denso que el aire seco a igual temperatura y pre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ESPECÍFI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13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Masa de vapor de agua que existe por unidad de masa total de aire húmed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: Presión total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300320" y="2573280"/>
                <a:ext cx="6162480" cy="12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378</m:t>
                        </m:r>
                        <m:r>
                          <m:t xml:space="preserve">e</m:t>
                        </m:r>
                      </m:den>
                    </m:f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440" y="609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ABSOLUT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: Humedad absoluta del aire en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     (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del aire en mb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 : temperatura del aire en º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2496960" y="1579680"/>
                <a:ext cx="29322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HUMEDAD RELATIV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lación entre la humedad existente con respecto a la humedad máxima que puede tener una cantidad de volumen de aire a la misma temperatur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: presión de vapor actua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de satu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3124080" y="3548160"/>
                <a:ext cx="2514600" cy="122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cc66"/>
                </a:solidFill>
                <a:latin typeface="Times New Roman"/>
              </a:rPr>
              <a:t>PRESIÓN DE VAPO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 : Presión de vapor en milibares 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de saturación del aire a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    temperatura 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 total del aire en mb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 termómetro de bulbo sec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Temperatura registrada con un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ermómetro de bulbo húme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46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62120" y="1676520"/>
                <a:ext cx="716256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46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609480" y="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TEMPERATURA DE PUNTO DE  ROCÍ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Temperatura a la cual debe enfriarse una masa de aire húmedo, para que ésta se sature a la misma presión y contenido de agua inicial que tení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838080" y="4343400"/>
            <a:ext cx="4114800" cy="2545920"/>
            <a:chOff x="838080" y="4343400"/>
            <a:chExt cx="4114800" cy="2545920"/>
          </a:xfrm>
        </p:grpSpPr>
        <p:sp>
          <p:nvSpPr>
            <p:cNvPr id="186" name=""/>
            <p:cNvSpPr/>
            <p:nvPr/>
          </p:nvSpPr>
          <p:spPr>
            <a:xfrm>
              <a:off x="1447560" y="4495680"/>
              <a:ext cx="0" cy="19810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447560" y="6476760"/>
              <a:ext cx="28954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447560" y="4876560"/>
              <a:ext cx="2133720" cy="1638360"/>
            </a:xfrm>
            <a:custGeom>
              <a:avLst/>
              <a:gdLst/>
              <a:ahLst/>
              <a:rect l="l" t="t" r="r" b="b"/>
              <a:pathLst>
                <a:path w="1344" h="1032">
                  <a:moveTo>
                    <a:pt x="0" y="1008"/>
                  </a:moveTo>
                  <a:cubicBezTo>
                    <a:pt x="112" y="1020"/>
                    <a:pt x="224" y="1032"/>
                    <a:pt x="384" y="960"/>
                  </a:cubicBezTo>
                  <a:cubicBezTo>
                    <a:pt x="544" y="888"/>
                    <a:pt x="800" y="736"/>
                    <a:pt x="960" y="576"/>
                  </a:cubicBezTo>
                  <a:cubicBezTo>
                    <a:pt x="1120" y="416"/>
                    <a:pt x="1232" y="208"/>
                    <a:pt x="1344" y="0"/>
                  </a:cubicBezTo>
                </a:path>
              </a:pathLst>
            </a:custGeom>
            <a:noFill/>
            <a:ln w="3816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38480" y="6553080"/>
              <a:ext cx="9144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T, T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38080" y="4343400"/>
              <a:ext cx="533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ffff"/>
                  </a:solidFill>
                  <a:latin typeface="Times New Roman"/>
                </a:rPr>
                <a:t>e,e</a:t>
              </a:r>
              <a:r>
                <a:rPr b="0" lang="es-ES_tradnl" sz="1400" spc="-1" strike="noStrike" baseline="-25000">
                  <a:solidFill>
                    <a:srgbClr val="00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1447560" y="5486400"/>
              <a:ext cx="17524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4080" y="65530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990360" y="5410080"/>
              <a:ext cx="3808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2742840" y="6019560"/>
              <a:ext cx="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200040" y="5486400"/>
              <a:ext cx="0" cy="533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2742840" y="6019560"/>
              <a:ext cx="4572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1447560" y="6019560"/>
              <a:ext cx="129528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142640" y="5943600"/>
              <a:ext cx="228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514240" y="6553080"/>
              <a:ext cx="5335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s-ES_tradnl" sz="1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638320" y="4419720"/>
            <a:ext cx="1905480" cy="2469600"/>
            <a:chOff x="5638320" y="4419720"/>
            <a:chExt cx="1905480" cy="2469600"/>
          </a:xfrm>
        </p:grpSpPr>
        <p:sp>
          <p:nvSpPr>
            <p:cNvPr id="201" name=""/>
            <p:cNvSpPr/>
            <p:nvPr/>
          </p:nvSpPr>
          <p:spPr>
            <a:xfrm rot="5400000">
              <a:off x="5638320" y="5104800"/>
              <a:ext cx="761760" cy="762120"/>
            </a:xfrm>
            <a:prstGeom prst="rightArrowCallout">
              <a:avLst>
                <a:gd name="adj1" fmla="val 25014"/>
                <a:gd name="adj2" fmla="val 25012"/>
                <a:gd name="adj3" fmla="val 16667"/>
                <a:gd name="adj4" fmla="val 66667"/>
              </a:avLst>
            </a:prstGeom>
            <a:solidFill>
              <a:srgbClr val="00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5638680" y="4419720"/>
              <a:ext cx="1905120" cy="2469600"/>
              <a:chOff x="5638680" y="4419720"/>
              <a:chExt cx="1905120" cy="2469600"/>
            </a:xfrm>
          </p:grpSpPr>
          <p:sp>
            <p:nvSpPr>
              <p:cNvPr id="203" name=""/>
              <p:cNvSpPr/>
              <p:nvPr/>
            </p:nvSpPr>
            <p:spPr>
              <a:xfrm>
                <a:off x="6019920" y="5867280"/>
                <a:ext cx="1218960" cy="685440"/>
              </a:xfrm>
              <a:prstGeom prst="downArrowCallout">
                <a:avLst>
                  <a:gd name="adj1" fmla="val 44463"/>
                  <a:gd name="adj2" fmla="val 44459"/>
                  <a:gd name="adj3" fmla="val 16667"/>
                  <a:gd name="adj4" fmla="val 66667"/>
                </a:avLst>
              </a:prstGeom>
              <a:solidFill>
                <a:srgbClr val="ffff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4" name=""/>
              <p:cNvGrpSpPr/>
              <p:nvPr/>
            </p:nvGrpSpPr>
            <p:grpSpPr>
              <a:xfrm>
                <a:off x="6553080" y="4419720"/>
                <a:ext cx="990720" cy="533160"/>
                <a:chOff x="6553080" y="4419720"/>
                <a:chExt cx="990720" cy="533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6553080" y="4419720"/>
                  <a:ext cx="990720" cy="533160"/>
                </a:xfrm>
                <a:prstGeom prst="flowChartAlternateProcess">
                  <a:avLst/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883200" y="4495680"/>
                  <a:ext cx="528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6934320" y="4952880"/>
                <a:ext cx="304560" cy="30456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6781680" y="5257800"/>
                <a:ext cx="685800" cy="609120"/>
                <a:chOff x="6781680" y="5257800"/>
                <a:chExt cx="685800" cy="60912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6781680" y="5257800"/>
                  <a:ext cx="685800" cy="609120"/>
                </a:xfrm>
                <a:prstGeom prst="downArrowCallout">
                  <a:avLst>
                    <a:gd name="adj1" fmla="val 28150"/>
                    <a:gd name="adj2" fmla="val 28147"/>
                    <a:gd name="adj3" fmla="val 16667"/>
                    <a:gd name="adj4" fmla="val 66667"/>
                  </a:avLst>
                </a:prstGeom>
                <a:solidFill>
                  <a:srgbClr val="00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6934320" y="5257800"/>
                  <a:ext cx="380880" cy="336240"/>
                </a:xfrm>
                <a:prstGeom prst="rect">
                  <a:avLst/>
                </a:pr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_tradnl" sz="1400" spc="-1" strike="noStrike">
                      <a:solidFill>
                        <a:srgbClr val="ffffff"/>
                      </a:solidFill>
                      <a:latin typeface="Times New Roman"/>
                    </a:rPr>
                    <a:t>e</a:t>
                  </a:r>
                  <a:r>
                    <a:rPr b="1" lang="es-ES_tradnl" sz="1400" spc="-1" strike="noStrike" baseline="-25000">
                      <a:solidFill>
                        <a:srgbClr val="ffffff"/>
                      </a:solidFill>
                      <a:latin typeface="Times New Roman"/>
                    </a:rPr>
                    <a:t>s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5638680" y="5105160"/>
                <a:ext cx="60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ffffff"/>
                    </a:solidFill>
                    <a:latin typeface="Times New Roman"/>
                  </a:rPr>
                  <a:t>HR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943600" y="6553080"/>
                <a:ext cx="1295280" cy="336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           </a:t>
                </a:r>
                <a:r>
                  <a:rPr b="1" lang="es-ES_tradnl" sz="1400" spc="-1" strike="noStrike">
                    <a:solidFill>
                      <a:srgbClr val="0000ff"/>
                    </a:solidFill>
                    <a:latin typeface="Times New Roman"/>
                  </a:rPr>
                  <a:t>T</a:t>
                </a:r>
                <a:r>
                  <a:rPr b="1" lang="es-ES_tradnl" sz="1400" spc="-1" strike="noStrike" baseline="-25000">
                    <a:solidFill>
                      <a:srgbClr val="0000ff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3" name=""/>
          <p:cNvSpPr/>
          <p:nvPr/>
        </p:nvSpPr>
        <p:spPr>
          <a:xfrm>
            <a:off x="3200400" y="6019920"/>
            <a:ext cx="0" cy="457200"/>
          </a:xfrm>
          <a:prstGeom prst="line">
            <a:avLst/>
          </a:prstGeom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800" y="59436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4572000"/>
            <a:ext cx="228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2590920" y="4062240"/>
                <a:ext cx="137160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ALTURA DE AGUA CONDENSABLE 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cc66"/>
                </a:solidFill>
                <a:latin typeface="Times New Roman"/>
              </a:rPr>
              <a:t>O PRECIPITABLE 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ámina de agua ( uniforme) que se forma 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superficie producto de la condensación del vapor de agua de la columna de aire húmedo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685800" y="761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álculo de masa (dm) de vapor de agua sobre una superficie de 1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dado un incremento dz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2330280" y="2666880"/>
                <a:ext cx="4254840" cy="323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  <m:e>
                        <m:r>
                          <m:t xml:space="preserve">⇒</m:t>
                        </m:r>
                        <m:r>
                          <m:rPr>
                            <m:lit/>
                            <m:nor/>
                          </m:rPr>
                          <m:t xml:space="preserve">dm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17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Integrando desde la superficie terrestre hasta una altura “h”: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1924200" y="2313000"/>
                <a:ext cx="4533840" cy="19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⋅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f>
                          <m:num>
                            <m:r>
                              <m:t xml:space="preserve">e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6629400" y="29718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[gr/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62120" y="4724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dos e y T a distintas alturas se integra por ban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1143000" y="5361120"/>
                <a:ext cx="2514600" cy="96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7</m:t>
                    </m:r>
                    <m:r>
                      <m:t xml:space="preserve">Σ</m:t>
                    </m:r>
                    <m:sSub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e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Δz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600200" y="1143000"/>
            <a:ext cx="914400" cy="1219320"/>
          </a:xfrm>
          <a:prstGeom prst="rect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066680"/>
            <a:ext cx="914400" cy="15264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00200" y="2286000"/>
            <a:ext cx="9144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1523880" y="24379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274320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" y="2362320"/>
            <a:ext cx="990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9907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743200" y="2438280"/>
            <a:ext cx="1066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743200" y="1143000"/>
            <a:ext cx="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581280" y="243828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2286000"/>
            <a:ext cx="99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Symbol"/>
                <a:ea typeface="Symbol"/>
              </a:rPr>
              <a:t>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es-ES_tradnl" sz="1800" spc="-1" strike="noStrike">
                <a:solidFill>
                  <a:srgbClr val="ffffff"/>
                </a:solidFill>
                <a:latin typeface="Times New Roman"/>
              </a:rPr>
              <a:t>,P,q</a:t>
            </a:r>
            <a:r>
              <a:rPr b="0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9880" y="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as Form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2971800" y="1523520"/>
            <a:ext cx="533520" cy="838440"/>
          </a:xfrm>
          <a:prstGeom prst="line">
            <a:avLst/>
          </a:prstGeom>
          <a:ln w="93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819520" y="99072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9144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1828800"/>
            <a:ext cx="91440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600200" y="1752480"/>
            <a:ext cx="914400" cy="1526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4572000" y="990720"/>
                <a:ext cx="40006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Adz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q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ρ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AΔ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3537000" y="2971800"/>
                <a:ext cx="40780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z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p>
                          <m:e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g</m:t>
                                </m:r>
                              </m:den>
                            </m:f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z</m:t>
                                </m:r>
                              </m:den>
                            </m:f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1744560" y="4432320"/>
                <a:ext cx="4313520" cy="102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h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z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</m:den>
                    </m:f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r>
                          <m:t xml:space="preserve">p</m:t>
                        </m:r>
                      </m:sup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2895480" y="6019920"/>
                <a:ext cx="27432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≈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q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e>
                    </m:nary>
                    <m:r>
                      <m:t xml:space="preserve">Δ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68580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m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72200" y="57913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50292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gr/k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5029200" y="54864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562360" y="617220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opiedade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Presión de Vap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Calor de Condensación y de evaporació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SzPct val="8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nsidad del aire seco y aire húmed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357120" y="304920"/>
                <a:ext cx="1895400" cy="109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"/>
              <p:cNvSpPr txBox="1"/>
              <p:nvPr/>
            </p:nvSpPr>
            <p:spPr>
              <a:xfrm>
                <a:off x="3581280" y="533520"/>
                <a:ext cx="300996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m>
                      <m:mr>
                        <m:e/>
                        <m:e/>
                        <m:e/>
                      </m:mr>
                    </m:m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z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396720" y="1981080"/>
                <a:ext cx="655164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dz</m:t>
                    </m:r>
                    <m:r>
                      <m:t xml:space="preserve">=</m:t>
                    </m:r>
                    <m:r>
                      <m:t xml:space="preserve">(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T</m:t>
                        </m:r>
                      </m:den>
                    </m:f>
                    <m:r>
                      <m:t xml:space="preserve">)</m:t>
                    </m:r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α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g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α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838080" y="4038480"/>
                <a:ext cx="297180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αR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3657600" y="5943600"/>
                <a:ext cx="39625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5257800" y="3657600"/>
                <a:ext cx="190512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08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Presión de Vapo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esión parcial ejercida por las moléculas de vapor de agu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 =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–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h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húme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32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Presión aire se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57200" y="990720"/>
            <a:ext cx="8229600" cy="26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resión de vapor saturado(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):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Un determinado volumen de aire a temperatura T puede absorber una máxima cantidad de vapor de agua (pto. de saturación) 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2895480" y="3476520"/>
                <a:ext cx="3886200" cy="14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7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7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37</m:t>
                            </m:r>
                            <m:r>
                              <m:t xml:space="preserve">,</m:t>
                            </m:r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T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6" name=""/>
          <p:cNvSpPr/>
          <p:nvPr/>
        </p:nvSpPr>
        <p:spPr>
          <a:xfrm>
            <a:off x="1752480" y="5562720"/>
            <a:ext cx="5105520" cy="12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° en °C                    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s-ES_tradnl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en mb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762120" y="457200"/>
            <a:ext cx="7543440" cy="6095520"/>
            <a:chOff x="762120" y="457200"/>
            <a:chExt cx="7543440" cy="6095520"/>
          </a:xfrm>
        </p:grpSpPr>
        <p:grpSp>
          <p:nvGrpSpPr>
            <p:cNvPr id="98" name=""/>
            <p:cNvGrpSpPr/>
            <p:nvPr/>
          </p:nvGrpSpPr>
          <p:grpSpPr>
            <a:xfrm>
              <a:off x="768600" y="463320"/>
              <a:ext cx="7529400" cy="6082200"/>
              <a:chOff x="768600" y="463320"/>
              <a:chExt cx="7529400" cy="6082200"/>
            </a:xfrm>
          </p:grpSpPr>
          <p:grpSp>
            <p:nvGrpSpPr>
              <p:cNvPr id="99" name=""/>
              <p:cNvGrpSpPr/>
              <p:nvPr/>
            </p:nvGrpSpPr>
            <p:grpSpPr>
              <a:xfrm>
                <a:off x="768600" y="463320"/>
                <a:ext cx="7529400" cy="1116000"/>
                <a:chOff x="768600" y="463320"/>
                <a:chExt cx="7529400" cy="11160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Humedad de saturación del vapor de agua en el aire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68600" y="463320"/>
                  <a:ext cx="7529400" cy="1116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768600" y="1579680"/>
                <a:ext cx="3612600" cy="620280"/>
                <a:chOff x="768600" y="1579680"/>
                <a:chExt cx="3612600" cy="620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Temperatura ºC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768600" y="157968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4381560" y="1579680"/>
                <a:ext cx="3916440" cy="620280"/>
                <a:chOff x="4381560" y="1579680"/>
                <a:chExt cx="3916440" cy="620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Saturación g · m</a:t>
                  </a:r>
                  <a:r>
                    <a:rPr b="0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-3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4381560" y="157968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768600" y="2200320"/>
                <a:ext cx="3612600" cy="620280"/>
                <a:chOff x="768600" y="2200320"/>
                <a:chExt cx="3612600" cy="620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 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768600" y="2200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381560" y="2200320"/>
                <a:ext cx="3916440" cy="620280"/>
                <a:chOff x="4381560" y="2200320"/>
                <a:chExt cx="3916440" cy="620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0.89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381560" y="2200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768600" y="2821320"/>
                <a:ext cx="3612600" cy="620280"/>
                <a:chOff x="768600" y="2821320"/>
                <a:chExt cx="3612600" cy="620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-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68600" y="282132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4381560" y="2821320"/>
                <a:ext cx="3916440" cy="620280"/>
                <a:chOff x="4381560" y="2821320"/>
                <a:chExt cx="3916440" cy="620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2.16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4381560" y="282132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768600" y="3441960"/>
                <a:ext cx="3612600" cy="620280"/>
                <a:chOff x="768600" y="3441960"/>
                <a:chExt cx="3612600" cy="620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768600" y="344196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381560" y="3441960"/>
                <a:ext cx="3916440" cy="620280"/>
                <a:chOff x="4381560" y="3441960"/>
                <a:chExt cx="3916440" cy="620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4.85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381560" y="344196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768600" y="4062600"/>
                <a:ext cx="3612600" cy="620280"/>
                <a:chOff x="768600" y="4062600"/>
                <a:chExt cx="3612600" cy="620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1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68600" y="4062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4381560" y="4062600"/>
                <a:ext cx="3916440" cy="620280"/>
                <a:chOff x="4381560" y="4062600"/>
                <a:chExt cx="3916440" cy="620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9.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4381560" y="4062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768600" y="4683600"/>
                <a:ext cx="3612600" cy="620280"/>
                <a:chOff x="768600" y="4683600"/>
                <a:chExt cx="3612600" cy="620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2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68600" y="468360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381560" y="4683600"/>
                <a:ext cx="3916440" cy="620280"/>
                <a:chOff x="4381560" y="4683600"/>
                <a:chExt cx="3916440" cy="620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17.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381560" y="468360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768600" y="5304240"/>
                <a:ext cx="3612600" cy="620280"/>
                <a:chOff x="768600" y="5304240"/>
                <a:chExt cx="3612600" cy="620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3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68600" y="5304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381560" y="5304240"/>
                <a:ext cx="3916440" cy="620280"/>
                <a:chOff x="4381560" y="5304240"/>
                <a:chExt cx="3916440" cy="620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30.3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381560" y="5304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768600" y="5925240"/>
                <a:ext cx="3612600" cy="620280"/>
                <a:chOff x="768600" y="5925240"/>
                <a:chExt cx="3612600" cy="620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L" sz="2400" spc="-1" strike="noStrike">
                      <a:solidFill>
                        <a:srgbClr val="ffffff"/>
                      </a:solidFill>
                      <a:latin typeface="Comic Sans MS"/>
                    </a:rPr>
                    <a:t>40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68600" y="5925240"/>
                  <a:ext cx="361260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381560" y="5925240"/>
                <a:ext cx="3916440" cy="620280"/>
                <a:chOff x="4381560" y="5925240"/>
                <a:chExt cx="3916440" cy="620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CL" sz="2400" spc="-1" strike="noStrike" baseline="30000">
                      <a:solidFill>
                        <a:srgbClr val="ffffff"/>
                      </a:solidFill>
                      <a:latin typeface="Comic Sans MS"/>
                    </a:rPr>
                    <a:t>51.17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381560" y="5925240"/>
                  <a:ext cx="3916440" cy="620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0" name=""/>
            <p:cNvSpPr/>
            <p:nvPr/>
          </p:nvSpPr>
          <p:spPr>
            <a:xfrm>
              <a:off x="762120" y="457200"/>
              <a:ext cx="7543440" cy="6095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Calor de Condensación y de Vaporizació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Líquido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 Vapo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vapor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gr (de agua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vapor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Vapor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   Líquid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00 cal/ gr ( de agua condensad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133720" y="281952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280" y="3657600"/>
            <a:ext cx="0" cy="76212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172200" y="2743200"/>
            <a:ext cx="838080" cy="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553080" y="3580920"/>
            <a:ext cx="0" cy="838440"/>
          </a:xfrm>
          <a:prstGeom prst="line">
            <a:avLst/>
          </a:prstGeom>
          <a:ln w="7632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48320" y="1981080"/>
            <a:ext cx="3886200" cy="4114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624852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-L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=597-0,57T    para T en º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66"/>
                </a:solidFill>
                <a:latin typeface="Arial"/>
              </a:rPr>
              <a:t>Densidad del Aire Seco y del aire Húmed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nsidad aire sec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onde: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Pre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: Constante de los gases para  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       aire seco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 : Temperatura absoluta  º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3141720" y="3105000"/>
                <a:ext cx="22525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533520" y="304920"/>
            <a:ext cx="73152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ara el vapor de agu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1676520" y="1295280"/>
                <a:ext cx="41148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57800" y="2819520"/>
                <a:ext cx="3857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7" name=""/>
          <p:cNvSpPr/>
          <p:nvPr/>
        </p:nvSpPr>
        <p:spPr>
          <a:xfrm>
            <a:off x="685800" y="4572000"/>
            <a:ext cx="7010280" cy="17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. Universal de los gases 1,9857cal/(molºK)</a:t>
            </a:r>
            <a:br>
              <a:rPr sz="1800"/>
            </a:b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cte de los gases para el vap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: peso molecular del vapor de agu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imes New Roman"/>
              </a:rPr>
              <a:t>M: peso molecular del aire se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: cte. gas aire seco (2,876*10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 cm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/(s</a:t>
            </a:r>
            <a:r>
              <a:rPr b="1" lang="es-ES" sz="1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ºK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324480" y="5257800"/>
            <a:ext cx="1600200" cy="914400"/>
          </a:xfrm>
          <a:prstGeom prst="rightArrow">
            <a:avLst>
              <a:gd name="adj1" fmla="val 50000"/>
              <a:gd name="adj2" fmla="val 4375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2276640" y="3103560"/>
                <a:ext cx="37414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22</m:t>
                    </m:r>
                    <m:f>
                      <m:num>
                        <m:r>
                          <m:t xml:space="preserve">e</m:t>
                        </m:r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1415880" y="457200"/>
                <a:ext cx="5975640" cy="15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M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61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1" name=""/>
          <p:cNvSpPr/>
          <p:nvPr/>
        </p:nvSpPr>
        <p:spPr>
          <a:xfrm>
            <a:off x="1219320" y="525780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nsidad del vapor o humedad absoluta de la atmósfe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362320" y="4343040"/>
            <a:ext cx="15228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0T22:06:38Z</dcterms:created>
  <dc:creator>martinez-pizarro</dc:creator>
  <dc:description/>
  <dc:language>en-US</dc:language>
  <cp:lastModifiedBy>xv</cp:lastModifiedBy>
  <dcterms:modified xsi:type="dcterms:W3CDTF">2004-08-08T20:01:56Z</dcterms:modified>
  <cp:revision>34</cp:revision>
  <dc:subject/>
  <dc:title>Presentación de PowerPoint</dc:title>
</cp:coreProperties>
</file>