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LIC.WAV" ContentType="audio/x-wav"/>
  <Override PartName="/ppt/media/LATIGO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C58-2CCD-4EEC-B272-30B1D868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E4F-9040-4793-A0EA-B5356ED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848-679D-403A-AE9F-32162770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184-DE84-4766-B5F3-31F964CC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07D6-9BF0-4E68-872A-0748F495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DC91-A4BF-42EA-B6BD-7058443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BEFA-A67B-4B2B-A49B-A868E83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E0D3-350B-4A75-9472-06828713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9EC-BCB9-42DC-BC55-9556C1F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FAE0-373D-4BCF-8916-5927C235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D82-BABF-436A-9319-A799724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5A8-A2C6-40E1-A967-F9CF3B08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4F0-1892-440E-A1EF-B4BB0EE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ED5D-C8DC-46EE-95E7-A1B546F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4C4F-FDDB-4374-B468-549EBA32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7E08-36C3-466F-982B-7C422051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3EB-D237-4DA1-A860-BA744DC2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A9C-9204-4F22-8E24-E22FC4E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EEA-4F8E-4174-A956-51188BEA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D58-602C-48B8-9241-BA760840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BE4-F9AC-4C57-A3AD-8438CFC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79E-0F6C-4695-A29B-380D98A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2AE-B716-48B1-B563-2183CC3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92D-6F49-485D-9A58-6DFCB1C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0AA2-D421-4EC7-9877-0565835FE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BBE-7AA2-4869-998C-EE5F26A51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INVERSIÓN DE TEMPERATURA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La temperatura del aire disminuye normalmente al aumentar la altura (gradiente medioambiental), pero bajo ciertas condiciones meteorológicas puede manifestar lo contrario, es decir, aumentar la temperatura con la altura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6720" y="411480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191120"/>
            <a:ext cx="796680" cy="333360"/>
          </a:xfrm>
          <a:prstGeom prst="rightArrow">
            <a:avLst>
              <a:gd name="adj1" fmla="val 50000"/>
              <a:gd name="adj2" fmla="val 119525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4160" y="403848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5-03-28T15:21:54Z</dcterms:modified>
  <cp:revision>23</cp:revision>
  <dc:subject/>
  <dc:title>Características Climáticas Generales de Chile</dc:title>
</cp:coreProperties>
</file>