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LIC.WAV" ContentType="audio/x-wav"/>
  <Override PartName="/ppt/media/LATIGO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8AE-A2A6-4DF0-AFD6-7FFD3C4D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F4B-4ED3-4D61-B046-25D95DD9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5C9-AA26-477E-BCE6-A10A3778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6E2-E206-4336-85B2-BB681A58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502E-17B7-4A7E-BD36-76740223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3C6D-CCBD-4A43-AABE-9982A3C8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8EBB-B98F-4CA1-9B31-30A3FBFF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3908-13DD-42D2-B013-F9D04ADA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A4C0-D34E-4470-AB9E-9E2B078E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8AEC-ABEA-455A-8896-3386DA02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CD2-9566-497E-B2E6-B2316FFD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15F-7AE0-4840-9278-2C2F726E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7A8A-51A3-492E-B60E-A7478D0E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15BE-B86D-48FF-AFAE-ECABB5E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93D4-4A41-4A37-BD76-F0D4A20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DAF5-9B96-44DF-98C8-CDC78411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FAD-9436-454A-B797-03A8CEAD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08D-DA80-40FD-A2E5-D166379A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2E4-0F25-4EAB-A5B2-FEC10673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278-B0E4-4E6A-9C97-360205AE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B64-1F25-471C-9EFC-C6267BA6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F79-BCA9-45D3-B385-07E071D6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ADA-07BD-4E9D-95AE-538910B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633-A382-4332-BFF5-CB4DFC8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B1C7-8AB9-454C-83CF-4AE27B506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30D8-2E4A-4ED3-9ACB-3763A3044B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INVERSIÓN DE TEMPERATURA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La temperatura del aire disminuye normalmente al aumentar la altura (gradiente medioambiental), pero bajo ciertas condiciones meteorológicas puede manifestar lo contrario, es decir, aumentar la temperatura con la altura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56720" y="411480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191120"/>
            <a:ext cx="796680" cy="333360"/>
          </a:xfrm>
          <a:prstGeom prst="rightArrow">
            <a:avLst>
              <a:gd name="adj1" fmla="val 50000"/>
              <a:gd name="adj2" fmla="val 119525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54160" y="403848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5-03-28T15:21:54Z</dcterms:modified>
  <cp:revision>23</cp:revision>
  <dc:subject/>
  <dc:title>Características Climáticas Generales de Chile</dc:title>
</cp:coreProperties>
</file>