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LIC.WAV" ContentType="audio/x-wav"/>
  <Override PartName="/ppt/media/LATIGO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C98-8AB2-4E57-922C-5398D0C3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B83-C2A0-4AB0-AEEF-30BCC70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4E9-04A0-4E34-8D64-8042D326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EA6-59D3-4AE3-93C7-350D8F6C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6033-6DE1-4B0B-928D-471ACFF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581E-48C7-4785-92C8-DA735C5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C4C-60DA-4AAE-B452-3E9FD2B9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4140-9392-4F43-8533-B585E1D0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855A-C704-433D-B33A-A6D1C36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90C2-F2D9-4081-A0EA-27FCFE9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F9CE-D056-49B6-A729-FBA6343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85B-7BBB-4D68-9A7F-7C712CA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4B3-3A3B-4F17-BFDE-A7438F3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3632-96A9-4FCB-B28C-4936104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0322-9D0A-4FFA-B83B-7143653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0DF1-E315-48B6-ACBC-4834160C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5BEA-ED0D-480F-A243-05D583EE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E6D-3F56-4EB0-BD50-B6888CD8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61E-1409-4168-9D52-614234F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C14-CFF2-455A-ACD7-7C6854BC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BDA-C30D-412B-8EFC-2CFBD96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CBA-B401-4FD3-938D-D80B34A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A20-9D50-4C12-80A6-66FB12D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5F5-AA59-4183-BA8D-D03643C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D2F6-2C68-4689-B942-2D5071D95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CEB-BE86-48B0-B42B-7744580D2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INVERSIÓN DE TEMPERATURA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La temperatura del aire disminuye normalmente al aumentar la altura (gradiente medioambiental), pero bajo ciertas condiciones meteorológicas puede manifestar lo contrario, es decir, aumentar la temperatura con la altura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411480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91120"/>
            <a:ext cx="796680" cy="333360"/>
          </a:xfrm>
          <a:prstGeom prst="rightArrow">
            <a:avLst>
              <a:gd name="adj1" fmla="val 50000"/>
              <a:gd name="adj2" fmla="val 119525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4160" y="403848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5-03-28T15:21:54Z</dcterms:modified>
  <cp:revision>23</cp:revision>
  <dc:subject/>
  <dc:title>Características Climáticas Generales de Chile</dc:title>
</cp:coreProperties>
</file>