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LIC.WAV" ContentType="audio/x-wav"/>
  <Override PartName="/ppt/media/LATIGO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A48-C845-436A-ACDE-F8D1BA54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212-6868-48D0-8D0D-6891CA05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A44-A1DE-4E36-9E28-9AEB7A07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245-8805-41B4-9A7D-D6A7FEC1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CD12-FB31-4F26-91A0-BEB7BB51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98DE-AC4E-424C-81B0-32F1B84E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E8CE-D426-49DA-9FB0-E0C2390C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C31F-0101-49EF-B2DF-CC816FAF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1467-2E70-4151-AB90-06EC1B95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E43F-026C-4BEA-827A-1FBD8904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28FC-AA8F-48B0-90DB-7608B9E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3A1-57E8-4B10-8996-2CC0C295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6FA4-E531-4FD5-A350-F8E83154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02B-812B-4308-AC33-B62CAED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644-021B-4DDD-8909-182EA63E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C48-B9F4-4E30-8DBE-0E989F4B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4624-3BCC-4706-B2BA-61D56618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096-E479-4301-A0FA-2CA25EC4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8B9-B1C4-4479-B564-F11498F4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25C-999F-4395-BC5E-020DDEB8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063-BFAF-4A3F-9AC6-D32912B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B22-AEED-4815-A3D6-A88A64B1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BA1-623F-4BFD-B567-ACD441C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A44-DCF0-4080-BFCA-87EF844C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6CA-814B-450D-BB55-C05C5ED40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B946-DC66-4ECC-B1D9-25925C786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INVERSIÓN DE TEMPERATURA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La temperatura del aire disminuye normalmente al aumentar la altura (gradiente medioambiental), pero bajo ciertas condiciones meteorológicas puede manifestar lo contrario, es decir, aumentar la temperatura con la altura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56720" y="411480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191120"/>
            <a:ext cx="796680" cy="333360"/>
          </a:xfrm>
          <a:prstGeom prst="rightArrow">
            <a:avLst>
              <a:gd name="adj1" fmla="val 50000"/>
              <a:gd name="adj2" fmla="val 119525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4160" y="403848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5-03-28T15:21:54Z</dcterms:modified>
  <cp:revision>23</cp:revision>
  <dc:subject/>
  <dc:title>Características Climáticas Generales de Chile</dc:title>
</cp:coreProperties>
</file>