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LIC.WAV" ContentType="audio/x-wav"/>
  <Override PartName="/ppt/media/LATIGO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590-892E-46B3-9096-76CEA42D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C53-C2A7-4DEF-997E-1985D285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4F6-8FDE-4FEB-835A-23DC7B02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6A1-5F77-45FC-9E58-575BA73B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8F5-98F0-4EEF-846F-40BE338B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92A-BCD3-41CF-B64C-D28B84A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99A8-D6BA-43F6-A070-0DD29F9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BF2-F046-40BF-A13D-89281C1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436F-5B1C-4510-B05C-3D30FE39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B95-8E22-4DDE-9569-2ADD9633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70F-EE4E-4198-A411-0FCFE383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D2E-351D-41DE-91D0-10B428B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441A-AACF-4B16-9C4E-F695D2B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7ADE-3751-449A-924C-787D838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05E-BF12-417C-89BA-9D0D4F0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F2CD-A5D5-4A46-8A4E-82B96944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613E-1B9F-4F81-A1D0-3231D6F4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183-D8D8-4496-B0CB-F5BA4B8A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5E9-0230-42D7-8A03-527B715A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2BA-BD35-46C5-AE37-C4C309A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C80-70B3-4F28-ACFA-924ACF6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B82-D1AD-4C81-9A35-4E50328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695-564C-46F5-9934-3A3BC63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502-C7F4-4980-B480-C47F51D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93A-95BF-4AD9-811A-C14B88813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527F-7A51-480A-8EAE-A447FE0B7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INVERSIÓN DE TEMPERATURA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La temperatura del aire disminuye normalmente al aumentar la altura (gradiente medioambiental), pero bajo ciertas condiciones meteorológicas puede manifestar lo contrario, es decir, aumentar la temperatura con la altura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6720" y="411480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191120"/>
            <a:ext cx="796680" cy="333360"/>
          </a:xfrm>
          <a:prstGeom prst="rightArrow">
            <a:avLst>
              <a:gd name="adj1" fmla="val 50000"/>
              <a:gd name="adj2" fmla="val 119525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54160" y="403848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5-03-28T15:21:54Z</dcterms:modified>
  <cp:revision>23</cp:revision>
  <dc:subject/>
  <dc:title>Características Climáticas Generales de Chile</dc:title>
</cp:coreProperties>
</file>